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88D6-4736-48B9-92A9-F03EC945047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7E6D-5AA0-4BA4-B50A-97695A6A51F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3ED2-F5F9-4B18-B217-BA19B9677BD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339B-45D2-4868-B9AA-44A3C367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F86B-A963-418E-A69B-DEDD0FD4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5B12-CB3D-48E6-9BFC-AEF26DE5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A574-E348-4C7B-8B65-AA367D21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9E1CC-951F-4176-8398-EE7692ED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CA2DC-05A5-4F1A-99C3-B67A9FAE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232EE-CBDA-4528-A564-081F66E8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8B1ED-8D19-4A43-90C0-D827ECEE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0F7D2-1605-4B53-8B6F-7B27F5C8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0366E-A3EB-42D1-B34D-8EC76272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5E9EE-7CB9-4C31-A0D2-49AFD6B0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E2D7-CF4A-45C3-924E-4F48FCCD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59064-F87D-4A6A-9EB6-F72E1CF0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A72FA-2CC5-47EC-9DDB-E9342C78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45685-99F2-4287-9988-80B89250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EF75B-52B2-4BE2-986A-13C5A26E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9C018-718C-4118-9CFC-C1A54DFC6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CB42-C986-4A8B-BF04-12D78888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7BA3-406A-4467-8809-31958686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4707-ED06-486F-A99A-1CF466E4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2DB0-7EF9-4388-8E30-2B6A405E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FEB4-55F5-4297-9EE2-1F2FF4DF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9D74-5A65-4659-97B7-8FCF0296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4E5D-FDB4-4663-9E18-22338B20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0549-DC30-4A4A-9BA7-DEC0040B1A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6154-5605-474A-9E51-1A106C59933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униципальное бюджетное общеобразовательное учреждение «Средняя общеобразовательная школа №13 с углубленным изучением отдельных предметов» города Губкина Белгородской обла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WordArt 11"/>
          <p:cNvSpPr txBox="1"/>
          <p:nvPr/>
        </p:nvSpPr>
        <p:spPr>
          <a:xfrm>
            <a:off x="285840" y="785880"/>
            <a:ext cx="5256000" cy="44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07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250920" y="6237360"/>
            <a:ext cx="547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1643040" y="3786120"/>
            <a:ext cx="5429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Исследовательская работ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6156360" y="5300640"/>
            <a:ext cx="21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8028000" y="6381720"/>
            <a:ext cx="865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Прямоугольник 10" descr=""/>
          <p:cNvPicPr/>
          <p:nvPr/>
        </p:nvPicPr>
        <p:blipFill>
          <a:blip r:embed="rId3"/>
          <a:stretch/>
        </p:blipFill>
        <p:spPr>
          <a:xfrm>
            <a:off x="669960" y="1542960"/>
            <a:ext cx="7767720" cy="193212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11" descr=""/>
          <p:cNvPicPr/>
          <p:nvPr/>
        </p:nvPicPr>
        <p:blipFill>
          <a:blip r:embed="rId4"/>
          <a:stretch/>
        </p:blipFill>
        <p:spPr>
          <a:xfrm>
            <a:off x="4352760" y="4602240"/>
            <a:ext cx="4712040" cy="207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8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2" descr="Фото0100.jpg"/>
          <p:cNvPicPr/>
          <p:nvPr/>
        </p:nvPicPr>
        <p:blipFill>
          <a:blip r:embed="rId1"/>
          <a:stretch/>
        </p:blipFill>
        <p:spPr>
          <a:xfrm>
            <a:off x="285840" y="1571760"/>
            <a:ext cx="3448080" cy="45972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2786040" y="372960"/>
            <a:ext cx="414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Tahoma"/>
              </a:rPr>
              <a:t>Эксперимен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Рисунок 4" descr="Фото0105.jpg"/>
          <p:cNvPicPr/>
          <p:nvPr/>
        </p:nvPicPr>
        <p:blipFill>
          <a:blip r:embed="rId2"/>
          <a:stretch/>
        </p:blipFill>
        <p:spPr>
          <a:xfrm>
            <a:off x="4143240" y="2071800"/>
            <a:ext cx="4740480" cy="3555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394560" y="142920"/>
            <a:ext cx="836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Результаты анкетиров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357120" y="1428840"/>
            <a:ext cx="5000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анкетировании приняли участие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6 человек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училось следующе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рковь любят 20 ученик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ют о целебных свойствах - 18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5 ребят употребляют морковь в сыром виде, без каких-либо добаво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Рисунок 3" descr="IMG_1127.JPG"/>
          <p:cNvPicPr/>
          <p:nvPr/>
        </p:nvPicPr>
        <p:blipFill>
          <a:blip r:embed="rId1"/>
          <a:stretch/>
        </p:blipFill>
        <p:spPr>
          <a:xfrm>
            <a:off x="5214960" y="100008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" descr="IMG_1120.JPG"/>
          <p:cNvPicPr/>
          <p:nvPr/>
        </p:nvPicPr>
        <p:blipFill>
          <a:blip r:embed="rId2"/>
          <a:stretch/>
        </p:blipFill>
        <p:spPr>
          <a:xfrm>
            <a:off x="5214960" y="3929040"/>
            <a:ext cx="371484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822960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равнительные результат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9" name="Содержимое 7"/>
          <p:cNvGraphicFramePr/>
          <p:nvPr/>
        </p:nvGraphicFramePr>
        <p:xfrm>
          <a:off x="571680" y="1071720"/>
          <a:ext cx="8001000" cy="53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Содержимое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071720"/>
                    <a:ext cx="8001000" cy="53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Рисунок 4" descr="IMG_1114.JPG"/>
          <p:cNvPicPr/>
          <p:nvPr/>
        </p:nvPicPr>
        <p:blipFill>
          <a:blip r:embed="rId3"/>
          <a:stretch/>
        </p:blipFill>
        <p:spPr>
          <a:xfrm>
            <a:off x="285840" y="4929120"/>
            <a:ext cx="2381040" cy="178596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5" descr="IMG_1115.JPG"/>
          <p:cNvPicPr/>
          <p:nvPr/>
        </p:nvPicPr>
        <p:blipFill>
          <a:blip r:embed="rId4"/>
          <a:stretch/>
        </p:blipFill>
        <p:spPr>
          <a:xfrm>
            <a:off x="6429240" y="4857840"/>
            <a:ext cx="2405160" cy="1803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отовим блюда и украшения из морков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Содержимое 6" descr="Фото0085.jpg"/>
          <p:cNvPicPr/>
          <p:nvPr/>
        </p:nvPicPr>
        <p:blipFill>
          <a:blip r:embed="rId1"/>
          <a:stretch/>
        </p:blipFill>
        <p:spPr>
          <a:xfrm>
            <a:off x="3286080" y="150012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Содержимое 7" descr="Фото0089.jpg"/>
          <p:cNvPicPr/>
          <p:nvPr/>
        </p:nvPicPr>
        <p:blipFill>
          <a:blip r:embed="rId2"/>
          <a:stretch/>
        </p:blipFill>
        <p:spPr>
          <a:xfrm>
            <a:off x="5643720" y="1071720"/>
            <a:ext cx="3335040" cy="25002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6" descr="tsvety-iz-morkovi12-270x244.jpg"/>
          <p:cNvPicPr/>
          <p:nvPr/>
        </p:nvPicPr>
        <p:blipFill>
          <a:blip r:embed="rId3"/>
          <a:stretch/>
        </p:blipFill>
        <p:spPr>
          <a:xfrm>
            <a:off x="5929200" y="3857760"/>
            <a:ext cx="3000600" cy="27111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7" descr="i.jpg"/>
          <p:cNvPicPr/>
          <p:nvPr/>
        </p:nvPicPr>
        <p:blipFill>
          <a:blip r:embed="rId4"/>
          <a:stretch/>
        </p:blipFill>
        <p:spPr>
          <a:xfrm>
            <a:off x="3357720" y="4929120"/>
            <a:ext cx="2296800" cy="17146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8" descr="75eb36.jpg"/>
          <p:cNvPicPr/>
          <p:nvPr/>
        </p:nvPicPr>
        <p:blipFill>
          <a:blip r:embed="rId5"/>
          <a:stretch/>
        </p:blipFill>
        <p:spPr>
          <a:xfrm>
            <a:off x="214200" y="2357280"/>
            <a:ext cx="2857680" cy="206712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9" descr="IMG_1131.JPG"/>
          <p:cNvPicPr/>
          <p:nvPr/>
        </p:nvPicPr>
        <p:blipFill>
          <a:blip r:embed="rId6"/>
          <a:stretch/>
        </p:blipFill>
        <p:spPr>
          <a:xfrm>
            <a:off x="285840" y="4643280"/>
            <a:ext cx="2643120" cy="1982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Результаты исследования подтвердили нашу гипотезу: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Морковь - ценный продукт пит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Рисунок 2" descr="Фото0100.jpg"/>
          <p:cNvPicPr/>
          <p:nvPr/>
        </p:nvPicPr>
        <p:blipFill>
          <a:blip r:embed="rId1"/>
          <a:stretch/>
        </p:blipFill>
        <p:spPr>
          <a:xfrm>
            <a:off x="3429000" y="3500280"/>
            <a:ext cx="2357280" cy="314352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3" descr="20140125_174710.jpg"/>
          <p:cNvPicPr/>
          <p:nvPr/>
        </p:nvPicPr>
        <p:blipFill>
          <a:blip r:embed="rId2"/>
          <a:stretch/>
        </p:blipFill>
        <p:spPr>
          <a:xfrm>
            <a:off x="6143760" y="3500280"/>
            <a:ext cx="2357280" cy="314352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5" descr="20140125_170949.jpg"/>
          <p:cNvPicPr/>
          <p:nvPr/>
        </p:nvPicPr>
        <p:blipFill>
          <a:blip r:embed="rId3"/>
          <a:stretch/>
        </p:blipFill>
        <p:spPr>
          <a:xfrm>
            <a:off x="554040" y="3500280"/>
            <a:ext cx="2392200" cy="3191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1680" y="2285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ahoma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85920" y="428400"/>
            <a:ext cx="2952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Гипотез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52862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cc"/>
                </a:solidFill>
                <a:latin typeface="Times New Roman"/>
              </a:rPr>
              <a:t>морковь – ценный продукт пита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          </a:t>
            </a: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Цель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cc"/>
                </a:solidFill>
                <a:latin typeface="Times New Roman"/>
              </a:rPr>
              <a:t>рассмотреть морковь с точки зрения истории, медицины, кулинарии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Рисунок 6" descr="74588099_morkov1.jpg"/>
          <p:cNvPicPr/>
          <p:nvPr/>
        </p:nvPicPr>
        <p:blipFill>
          <a:blip r:embed="rId1"/>
          <a:stretch/>
        </p:blipFill>
        <p:spPr>
          <a:xfrm>
            <a:off x="5286240" y="928800"/>
            <a:ext cx="3500640" cy="4781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5560" y="422280"/>
            <a:ext cx="3600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414936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57160" y="1553760"/>
            <a:ext cx="797256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85680" indent="-856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познакомиться с историей происхождения морков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856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85680" indent="-856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раскрыть ее значение для здоровья человека теоретическим и экспериментальным путем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856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85680" indent="-856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научиться готовить блюда и украшения из морков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468360" y="3643200"/>
            <a:ext cx="16747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1844640"/>
            <a:ext cx="1081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3995640" y="2205000"/>
            <a:ext cx="40388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928800" y="2786040"/>
            <a:ext cx="784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8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2"/>
          <p:cNvSpPr/>
          <p:nvPr/>
        </p:nvSpPr>
        <p:spPr>
          <a:xfrm flipV="1" rot="10800000">
            <a:off x="714240" y="1142640"/>
            <a:ext cx="7715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бъект исследования: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морков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редмет исследования: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морковь, как культурное раст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Методы исследования: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изучение теоретического материала, проведение опытов, опрос, анализ и обработка полученных результа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75520812_large_1245755896_mork.jpg"/>
          <p:cNvPicPr/>
          <p:nvPr/>
        </p:nvPicPr>
        <p:blipFill>
          <a:blip r:embed="rId1"/>
          <a:stretch/>
        </p:blipFill>
        <p:spPr>
          <a:xfrm>
            <a:off x="2357280" y="1928880"/>
            <a:ext cx="4786560" cy="3666960"/>
          </a:xfrm>
          <a:prstGeom prst="rect">
            <a:avLst/>
          </a:prstGeom>
          <a:ln w="0">
            <a:noFill/>
          </a:ln>
        </p:spPr>
      </p:pic>
      <p:sp>
        <p:nvSpPr>
          <p:cNvPr id="110" name="Овал 3"/>
          <p:cNvSpPr/>
          <p:nvPr/>
        </p:nvSpPr>
        <p:spPr>
          <a:xfrm rot="19774800">
            <a:off x="-29880" y="1318680"/>
            <a:ext cx="3049560" cy="1555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Питатель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Овал 4"/>
          <p:cNvSpPr/>
          <p:nvPr/>
        </p:nvSpPr>
        <p:spPr>
          <a:xfrm rot="2348400">
            <a:off x="6549840" y="1231560"/>
            <a:ext cx="2809800" cy="1380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Полез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Овал 5"/>
          <p:cNvSpPr/>
          <p:nvPr/>
        </p:nvSpPr>
        <p:spPr>
          <a:xfrm rot="841200">
            <a:off x="453960" y="5235480"/>
            <a:ext cx="3222720" cy="14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Лег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усваива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Овал 6"/>
          <p:cNvSpPr/>
          <p:nvPr/>
        </p:nvSpPr>
        <p:spPr>
          <a:xfrm rot="20289000">
            <a:off x="6181200" y="5155920"/>
            <a:ext cx="2786400" cy="1481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Доступ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каждо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Овал 7"/>
          <p:cNvSpPr/>
          <p:nvPr/>
        </p:nvSpPr>
        <p:spPr>
          <a:xfrm>
            <a:off x="3071880" y="214200"/>
            <a:ext cx="3000240" cy="1357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Вкус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28720" y="642600"/>
            <a:ext cx="4537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4643280" y="2997360"/>
            <a:ext cx="2376720" cy="24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4286160" y="1442880"/>
            <a:ext cx="460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рковь начали возделывать около 4 тысяч лет тому назад в Афганистане сначала как лекарственное, а уж потом как пищевое и кормовое расте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27"/>
          <p:cNvSpPr/>
          <p:nvPr/>
        </p:nvSpPr>
        <p:spPr>
          <a:xfrm>
            <a:off x="571680" y="500040"/>
            <a:ext cx="6672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cc"/>
                </a:solidFill>
                <a:latin typeface="Monotype Corsiva"/>
              </a:rPr>
              <a:t>Узнаем об истории происхождения морков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Рисунок 15" descr="20140125_162543.jpg"/>
          <p:cNvPicPr/>
          <p:nvPr/>
        </p:nvPicPr>
        <p:blipFill>
          <a:blip r:embed="rId1"/>
          <a:stretch/>
        </p:blipFill>
        <p:spPr>
          <a:xfrm>
            <a:off x="142920" y="1928880"/>
            <a:ext cx="4071960" cy="45306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6" descr="A_Hand_Feeding_a_Carrot_To_a_Horse_Royalty_Free_Clipart_Picture_090317-176029-175009.jpg"/>
          <p:cNvPicPr/>
          <p:nvPr/>
        </p:nvPicPr>
        <p:blipFill>
          <a:blip r:embed="rId2"/>
          <a:stretch/>
        </p:blipFill>
        <p:spPr>
          <a:xfrm>
            <a:off x="6072120" y="4214880"/>
            <a:ext cx="2589120" cy="2523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5e0e0"/>
                </a:solidFill>
                <a:latin typeface="Monotype Corsiva"/>
              </a:rPr>
              <a:t>Значение моркови для здоровья челове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Содержимое 4" descr="resistencia2.jpg"/>
          <p:cNvPicPr/>
          <p:nvPr/>
        </p:nvPicPr>
        <p:blipFill>
          <a:blip r:embed="rId1"/>
          <a:stretch/>
        </p:blipFill>
        <p:spPr>
          <a:xfrm>
            <a:off x="5286240" y="1857240"/>
            <a:ext cx="321480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"/>
          <p:cNvSpPr/>
          <p:nvPr/>
        </p:nvSpPr>
        <p:spPr>
          <a:xfrm>
            <a:off x="518400" y="1928880"/>
            <a:ext cx="4371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моркови мн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неральных веществ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лей калия, натр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льция, фосфор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гния, йода и желез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обходимых д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троения костей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угих ткане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5e0e0"/>
                </a:solidFill>
                <a:latin typeface="Tahoma"/>
              </a:rPr>
              <a:t>Витамин Е – витамин для мускул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Содержимое 3" descr="carrot_juice.jpg"/>
          <p:cNvPicPr/>
          <p:nvPr/>
        </p:nvPicPr>
        <p:blipFill>
          <a:blip r:embed="rId1"/>
          <a:stretch/>
        </p:blipFill>
        <p:spPr>
          <a:xfrm rot="21013800">
            <a:off x="350640" y="3021120"/>
            <a:ext cx="4518000" cy="30798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4" descr="information_items_1522.jpg"/>
          <p:cNvPicPr/>
          <p:nvPr/>
        </p:nvPicPr>
        <p:blipFill>
          <a:blip r:embed="rId2"/>
          <a:stretch/>
        </p:blipFill>
        <p:spPr>
          <a:xfrm rot="820200">
            <a:off x="5408640" y="1579320"/>
            <a:ext cx="3435480" cy="2944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0040" y="71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5e0e0"/>
                </a:solidFill>
                <a:latin typeface="Tahoma"/>
              </a:rPr>
              <a:t>Эксперимен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Содержимое 4" descr="20140125_170058.jpg"/>
          <p:cNvPicPr/>
          <p:nvPr/>
        </p:nvPicPr>
        <p:blipFill>
          <a:blip r:embed="rId1"/>
          <a:stretch/>
        </p:blipFill>
        <p:spPr>
          <a:xfrm>
            <a:off x="4743360" y="214200"/>
            <a:ext cx="3900600" cy="3029040"/>
          </a:xfrm>
          <a:prstGeom prst="rect">
            <a:avLst/>
          </a:prstGeom>
          <a:ln w="0">
            <a:noFill/>
          </a:ln>
        </p:spPr>
      </p:pic>
      <p:pic>
        <p:nvPicPr>
          <p:cNvPr id="129" name="Содержимое 5" descr="20140125_170856.jpg"/>
          <p:cNvPicPr/>
          <p:nvPr/>
        </p:nvPicPr>
        <p:blipFill>
          <a:blip r:embed="rId2"/>
          <a:stretch/>
        </p:blipFill>
        <p:spPr>
          <a:xfrm>
            <a:off x="571680" y="1785960"/>
            <a:ext cx="3286080" cy="42861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6" descr="20140125_162002.jpg"/>
          <p:cNvPicPr/>
          <p:nvPr/>
        </p:nvPicPr>
        <p:blipFill>
          <a:blip r:embed="rId3"/>
          <a:stretch/>
        </p:blipFill>
        <p:spPr>
          <a:xfrm>
            <a:off x="5214960" y="3333600"/>
            <a:ext cx="2643120" cy="3524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8:34:51Z</dcterms:created>
  <dc:creator>Customer</dc:creator>
  <dc:description/>
  <dc:language>en-US</dc:language>
  <cp:lastModifiedBy>Ad05n</cp:lastModifiedBy>
  <dcterms:modified xsi:type="dcterms:W3CDTF">2018-01-14T15:13:31Z</dcterms:modified>
  <cp:revision>74</cp:revision>
  <dc:subject/>
  <dc:title>Ах, моркошка, объеденье!!!</dc:title>
</cp:coreProperties>
</file>