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8EC-22FA-4A40-B563-BAA34304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EB9A-D3FF-4240-9638-03D18B72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A0C4-DAC3-45C9-B690-844F8C4D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8AD1-48F1-4080-8FDB-5ED14DF9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17E-9D6A-404A-BD49-369A3988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7583-FF58-4792-8913-76A7BCB7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E28D-1CFA-4117-92CB-C20FB2C2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BB7-7D19-4A7C-AC90-CB11D0E0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8A4-169C-4EEA-B0F9-E07E0F57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F36-8A85-4076-8240-259FF2E3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0D1-9B35-49F3-A15C-315C38A1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087A-5887-4B77-B67E-767918E3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081E-9B79-4018-924E-27D78DAB4D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705800" cy="307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062160" y="3886200"/>
            <a:ext cx="4710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alibri"/>
              </a:rPr>
              <a:t>Образование: высшее, ТГГПУ, 2006 г.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alibri"/>
              </a:rPr>
              <a:t>Учитель английского язы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alibri"/>
              </a:rPr>
              <a:t>Общий трудовой стаж: 11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alibri"/>
              </a:rPr>
              <a:t>Педагогический стаж: 11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26668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6"/>
          <p:cNvSpPr txBox="1"/>
          <p:nvPr/>
        </p:nvSpPr>
        <p:spPr>
          <a:xfrm>
            <a:off x="179280" y="1290600"/>
            <a:ext cx="87328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1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нглийский язык -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то необходимо и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тересно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й девиз:   </a:t>
            </a:r>
            <a:r>
              <a:rPr b="1" lang="ru-RU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«Учить и учиться»</a:t>
            </a:r>
            <a:br>
              <a:rPr sz="3200"/>
            </a:b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Тема методической работы : </a:t>
            </a:r>
            <a:r>
              <a:rPr b="1" lang="ru-RU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азвитие коммуникативных умений и творческих навыков на уроках английского языка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3000"/>
            </a:br>
            <a:br>
              <a:rPr sz="3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2852280"/>
            <a:ext cx="807732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ерсональный сайт с социальной се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работников образ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https://nsportal.ru/mulyukova-alfira-mukhammyatovna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036800" y="2544480"/>
            <a:ext cx="810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2484360" y="4797360"/>
            <a:ext cx="234324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360" y="15235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1093"/>
                </a:solidFill>
                <a:latin typeface="Times New Roman"/>
                <a:ea typeface="Times New Roman"/>
              </a:rPr>
              <a:t>Завтра не наступает. Оно уже наступило. И диктует нам перспективы молодое поколение, </a:t>
            </a:r>
            <a:r>
              <a:rPr b="1" lang="en-US" sz="2800" spc="-1" strike="noStrike">
                <a:solidFill>
                  <a:srgbClr val="091093"/>
                </a:solidFill>
                <a:latin typeface="Times New Roman"/>
                <a:ea typeface="Times New Roman"/>
              </a:rPr>
              <a:t>    </a:t>
            </a:r>
            <a:br>
              <a:rPr sz="2800"/>
            </a:br>
            <a:r>
              <a:rPr b="1" lang="en-US" sz="2800" spc="-1" strike="noStrike">
                <a:solidFill>
                  <a:srgbClr val="091093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91093"/>
                </a:solidFill>
                <a:latin typeface="Times New Roman"/>
                <a:ea typeface="Times New Roman"/>
              </a:rPr>
              <a:t>подрастающее сегодня в школе. Это они хотят нового, инновационного. Они уже требуют, а мы не должны  отстать, должны опередить время, чтобы быть Учителями </a:t>
            </a:r>
            <a:r>
              <a:rPr b="1" i="1" lang="ru-RU" sz="2400" spc="-1" strike="noStrike">
                <a:solidFill>
                  <a:srgbClr val="091093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C:\Documents and Settings\uzer\Мои документы\Мои рисунки\01[1].jpg"/>
          <p:cNvPicPr/>
          <p:nvPr/>
        </p:nvPicPr>
        <p:blipFill>
          <a:blip r:embed="rId1"/>
          <a:stretch/>
        </p:blipFill>
        <p:spPr>
          <a:xfrm>
            <a:off x="7524720" y="115920"/>
            <a:ext cx="1619280" cy="21607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" descr=""/>
          <p:cNvPicPr/>
          <p:nvPr/>
        </p:nvPicPr>
        <p:blipFill>
          <a:blip r:embed="rId2"/>
          <a:stretch/>
        </p:blipFill>
        <p:spPr>
          <a:xfrm>
            <a:off x="179280" y="2911320"/>
            <a:ext cx="244800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Актуальност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59799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80000"/>
              </a:lnSpc>
              <a:spcBef>
                <a:spcPts val="799"/>
              </a:spcBef>
              <a:buClr>
                <a:srgbClr val="091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1093"/>
                </a:solidFill>
                <a:latin typeface="Times New Roman"/>
                <a:ea typeface="Times New Roman"/>
              </a:rPr>
              <a:t>В условиях поликультурного и полиязычного мира, предмет «Иностранный язык» формирует коммуникативную культуру школьника, способствует его общему речевому развитию, расширению его кругозора и воспитанию его нравственных качеств, чувств, эмоц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142920" y="981000"/>
            <a:ext cx="2268360" cy="28051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"/>
          <p:cNvPicPr/>
          <p:nvPr/>
        </p:nvPicPr>
        <p:blipFill>
          <a:blip r:embed="rId2"/>
          <a:stretch/>
        </p:blipFill>
        <p:spPr>
          <a:xfrm>
            <a:off x="250920" y="3933720"/>
            <a:ext cx="2243160" cy="23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09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920" y="907560"/>
            <a:ext cx="4368960" cy="38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91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1093"/>
                </a:solidFill>
                <a:latin typeface="Times New Roman"/>
                <a:ea typeface="Times New Roman"/>
              </a:rPr>
              <a:t>Развивать коммуникативные умения и творческие навыки учащихся, начиная с младших классов на уроках английского язы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school2516"/>
          <p:cNvPicPr/>
          <p:nvPr/>
        </p:nvPicPr>
        <p:blipFill>
          <a:blip r:embed="rId1"/>
          <a:stretch/>
        </p:blipFill>
        <p:spPr>
          <a:xfrm>
            <a:off x="1116000" y="4076640"/>
            <a:ext cx="3352680" cy="22338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41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Мое кредо по отношению к ученику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71280" y="1341360"/>
            <a:ext cx="5545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верь и уважай своего ученик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принимай его таким, какой он ест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радуйся его успеха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053040" y="907920"/>
            <a:ext cx="3090960" cy="3009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1547640" y="3917880"/>
            <a:ext cx="3749760" cy="30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Мое кредо по отношению к себе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42560" y="1700280"/>
            <a:ext cx="7643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910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91093"/>
                </a:solidFill>
                <a:latin typeface="Times New Roman"/>
                <a:ea typeface="Times New Roman"/>
              </a:rPr>
              <a:t>я – педагог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910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91093"/>
                </a:solidFill>
                <a:latin typeface="Times New Roman"/>
                <a:ea typeface="Times New Roman"/>
              </a:rPr>
              <a:t>я всегда готов встать рядом, протянуть руку помощ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910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91093"/>
                </a:solidFill>
                <a:latin typeface="Times New Roman"/>
                <a:ea typeface="Times New Roman"/>
              </a:rPr>
              <a:t>перешагнуть через усталость и боль и дотянуться до мечт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91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2771640" y="4365720"/>
            <a:ext cx="288000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Средства обуч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58920" y="1557360"/>
            <a:ext cx="556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91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91093"/>
                </a:solidFill>
                <a:latin typeface="Times New Roman"/>
                <a:ea typeface="Times New Roman"/>
              </a:rPr>
              <a:t>игр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91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91093"/>
                </a:solidFill>
                <a:latin typeface="Times New Roman"/>
                <a:ea typeface="Times New Roman"/>
              </a:rPr>
              <a:t>когнитивные механиз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91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91093"/>
                </a:solidFill>
                <a:latin typeface="Times New Roman"/>
                <a:ea typeface="Times New Roman"/>
              </a:rPr>
              <a:t>информационные технолог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91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91093"/>
                </a:solidFill>
                <a:latin typeface="Times New Roman"/>
                <a:ea typeface="Times New Roman"/>
              </a:rPr>
              <a:t>аудиоматериа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school2538"/>
          <p:cNvPicPr/>
          <p:nvPr/>
        </p:nvPicPr>
        <p:blipFill>
          <a:blip r:embed="rId1"/>
          <a:stretch/>
        </p:blipFill>
        <p:spPr>
          <a:xfrm>
            <a:off x="1116000" y="1268280"/>
            <a:ext cx="2071800" cy="262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ADHD-child-school"/>
          <p:cNvPicPr/>
          <p:nvPr/>
        </p:nvPicPr>
        <p:blipFill>
          <a:blip r:embed="rId2"/>
          <a:stretch/>
        </p:blipFill>
        <p:spPr>
          <a:xfrm>
            <a:off x="4716360" y="4076640"/>
            <a:ext cx="2016360" cy="23050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" descr=""/>
          <p:cNvPicPr/>
          <p:nvPr/>
        </p:nvPicPr>
        <p:blipFill>
          <a:blip r:embed="rId3"/>
          <a:stretch/>
        </p:blipFill>
        <p:spPr>
          <a:xfrm>
            <a:off x="179280" y="4233960"/>
            <a:ext cx="4381560" cy="19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Уроки английского языка интересны и познавательны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1"/>
          <p:cNvSpPr/>
          <p:nvPr/>
        </p:nvSpPr>
        <p:spPr>
          <a:xfrm>
            <a:off x="4643280" y="1413000"/>
            <a:ext cx="403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Дидактические игры, уроки-аукционы, тестовые задания  позволяют отслеживать  уровень и качество обученности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Уроки с компьютерной поддержкой, работа в группах позволяют активизировать познавательную активность уча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C:\Users\Альфира\Desktop\IMG-20171211-WA0008.jpeg"/>
          <p:cNvPicPr/>
          <p:nvPr/>
        </p:nvPicPr>
        <p:blipFill>
          <a:blip r:embed="rId1"/>
          <a:stretch/>
        </p:blipFill>
        <p:spPr>
          <a:xfrm>
            <a:off x="3708360" y="4103640"/>
            <a:ext cx="215892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C:\Users\Альфира\Desktop\IMG-20171211-WA0006.jpeg"/>
          <p:cNvPicPr/>
          <p:nvPr/>
        </p:nvPicPr>
        <p:blipFill>
          <a:blip r:embed="rId2"/>
          <a:stretch/>
        </p:blipFill>
        <p:spPr>
          <a:xfrm>
            <a:off x="539640" y="4103640"/>
            <a:ext cx="2173320" cy="26002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"/>
          <p:cNvPicPr/>
          <p:nvPr/>
        </p:nvPicPr>
        <p:blipFill>
          <a:blip r:embed="rId3"/>
          <a:stretch/>
        </p:blipFill>
        <p:spPr>
          <a:xfrm>
            <a:off x="539640" y="1415880"/>
            <a:ext cx="3876840" cy="248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7:39:51Z</dcterms:created>
  <dc:creator>Катенок</dc:creator>
  <dc:description/>
  <dc:language>en-US</dc:language>
  <cp:lastModifiedBy>Альфира</cp:lastModifiedBy>
  <dcterms:modified xsi:type="dcterms:W3CDTF">2018-01-14T12:28:34Z</dcterms:modified>
  <cp:revision>35</cp:revision>
  <dc:subject/>
  <dc:title>Презентация PowerPoint</dc:title>
</cp:coreProperties>
</file>