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F58C-4023-4D27-8DAF-352F952D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1AE-C51C-412D-9E33-B906497E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E16-FB32-477F-95CE-9543E7B5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B4B-B268-4B20-886B-7A643060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E504-F3F8-4C6E-80C9-C9CA3392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EA94-BB89-4593-BC46-CF84EC15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9CDC-E4BA-4E3A-83A8-8E85D0FA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36E4-E763-4270-8F30-76AC26C0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6B3D-5494-4E26-BE24-948E03E9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2023-E99E-43BE-AAEE-2F3DC0C9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3EA7-E627-435A-B58F-3931683F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64BD-9D08-42BD-B1A5-967A4CC1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862F-0075-40A3-87F1-5BE7307C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F5BE-BDF1-4F2B-BEAF-31E42454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BBDF-B7AA-4F76-A893-E6E5ADBD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4436-02F6-4972-B6ED-C33BE83F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D873-245E-4D1B-8779-3178DB50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46F5-754E-4937-88DB-E150191F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3382-A3A4-431B-9683-9687EA73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4FD-8163-4163-A81D-87270882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C7C7-D605-4E61-89A6-C9EF1892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610-5339-4CC6-94BD-E1DFA88F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5CE0-00D5-42D7-A0A2-41636911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8EC5-D746-4A7F-8C95-96BE994C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D0D9-D1AA-4618-A673-0300DC9985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FC01-9478-4435-B8A0-7A46D74552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д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1547640" y="765000"/>
            <a:ext cx="6264360" cy="72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Monotype Corsiva"/>
                <a:ea typeface="Arial"/>
              </a:rPr>
              <a:t>«Поддержка детской инициативы и творческих способностей у дошкольников средствами нетрадиционной продуктивной деятельност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Воспитател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  <a:ea typeface="SimSun"/>
              </a:rPr>
              <a:t>ь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: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SimSun"/>
              </a:rPr>
              <a:t>Бушуева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SimSun"/>
              </a:rPr>
              <a:t>Н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  <a:ea typeface="SimSun"/>
              </a:rPr>
              <a:t>.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SimSun"/>
              </a:rPr>
              <a:t>Н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  <a:ea typeface="SimSun"/>
              </a:rPr>
              <a:t>.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                                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  <a:ea typeface="SimSun"/>
              </a:rPr>
              <a:t>воспитатель д\с №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ф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фото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фото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IMG_26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IMG_2959"/>
          <p:cNvPicPr/>
          <p:nvPr/>
        </p:nvPicPr>
        <p:blipFill>
          <a:blip r:embed="rId1"/>
          <a:stretch/>
        </p:blipFill>
        <p:spPr>
          <a:xfrm>
            <a:off x="0" y="-22320"/>
            <a:ext cx="9174240" cy="6880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12:31:42Z</dcterms:created>
  <dc:creator>User</dc:creator>
  <dc:description/>
  <cp:keywords/>
  <dc:language>en-US</dc:language>
  <cp:lastModifiedBy>1</cp:lastModifiedBy>
  <dcterms:modified xsi:type="dcterms:W3CDTF">2018-01-17T19:33:53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1.0.5672</vt:lpwstr>
  </property>
</Properties>
</file>