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31A-99DB-4577-A952-F7D902B6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1AF-7EC3-4D4F-A568-CAA7300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F45-BD80-4C48-BF9C-AF3689C5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D93-6E25-4053-82F6-86B797DE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C863-C2DD-4CB7-A29B-6EF6470C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1F2-E0BE-4C38-8BC7-87A3341E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10F1-F260-4CB6-BB6D-2128F410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4653-1440-462B-8C49-3D4C9B45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0E11-9C26-4710-91AC-32A1A66A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7A9C-D799-4B97-BCA8-E62D619A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C3B3-6D72-4084-BA3F-2D5E10D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E22-6BF7-4262-B965-B4262A32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8D53-EB5F-4B7F-BBC2-56C6615B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A9D7-932B-42EF-B4E0-D43148E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44A6-8414-4539-AEE9-D554F7F6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8A1A-8E73-4226-B9EF-E4F0F3B1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1025-55AB-4613-A584-6E4F2313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33C-C933-4F58-9CF5-B90D883C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2FC-D8A5-40A4-B902-CB9B5688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004-C954-4DDA-8684-EEB55946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C85-2673-4C73-8FE0-3ABD691F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BAC-BFAF-4181-9BC8-EDE3DD6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740-6A47-4572-9E1E-C6C5E42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940-004A-4BC0-A309-215766E2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CD6A-EA8C-4454-9FD1-7AA5418296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96C6-B98A-4AD1-B043-ACA728C7C9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одительское собр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ль домашнего задания в самообразовании школьн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351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ебуйте от своего ребёнка внимательного прочтения инструкций по выполнению учебных заданий, формулировки вопросов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валите ребёнка за своевременно и качественно выполненное домашнее зада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монстрируйте его достижения перед другими членами семь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уйте привычку доводи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чатое дело до конца, даже если придётся чем-то жертвова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ы считаете, что ваш ребёнок испытывает перегрузку по какому-либо предмету, обратитесь за разъяснением и помощью к учителю-предметнику или завуч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отмахивайтесь от вопросов ребёнка. Этим вы усугубляете проблемы, связанные с подготовкой домашних   зад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етоды, помогающие ребёнку в подготовк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омашнего зад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тод «5П»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П – просмотри текст( бегл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П – придумай к нему вопрос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П – пометь карандашом важные мес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П – перескажи текс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П – просмотри текст повтор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омнит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нание составляется из мелких крупинок ежедневного опы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. И. Писаре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50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Книга в жизни школьника: отношение ученика к учебной и художественной литературе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нкета для родителей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Является ли чтение одним из увлечений вашего ребен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Сколько времени он проводит за книго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Убеждаете ли вы своего ребенка читать или он делает это без принужде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Какие книги он предпочитае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01800" y="368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Как вы поощряете его читательские стремле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Дарите ли вы своему ребенку книг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.Есть ли у вас на этот счет какие- то свои убежде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.Обсуждаете ли вы прочитанные книги в семь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9.Советуете ли вы своему ребенку книги своего детства и юност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0.Считаете ли вы себя активным примером для своего ребенка в чтении книг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комендации для родителе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9D2B882D"/>
          <p:cNvPicPr/>
          <p:nvPr/>
        </p:nvPicPr>
        <p:blipFill>
          <a:blip r:embed="rId1"/>
          <a:srcRect l="52459" t="26151" r="5547" b="53909"/>
          <a:stretch/>
        </p:blipFill>
        <p:spPr>
          <a:xfrm>
            <a:off x="971640" y="1828800"/>
            <a:ext cx="7272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9D2B882D"/>
          <p:cNvPicPr/>
          <p:nvPr/>
        </p:nvPicPr>
        <p:blipFill>
          <a:blip r:embed="rId1"/>
          <a:srcRect l="52459" t="46012" r="5547" b="24988"/>
          <a:stretch/>
        </p:blipFill>
        <p:spPr>
          <a:xfrm>
            <a:off x="900000" y="260280"/>
            <a:ext cx="712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кета для родит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Сколько времени в день тратит ваш ребенок на подготовку домашнего зада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ие предметы требуют больших затрат времен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Всегда ли ваш ребенок понимает, что он должен сделать, выполняя домашнее задани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риходится ли вам помогать выполнять дом. задани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По каким предметам вы помогаете ребенку выполнять дом. задани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900000" y="333360"/>
            <a:ext cx="7559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.Всегда ли вашему ребенку объективно выставляется оценка за выполненную домашнюю работ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.Всегда ли ваш ребенок знает, что задано на д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.Чем объясняет ваш ребенок, что задание в дневнике не записан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.Всегда ли, по мнению ребенка, учитель аргументирует оценку за домашнее задани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нятие в школе может только доставить ограниченному рассудку и как бы вдолбить в него все правила, добытые чужим пониманием, но способность правильно пользоваться ими разовьет только домашний самостоятельный труд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. Кан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7991640" cy="49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Если наши дети хотят быть людьми в самом деле образованными, они должны приобретать образование самостоятельными занятиями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Н. Г. Чернышевск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 домашних зада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стемная работа ученика дома приводит к тому, что процесс учения его не отягощает, он получает навыки поиска информац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бёнок учится выполнять работу качественно и в ср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ункции домашних зада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авнивание знаний и умений ребёнка, его навыков в том случае, если он долго болел и много пропустил или не усвоил какую-то довольно сложную тему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имулирование познавательного интереса учащихся, желания знать как можно больше по предмету или по тем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амостоятельности ученика, его усидчивости и ответственности за выполняемое учебное зад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комендации родителям по контролю за выполнением домашних зад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являйте терпимость и уважение к личности ребён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сравнивайте его умения с умениями других дет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кричите, лучше определите причину отсутствия у ребёнка умения выполнить заданное упражнени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497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йте условия для успешного выполнения ребёнком домашнего зада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пытайтесь выполнять за своего сына или дочь дом. задание, это сослужит им плохую служб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ощряйте упорство и проявление характера в достижении цел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56:12Z</dcterms:created>
  <dc:creator>Евгения</dc:creator>
  <dc:description/>
  <dc:language>en-US</dc:language>
  <cp:lastModifiedBy>Admin</cp:lastModifiedBy>
  <dcterms:modified xsi:type="dcterms:W3CDTF">2018-01-21T14:19:49Z</dcterms:modified>
  <cp:revision>8</cp:revision>
  <dc:subject/>
  <dc:title>Родительское собрание</dc:title>
</cp:coreProperties>
</file>