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14CC-3436-4B95-A238-92A7299FCE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717E-E96D-44E9-8209-18AC87D1AE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2EA-669A-4B80-AE47-7C8C0A2E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D5C-2D03-40E2-9417-831DB3C0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AA3-A2C1-4099-86BF-EA1793C4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403-B6AC-4F68-8907-4700E328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13B8-DF81-44C1-B8D5-B49153EE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FAD3-8D7F-44FC-902B-0210E6AD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9BF2-82ED-4451-B5DA-857C41BC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8148-7396-473E-A73F-D257F929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DCEC-A666-41B2-A188-3318D8CF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59B6-08F1-4A06-B2DF-8697639A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C28E-0602-4D72-9017-50AC98C2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564-C5B2-45A4-91A5-6C967C99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F57C-3163-4230-951C-8B93B96B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4AA5-4FC8-4D59-B4CF-966077FB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52C7-7B3A-4218-A394-1341FF81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13FC-C9E7-43DD-8483-73B5DD14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94A7-69EE-4BB3-9EB8-E4E65BE0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E7F-13D8-40BB-92D9-658BA44C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CC4-B90B-402E-B8A0-B2FFD660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98D1-E41A-4970-ADA4-DC80D5BC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5F0-244B-4D45-AA28-D389352E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815-4DFA-47AF-AB0E-AA179564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378-CCE4-4C70-8502-983C2CE1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63E-0197-442E-AFBA-A266C24A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9918-613C-4DA8-90DB-7D43463568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8086-C20B-4FE7-923A-3F25C04A1D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90" name="Freeform 3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7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8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WordArt 11"/>
          <p:cNvSpPr txBox="1"/>
          <p:nvPr/>
        </p:nvSpPr>
        <p:spPr>
          <a:xfrm>
            <a:off x="762120" y="2590920"/>
            <a:ext cx="7543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фера и шар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WordArt 12"/>
          <p:cNvSpPr txBox="1"/>
          <p:nvPr/>
        </p:nvSpPr>
        <p:spPr>
          <a:xfrm>
            <a:off x="762120" y="548640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ff">
                    <a:alpha val="65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"Геометрия 10-11"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66ff">
                  <a:alpha val="65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395280" y="457200"/>
            <a:ext cx="849780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257dff"/>
                </a:solidFill>
                <a:latin typeface="Arial"/>
              </a:rPr>
              <a:t>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257d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ка вс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8" descr="100322143217-large"/>
          <p:cNvPicPr/>
          <p:nvPr/>
        </p:nvPicPr>
        <p:blipFill>
          <a:blip r:embed="rId1"/>
          <a:stretch/>
        </p:blipFill>
        <p:spPr>
          <a:xfrm>
            <a:off x="1295280" y="1447920"/>
            <a:ext cx="3810240" cy="387648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21"/>
          <p:cNvGrpSpPr/>
          <p:nvPr/>
        </p:nvGrpSpPr>
        <p:grpSpPr>
          <a:xfrm>
            <a:off x="1066680" y="762120"/>
            <a:ext cx="5067360" cy="5584680"/>
            <a:chOff x="1066680" y="762120"/>
            <a:chExt cx="5067360" cy="5584680"/>
          </a:xfrm>
        </p:grpSpPr>
        <p:pic>
          <p:nvPicPr>
            <p:cNvPr id="103" name="Picture 19" descr="3_balls_shadow"/>
            <p:cNvPicPr/>
            <p:nvPr/>
          </p:nvPicPr>
          <p:blipFill>
            <a:blip r:embed="rId2"/>
            <a:stretch/>
          </p:blipFill>
          <p:spPr>
            <a:xfrm>
              <a:off x="1219320" y="4343400"/>
              <a:ext cx="3886200" cy="20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0" descr="podshipniki"/>
            <p:cNvPicPr/>
            <p:nvPr/>
          </p:nvPicPr>
          <p:blipFill>
            <a:blip r:embed="rId3"/>
            <a:stretch/>
          </p:blipFill>
          <p:spPr>
            <a:xfrm>
              <a:off x="1066680" y="762120"/>
              <a:ext cx="5067360" cy="36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4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106" name="Freeform 5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0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13" descr="foto_3458"/>
          <p:cNvPicPr/>
          <p:nvPr/>
        </p:nvPicPr>
        <p:blipFill>
          <a:blip r:embed="rId4"/>
          <a:stretch/>
        </p:blipFill>
        <p:spPr>
          <a:xfrm>
            <a:off x="838080" y="7621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2"/>
          <p:cNvSpPr/>
          <p:nvPr/>
        </p:nvSpPr>
        <p:spPr>
          <a:xfrm>
            <a:off x="7011000" y="228600"/>
            <a:ext cx="15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Шар ил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сфера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5" descr="8"/>
          <p:cNvPicPr/>
          <p:nvPr/>
        </p:nvPicPr>
        <p:blipFill>
          <a:blip r:embed="rId5"/>
          <a:stretch/>
        </p:blipFill>
        <p:spPr>
          <a:xfrm>
            <a:off x="838080" y="380880"/>
            <a:ext cx="6096240" cy="6096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1286010605_puzyr"/>
          <p:cNvPicPr/>
          <p:nvPr/>
        </p:nvPicPr>
        <p:blipFill>
          <a:blip r:embed="rId6"/>
          <a:stretch/>
        </p:blipFill>
        <p:spPr>
          <a:xfrm>
            <a:off x="838080" y="1092240"/>
            <a:ext cx="7696440" cy="544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8" descr="shar"/>
          <p:cNvPicPr/>
          <p:nvPr/>
        </p:nvPicPr>
        <p:blipFill>
          <a:blip r:embed="rId2"/>
          <a:stretch/>
        </p:blipFill>
        <p:spPr>
          <a:xfrm>
            <a:off x="0" y="1447920"/>
            <a:ext cx="5715000" cy="519408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9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120" name="Freeform 10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4"/>
          <p:cNvSpPr/>
          <p:nvPr/>
        </p:nvSpPr>
        <p:spPr>
          <a:xfrm>
            <a:off x="6767640" y="836640"/>
            <a:ext cx="1440" cy="194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5"/>
          <p:cNvSpPr/>
          <p:nvPr/>
        </p:nvSpPr>
        <p:spPr>
          <a:xfrm flipV="1">
            <a:off x="5689440" y="1411920"/>
            <a:ext cx="2157480" cy="409320"/>
          </a:xfrm>
          <a:custGeom>
            <a:avLst/>
            <a:gdLst>
              <a:gd name="textAreaLeft" fmla="*/ 0 w 2157480"/>
              <a:gd name="textAreaRight" fmla="*/ 2157840 w 2157480"/>
              <a:gd name="textAreaTop" fmla="*/ -360 h 409320"/>
              <a:gd name="textAreaBottom" fmla="*/ 409320 h 409320"/>
            </a:gdLst>
            <a:ahLst/>
            <a:rect l="textAreaLeft" t="textAreaTop" r="textAreaRight" b="textAreaBottom"/>
            <a:pathLst>
              <a:path fill="none" w="43121" h="21600">
                <a:moveTo>
                  <a:pt x="43120" y="1599"/>
                </a:moveTo>
                <a:cubicBezTo>
                  <a:pt x="42282" y="12877"/>
                  <a:pt x="32888" y="21599"/>
                  <a:pt x="21580" y="21600"/>
                </a:cubicBezTo>
                <a:cubicBezTo>
                  <a:pt x="10010" y="21600"/>
                  <a:pt x="494" y="12483"/>
                  <a:pt x="-1" y="924"/>
                </a:cubicBezTo>
              </a:path>
              <a:path stroke="0" w="43121" h="21600">
                <a:moveTo>
                  <a:pt x="43120" y="1599"/>
                </a:moveTo>
                <a:cubicBezTo>
                  <a:pt x="42282" y="12877"/>
                  <a:pt x="32888" y="21599"/>
                  <a:pt x="21580" y="21600"/>
                </a:cubicBezTo>
                <a:cubicBezTo>
                  <a:pt x="10010" y="21600"/>
                  <a:pt x="494" y="12483"/>
                  <a:pt x="-1" y="924"/>
                </a:cubicBezTo>
                <a:lnTo>
                  <a:pt x="21580" y="0"/>
                </a:lnTo>
                <a:close/>
              </a:path>
            </a:pathLst>
          </a:custGeom>
          <a:solidFill>
            <a:srgbClr val="0099ff">
              <a:alpha val="16000"/>
            </a:srgbClr>
          </a:solidFill>
          <a:ln w="12600">
            <a:solidFill>
              <a:srgbClr val="1c1c1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6"/>
          <p:cNvSpPr/>
          <p:nvPr/>
        </p:nvSpPr>
        <p:spPr>
          <a:xfrm>
            <a:off x="5700600" y="1757520"/>
            <a:ext cx="2144880" cy="409320"/>
          </a:xfrm>
          <a:custGeom>
            <a:avLst/>
            <a:gdLst>
              <a:gd name="textAreaLeft" fmla="*/ 0 w 2144880"/>
              <a:gd name="textAreaRight" fmla="*/ 2145240 w 21448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fill="none" w="42859" h="21600">
                <a:moveTo>
                  <a:pt x="-22677" y="2301"/>
                </a:moveTo>
                <a:cubicBezTo>
                  <a:pt x="-23853" y="13276"/>
                  <a:pt x="32420" y="21599"/>
                  <a:pt x="21382" y="21600"/>
                </a:cubicBezTo>
                <a:cubicBezTo>
                  <a:pt x="10635" y="21600"/>
                  <a:pt x="1523" y="13699"/>
                  <a:pt x="0" y="3061"/>
                </a:cubicBezTo>
              </a:path>
              <a:path stroke="0" w="42859" h="21600">
                <a:moveTo>
                  <a:pt x="-22677" y="2301"/>
                </a:moveTo>
                <a:cubicBezTo>
                  <a:pt x="-23853" y="13276"/>
                  <a:pt x="32420" y="21599"/>
                  <a:pt x="21382" y="21600"/>
                </a:cubicBezTo>
                <a:cubicBezTo>
                  <a:pt x="10635" y="21600"/>
                  <a:pt x="1523" y="13699"/>
                  <a:pt x="0" y="3061"/>
                </a:cubicBezTo>
                <a:lnTo>
                  <a:pt x="21382" y="0"/>
                </a:lnTo>
                <a:close/>
              </a:path>
            </a:pathLst>
          </a:custGeom>
          <a:solidFill>
            <a:srgbClr val="0099ff">
              <a:alpha val="16000"/>
            </a:srgbClr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5688000" y="765000"/>
            <a:ext cx="2160720" cy="2103480"/>
          </a:xfrm>
          <a:prstGeom prst="ellipse">
            <a:avLst/>
          </a:prstGeom>
          <a:gradFill rotWithShape="0">
            <a:gsLst>
              <a:gs pos="0">
                <a:srgbClr val="ffffff">
                  <a:alpha val="33333"/>
                </a:srgbClr>
              </a:gs>
              <a:gs pos="100000">
                <a:srgbClr val="bbe0e3">
                  <a:alpha val="36078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"/>
          <p:cNvSpPr/>
          <p:nvPr/>
        </p:nvSpPr>
        <p:spPr>
          <a:xfrm rot="375600">
            <a:off x="6734160" y="785880"/>
            <a:ext cx="73080" cy="73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rc 20"/>
          <p:cNvSpPr/>
          <p:nvPr/>
        </p:nvSpPr>
        <p:spPr>
          <a:xfrm rot="5400000">
            <a:off x="2471040" y="1119600"/>
            <a:ext cx="761760" cy="4316400"/>
          </a:xfrm>
          <a:custGeom>
            <a:avLst/>
            <a:gdLst>
              <a:gd name="textAreaLeft" fmla="*/ 0 w 761760"/>
              <a:gd name="textAreaRight" fmla="*/ 762120 w 761760"/>
              <a:gd name="textAreaTop" fmla="*/ 0 h 4316400"/>
              <a:gd name="textAreaBottom" fmla="*/ 4316760 h 4316400"/>
            </a:gdLst>
            <a:ahLst/>
            <a:rect l="textAreaLeft" t="textAreaTop" r="textAreaRight" b="textAreaBottom"/>
            <a:pathLst>
              <a:path fill="none" w="21600" h="43049">
                <a:moveTo>
                  <a:pt x="19904" y="43049"/>
                </a:moveTo>
                <a:cubicBezTo>
                  <a:pt x="8667" y="42164"/>
                  <a:pt x="0" y="32787"/>
                  <a:pt x="0" y="21516"/>
                </a:cubicBezTo>
                <a:cubicBezTo>
                  <a:pt x="-1" y="10322"/>
                  <a:pt x="8550" y="983"/>
                  <a:pt x="19700" y="-1"/>
                </a:cubicBezTo>
              </a:path>
              <a:path stroke="0" w="21600" h="43049">
                <a:moveTo>
                  <a:pt x="19904" y="43049"/>
                </a:moveTo>
                <a:cubicBezTo>
                  <a:pt x="8667" y="42164"/>
                  <a:pt x="0" y="32787"/>
                  <a:pt x="0" y="21516"/>
                </a:cubicBezTo>
                <a:cubicBezTo>
                  <a:pt x="-1" y="10322"/>
                  <a:pt x="8550" y="983"/>
                  <a:pt x="19700" y="-1"/>
                </a:cubicBezTo>
                <a:lnTo>
                  <a:pt x="21600" y="2151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21"/>
          <p:cNvSpPr/>
          <p:nvPr/>
        </p:nvSpPr>
        <p:spPr>
          <a:xfrm flipV="1" rot="16200000">
            <a:off x="2462760" y="1803240"/>
            <a:ext cx="762120" cy="4316400"/>
          </a:xfrm>
          <a:custGeom>
            <a:avLst/>
            <a:gdLst>
              <a:gd name="textAreaLeft" fmla="*/ 0 w 762120"/>
              <a:gd name="textAreaRight" fmla="*/ 762480 w 762120"/>
              <a:gd name="textAreaTop" fmla="*/ 360 h 4316400"/>
              <a:gd name="textAreaBottom" fmla="*/ 4317120 h 4316400"/>
            </a:gdLst>
            <a:ahLst/>
            <a:rect l="textAreaLeft" t="textAreaTop" r="textAreaRight" b="textAreaBottom"/>
            <a:pathLst>
              <a:path fill="none" w="21600" h="43049">
                <a:moveTo>
                  <a:pt x="19904" y="43049"/>
                </a:moveTo>
                <a:cubicBezTo>
                  <a:pt x="8667" y="42164"/>
                  <a:pt x="0" y="32787"/>
                  <a:pt x="0" y="21516"/>
                </a:cubicBezTo>
                <a:cubicBezTo>
                  <a:pt x="-1" y="10322"/>
                  <a:pt x="8550" y="983"/>
                  <a:pt x="19700" y="-1"/>
                </a:cubicBezTo>
              </a:path>
              <a:path stroke="0" w="21600" h="43049">
                <a:moveTo>
                  <a:pt x="19904" y="43049"/>
                </a:moveTo>
                <a:cubicBezTo>
                  <a:pt x="8667" y="42164"/>
                  <a:pt x="0" y="32787"/>
                  <a:pt x="0" y="21516"/>
                </a:cubicBezTo>
                <a:cubicBezTo>
                  <a:pt x="-1" y="10322"/>
                  <a:pt x="8550" y="983"/>
                  <a:pt x="19700" y="-1"/>
                </a:cubicBezTo>
                <a:lnTo>
                  <a:pt x="21600" y="2151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5"/>
          <p:cNvGrpSpPr/>
          <p:nvPr/>
        </p:nvGrpSpPr>
        <p:grpSpPr>
          <a:xfrm>
            <a:off x="2827440" y="3573360"/>
            <a:ext cx="1363680" cy="1608120"/>
            <a:chOff x="2827440" y="3573360"/>
            <a:chExt cx="1363680" cy="1608120"/>
          </a:xfrm>
        </p:grpSpPr>
        <p:sp>
          <p:nvSpPr>
            <p:cNvPr id="136" name="Oval 25"/>
            <p:cNvSpPr/>
            <p:nvPr/>
          </p:nvSpPr>
          <p:spPr>
            <a:xfrm>
              <a:off x="4114800" y="51055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6"/>
            <p:cNvSpPr/>
            <p:nvPr/>
          </p:nvSpPr>
          <p:spPr>
            <a:xfrm>
              <a:off x="2827440" y="3573360"/>
              <a:ext cx="1311120" cy="1576440"/>
            </a:xfrm>
            <a:custGeom>
              <a:avLst/>
              <a:gdLst>
                <a:gd name="textAreaLeft" fmla="*/ 0 w 1311120"/>
                <a:gd name="textAreaRight" fmla="*/ 1311480 w 1311120"/>
                <a:gd name="textAreaTop" fmla="*/ 0 h 1576440"/>
                <a:gd name="textAreaBottom" fmla="*/ 1576800 h 1576440"/>
              </a:gdLst>
              <a:ahLst/>
              <a:rect l="textAreaLeft" t="textAreaTop" r="textAreaRight" b="textAreaBottom"/>
              <a:pathLst>
                <a:path w="826" h="993">
                  <a:moveTo>
                    <a:pt x="0" y="0"/>
                  </a:moveTo>
                  <a:lnTo>
                    <a:pt x="826" y="9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6"/>
          <p:cNvGrpSpPr/>
          <p:nvPr/>
        </p:nvGrpSpPr>
        <p:grpSpPr>
          <a:xfrm>
            <a:off x="939960" y="2438280"/>
            <a:ext cx="1879560" cy="1143000"/>
            <a:chOff x="939960" y="2438280"/>
            <a:chExt cx="1879560" cy="1143000"/>
          </a:xfrm>
        </p:grpSpPr>
        <p:sp>
          <p:nvSpPr>
            <p:cNvPr id="139" name="Freeform 30"/>
            <p:cNvSpPr/>
            <p:nvPr/>
          </p:nvSpPr>
          <p:spPr>
            <a:xfrm>
              <a:off x="985680" y="2478240"/>
              <a:ext cx="1833840" cy="1103040"/>
            </a:xfrm>
            <a:custGeom>
              <a:avLst/>
              <a:gdLst>
                <a:gd name="textAreaLeft" fmla="*/ 0 w 1833840"/>
                <a:gd name="textAreaRight" fmla="*/ 1834200 w 1833840"/>
                <a:gd name="textAreaTop" fmla="*/ 0 h 1103040"/>
                <a:gd name="textAreaBottom" fmla="*/ 1103400 h 1103040"/>
              </a:gdLst>
              <a:ahLst/>
              <a:rect l="textAreaLeft" t="textAreaTop" r="textAreaRight" b="textAreaBottom"/>
              <a:pathLst>
                <a:path w="1155" h="695">
                  <a:moveTo>
                    <a:pt x="1155" y="69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9"/>
            <p:cNvSpPr/>
            <p:nvPr/>
          </p:nvSpPr>
          <p:spPr>
            <a:xfrm>
              <a:off x="939960" y="24382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Arc 32"/>
          <p:cNvSpPr/>
          <p:nvPr/>
        </p:nvSpPr>
        <p:spPr>
          <a:xfrm>
            <a:off x="2476440" y="1467000"/>
            <a:ext cx="2171880" cy="4311360"/>
          </a:xfrm>
          <a:custGeom>
            <a:avLst/>
            <a:gdLst>
              <a:gd name="textAreaLeft" fmla="*/ 0 w 2171880"/>
              <a:gd name="textAreaRight" fmla="*/ 2172240 w 2171880"/>
              <a:gd name="textAreaTop" fmla="*/ 0 h 4311360"/>
              <a:gd name="textAreaBottom" fmla="*/ 4311360 h 4311360"/>
            </a:gdLst>
            <a:ahLst/>
            <a:rect l="textAreaLeft" t="textAreaTop" r="textAreaRight" b="textAreaBottom"/>
            <a:pathLst>
              <a:path fill="none" w="21600" h="42884">
                <a:moveTo>
                  <a:pt x="2686" y="-1"/>
                </a:moveTo>
                <a:cubicBezTo>
                  <a:pt x="13492" y="1353"/>
                  <a:pt x="21600" y="10541"/>
                  <a:pt x="21600" y="21432"/>
                </a:cubicBezTo>
                <a:cubicBezTo>
                  <a:pt x="21600" y="32385"/>
                  <a:pt x="13401" y="41604"/>
                  <a:pt x="2523" y="42884"/>
                </a:cubicBezTo>
              </a:path>
              <a:path stroke="0" w="21600" h="42884">
                <a:moveTo>
                  <a:pt x="2686" y="-1"/>
                </a:moveTo>
                <a:cubicBezTo>
                  <a:pt x="13492" y="1353"/>
                  <a:pt x="21600" y="10541"/>
                  <a:pt x="21600" y="21432"/>
                </a:cubicBezTo>
                <a:cubicBezTo>
                  <a:pt x="21600" y="32385"/>
                  <a:pt x="13401" y="41604"/>
                  <a:pt x="2523" y="42884"/>
                </a:cubicBezTo>
                <a:lnTo>
                  <a:pt x="0" y="21432"/>
                </a:lnTo>
                <a:close/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4"/>
          <p:cNvGrpSpPr/>
          <p:nvPr/>
        </p:nvGrpSpPr>
        <p:grpSpPr>
          <a:xfrm>
            <a:off x="2819520" y="2438280"/>
            <a:ext cx="1523880" cy="1142640"/>
            <a:chOff x="2819520" y="2438280"/>
            <a:chExt cx="1523880" cy="1142640"/>
          </a:xfrm>
        </p:grpSpPr>
        <p:sp>
          <p:nvSpPr>
            <p:cNvPr id="143" name="Line 23"/>
            <p:cNvSpPr/>
            <p:nvPr/>
          </p:nvSpPr>
          <p:spPr>
            <a:xfrm flipV="1">
              <a:off x="2819520" y="2514240"/>
              <a:ext cx="144756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4"/>
            <p:cNvSpPr/>
            <p:nvPr/>
          </p:nvSpPr>
          <p:spPr>
            <a:xfrm>
              <a:off x="4267080" y="24382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Arc 33"/>
          <p:cNvSpPr/>
          <p:nvPr/>
        </p:nvSpPr>
        <p:spPr>
          <a:xfrm flipH="1">
            <a:off x="1917000" y="1447920"/>
            <a:ext cx="1536840" cy="4346280"/>
          </a:xfrm>
          <a:custGeom>
            <a:avLst/>
            <a:gdLst>
              <a:gd name="textAreaLeft" fmla="*/ -360 w 1536840"/>
              <a:gd name="textAreaRight" fmla="*/ 1536840 w 1536840"/>
              <a:gd name="textAreaTop" fmla="*/ 0 h 4346280"/>
              <a:gd name="textAreaBottom" fmla="*/ 4346640 h 4346280"/>
            </a:gdLst>
            <a:ahLst/>
            <a:rect l="textAreaLeft" t="textAreaTop" r="textAreaRight" b="textAreaBottom"/>
            <a:pathLst>
              <a:path fill="none" w="21600" h="38217">
                <a:moveTo>
                  <a:pt x="10128" y="0"/>
                </a:moveTo>
                <a:cubicBezTo>
                  <a:pt x="17187" y="3747"/>
                  <a:pt x="21600" y="11086"/>
                  <a:pt x="21600" y="19078"/>
                </a:cubicBezTo>
                <a:cubicBezTo>
                  <a:pt x="21600" y="27116"/>
                  <a:pt x="17135" y="-31046"/>
                  <a:pt x="10012" y="-27320"/>
                </a:cubicBezTo>
              </a:path>
              <a:path stroke="0" w="21600" h="38217">
                <a:moveTo>
                  <a:pt x="10128" y="0"/>
                </a:moveTo>
                <a:cubicBezTo>
                  <a:pt x="17187" y="3747"/>
                  <a:pt x="21600" y="11086"/>
                  <a:pt x="21600" y="19078"/>
                </a:cubicBezTo>
                <a:cubicBezTo>
                  <a:pt x="21600" y="27116"/>
                  <a:pt x="17135" y="-31046"/>
                  <a:pt x="10012" y="-27320"/>
                </a:cubicBezTo>
                <a:lnTo>
                  <a:pt x="0" y="19078"/>
                </a:lnTo>
                <a:close/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2"/>
          <p:cNvSpPr/>
          <p:nvPr/>
        </p:nvSpPr>
        <p:spPr>
          <a:xfrm>
            <a:off x="2793960" y="35434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"/>
          <p:cNvSpPr/>
          <p:nvPr/>
        </p:nvSpPr>
        <p:spPr>
          <a:xfrm>
            <a:off x="2896560" y="3352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2217600" y="2166840"/>
            <a:ext cx="609840" cy="1406520"/>
          </a:xfrm>
          <a:custGeom>
            <a:avLst/>
            <a:gdLst>
              <a:gd name="textAreaLeft" fmla="*/ 0 w 609840"/>
              <a:gd name="textAreaRight" fmla="*/ 610200 w 609840"/>
              <a:gd name="textAreaTop" fmla="*/ 0 h 1406520"/>
              <a:gd name="textAreaBottom" fmla="*/ 1406520 h 1406520"/>
            </a:gdLst>
            <a:ahLst/>
            <a:rect l="textAreaLeft" t="textAreaTop" r="textAreaRight" b="textAreaBottom"/>
            <a:pathLst>
              <a:path w="384" h="886">
                <a:moveTo>
                  <a:pt x="0" y="0"/>
                </a:moveTo>
                <a:lnTo>
                  <a:pt x="384" y="88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8"/>
          <p:cNvSpPr/>
          <p:nvPr/>
        </p:nvSpPr>
        <p:spPr>
          <a:xfrm>
            <a:off x="2185920" y="21225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55"/>
          <p:cNvSpPr/>
          <p:nvPr/>
        </p:nvSpPr>
        <p:spPr>
          <a:xfrm>
            <a:off x="3200400" y="5435640"/>
            <a:ext cx="541008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3706920" y="1143000"/>
            <a:ext cx="2160360" cy="2103480"/>
          </a:xfrm>
          <a:prstGeom prst="ellipse">
            <a:avLst/>
          </a:prstGeom>
          <a:gradFill rotWithShape="0">
            <a:gsLst>
              <a:gs pos="0">
                <a:srgbClr val="ffffff">
                  <a:alpha val="33333"/>
                </a:srgbClr>
              </a:gs>
              <a:gs pos="100000">
                <a:srgbClr val="bbe0e3">
                  <a:alpha val="36078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153" name="Freeform 3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40"/>
          <p:cNvSpPr/>
          <p:nvPr/>
        </p:nvSpPr>
        <p:spPr>
          <a:xfrm rot="18699000">
            <a:off x="4712040" y="1561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1"/>
          <p:cNvSpPr/>
          <p:nvPr/>
        </p:nvSpPr>
        <p:spPr>
          <a:xfrm>
            <a:off x="4776840" y="1552680"/>
            <a:ext cx="504720" cy="625320"/>
          </a:xfrm>
          <a:custGeom>
            <a:avLst/>
            <a:gdLst/>
            <a:ahLst/>
            <a:rect l="l" t="t" r="r" b="b"/>
            <a:pathLst>
              <a:path w="318" h="394">
                <a:moveTo>
                  <a:pt x="318" y="0"/>
                </a:moveTo>
                <a:lnTo>
                  <a:pt x="0" y="394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12"/>
          <p:cNvSpPr/>
          <p:nvPr/>
        </p:nvSpPr>
        <p:spPr>
          <a:xfrm flipV="1">
            <a:off x="3708360" y="1790640"/>
            <a:ext cx="2157480" cy="409680"/>
          </a:xfrm>
          <a:custGeom>
            <a:avLst/>
            <a:gdLst>
              <a:gd name="textAreaLeft" fmla="*/ 0 w 2157480"/>
              <a:gd name="textAreaRight" fmla="*/ 2157840 w 2157480"/>
              <a:gd name="textAreaTop" fmla="*/ 360 h 409680"/>
              <a:gd name="textAreaBottom" fmla="*/ 410400 h 409680"/>
            </a:gdLst>
            <a:ahLst/>
            <a:rect l="textAreaLeft" t="textAreaTop" r="textAreaRight" b="textAreaBottom"/>
            <a:pathLst>
              <a:path fill="none" w="43121" h="21600">
                <a:moveTo>
                  <a:pt x="43120" y="1599"/>
                </a:moveTo>
                <a:cubicBezTo>
                  <a:pt x="42282" y="12877"/>
                  <a:pt x="32888" y="21599"/>
                  <a:pt x="21580" y="21600"/>
                </a:cubicBezTo>
                <a:cubicBezTo>
                  <a:pt x="10010" y="21600"/>
                  <a:pt x="494" y="12483"/>
                  <a:pt x="-1" y="924"/>
                </a:cubicBezTo>
              </a:path>
              <a:path stroke="0" w="43121" h="21600">
                <a:moveTo>
                  <a:pt x="43120" y="1599"/>
                </a:moveTo>
                <a:cubicBezTo>
                  <a:pt x="42282" y="12877"/>
                  <a:pt x="32888" y="21599"/>
                  <a:pt x="21580" y="21600"/>
                </a:cubicBezTo>
                <a:cubicBezTo>
                  <a:pt x="10010" y="21600"/>
                  <a:pt x="494" y="12483"/>
                  <a:pt x="-1" y="924"/>
                </a:cubicBezTo>
                <a:lnTo>
                  <a:pt x="21580" y="0"/>
                </a:lnTo>
                <a:close/>
              </a:path>
            </a:pathLst>
          </a:custGeom>
          <a:solidFill>
            <a:srgbClr val="0099ff">
              <a:alpha val="16000"/>
            </a:srgbClr>
          </a:solidFill>
          <a:ln w="12600">
            <a:solidFill>
              <a:srgbClr val="1c1c1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3"/>
          <p:cNvSpPr/>
          <p:nvPr/>
        </p:nvSpPr>
        <p:spPr>
          <a:xfrm>
            <a:off x="3719520" y="2135160"/>
            <a:ext cx="2144880" cy="409680"/>
          </a:xfrm>
          <a:custGeom>
            <a:avLst/>
            <a:gdLst>
              <a:gd name="textAreaLeft" fmla="*/ 0 w 2144880"/>
              <a:gd name="textAreaRight" fmla="*/ 2145240 w 21448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fill="none" w="42859" h="21600">
                <a:moveTo>
                  <a:pt x="-22677" y="2301"/>
                </a:moveTo>
                <a:cubicBezTo>
                  <a:pt x="-23853" y="13276"/>
                  <a:pt x="32420" y="21599"/>
                  <a:pt x="21382" y="21600"/>
                </a:cubicBezTo>
                <a:cubicBezTo>
                  <a:pt x="10635" y="21600"/>
                  <a:pt x="1523" y="13699"/>
                  <a:pt x="0" y="3061"/>
                </a:cubicBezTo>
              </a:path>
              <a:path stroke="0" w="42859" h="21600">
                <a:moveTo>
                  <a:pt x="-22677" y="2301"/>
                </a:moveTo>
                <a:cubicBezTo>
                  <a:pt x="-23853" y="13276"/>
                  <a:pt x="32420" y="21599"/>
                  <a:pt x="21382" y="21600"/>
                </a:cubicBezTo>
                <a:cubicBezTo>
                  <a:pt x="10635" y="21600"/>
                  <a:pt x="1523" y="13699"/>
                  <a:pt x="0" y="3061"/>
                </a:cubicBezTo>
                <a:lnTo>
                  <a:pt x="21382" y="0"/>
                </a:lnTo>
                <a:close/>
              </a:path>
            </a:pathLst>
          </a:custGeom>
          <a:solidFill>
            <a:srgbClr val="0099ff">
              <a:alpha val="16000"/>
            </a:srgbClr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5589360" y="3505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407520" y="5715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8"/>
          <p:cNvSpPr/>
          <p:nvPr/>
        </p:nvSpPr>
        <p:spPr>
          <a:xfrm>
            <a:off x="2489040" y="736560"/>
            <a:ext cx="38160" cy="5054760"/>
          </a:xfrm>
          <a:custGeom>
            <a:avLst/>
            <a:gdLst>
              <a:gd name="textAreaLeft" fmla="*/ 0 w 38160"/>
              <a:gd name="textAreaRight" fmla="*/ 38520 w 38160"/>
              <a:gd name="textAreaTop" fmla="*/ 0 h 5054760"/>
              <a:gd name="textAreaBottom" fmla="*/ 5055120 h 5054760"/>
            </a:gdLst>
            <a:ahLst/>
            <a:rect l="textAreaLeft" t="textAreaTop" r="textAreaRight" b="textAreaBottom"/>
            <a:pathLst>
              <a:path w="24" h="3184">
                <a:moveTo>
                  <a:pt x="0" y="3184"/>
                </a:moveTo>
                <a:lnTo>
                  <a:pt x="2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2008080" y="53352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20"/>
          <p:cNvSpPr/>
          <p:nvPr/>
        </p:nvSpPr>
        <p:spPr>
          <a:xfrm>
            <a:off x="647640" y="3695760"/>
            <a:ext cx="5207040" cy="1440"/>
          </a:xfrm>
          <a:custGeom>
            <a:avLst/>
            <a:gdLst>
              <a:gd name="textAreaLeft" fmla="*/ 0 w 5207040"/>
              <a:gd name="textAreaRight" fmla="*/ 5207400 w 5207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280" h="1">
                <a:moveTo>
                  <a:pt x="0" y="0"/>
                </a:moveTo>
                <a:lnTo>
                  <a:pt x="328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 rot="16200000">
            <a:off x="162360" y="33361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I       I        I                   I        I        I         I        I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 rot="18766800">
            <a:off x="-294840" y="425052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I        I        I        I       I        I                I       I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3"/>
          <p:cNvSpPr/>
          <p:nvPr/>
        </p:nvSpPr>
        <p:spPr>
          <a:xfrm>
            <a:off x="276120" y="2635200"/>
            <a:ext cx="3176640" cy="3476520"/>
          </a:xfrm>
          <a:custGeom>
            <a:avLst/>
            <a:gdLst>
              <a:gd name="textAreaLeft" fmla="*/ 0 w 3176640"/>
              <a:gd name="textAreaRight" fmla="*/ 3177000 w 3176640"/>
              <a:gd name="textAreaTop" fmla="*/ 0 h 3476520"/>
              <a:gd name="textAreaBottom" fmla="*/ 3476880 h 3476520"/>
            </a:gdLst>
            <a:ahLst/>
            <a:rect l="textAreaLeft" t="textAreaTop" r="textAreaRight" b="textAreaBottom"/>
            <a:pathLst>
              <a:path w="2001" h="2190">
                <a:moveTo>
                  <a:pt x="2001" y="0"/>
                </a:moveTo>
                <a:lnTo>
                  <a:pt x="0" y="219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534960" y="15228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авне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фе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5"/>
          <p:cNvGrpSpPr/>
          <p:nvPr/>
        </p:nvGrpSpPr>
        <p:grpSpPr>
          <a:xfrm>
            <a:off x="2896920" y="228600"/>
            <a:ext cx="5577120" cy="648720"/>
            <a:chOff x="2896920" y="228600"/>
            <a:chExt cx="5577120" cy="648720"/>
          </a:xfrm>
        </p:grpSpPr>
        <p:sp>
          <p:nvSpPr>
            <p:cNvPr id="175" name="Rectangle 27"/>
            <p:cNvSpPr/>
            <p:nvPr/>
          </p:nvSpPr>
          <p:spPr>
            <a:xfrm>
              <a:off x="4060800" y="228600"/>
              <a:ext cx="4413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–x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+(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y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–y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+(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z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–z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8"/>
            <p:cNvSpPr/>
            <p:nvPr/>
          </p:nvSpPr>
          <p:spPr>
            <a:xfrm>
              <a:off x="3943440" y="266760"/>
              <a:ext cx="4356000" cy="457200"/>
            </a:xfrm>
            <a:custGeom>
              <a:avLst/>
              <a:gdLst>
                <a:gd name="textAreaLeft" fmla="*/ 0 w 4356000"/>
                <a:gd name="textAreaRight" fmla="*/ 4356360 w 4356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44" h="288">
                  <a:moveTo>
                    <a:pt x="0" y="108"/>
                  </a:moveTo>
                  <a:lnTo>
                    <a:pt x="36" y="90"/>
                  </a:lnTo>
                  <a:lnTo>
                    <a:pt x="60" y="288"/>
                  </a:lnTo>
                  <a:lnTo>
                    <a:pt x="101" y="24"/>
                  </a:lnTo>
                  <a:lnTo>
                    <a:pt x="274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31"/>
            <p:cNvSpPr/>
            <p:nvPr/>
          </p:nvSpPr>
          <p:spPr>
            <a:xfrm>
              <a:off x="2896920" y="242640"/>
              <a:ext cx="108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B =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Oval 36"/>
          <p:cNvSpPr/>
          <p:nvPr/>
        </p:nvSpPr>
        <p:spPr>
          <a:xfrm rot="375600">
            <a:off x="4749840" y="2133720"/>
            <a:ext cx="73080" cy="73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53"/>
          <p:cNvGrpSpPr/>
          <p:nvPr/>
        </p:nvGrpSpPr>
        <p:grpSpPr>
          <a:xfrm>
            <a:off x="4756320" y="1155600"/>
            <a:ext cx="1720800" cy="2082960"/>
            <a:chOff x="4756320" y="1155600"/>
            <a:chExt cx="1720800" cy="2082960"/>
          </a:xfrm>
        </p:grpSpPr>
        <p:sp>
          <p:nvSpPr>
            <p:cNvPr id="180" name="Arc 37"/>
            <p:cNvSpPr/>
            <p:nvPr/>
          </p:nvSpPr>
          <p:spPr>
            <a:xfrm>
              <a:off x="4756320" y="1155600"/>
              <a:ext cx="693720" cy="208296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2082960"/>
                <a:gd name="textAreaBottom" fmla="*/ 2083320 h 2082960"/>
              </a:gdLst>
              <a:ahLst/>
              <a:rect l="textAreaLeft" t="textAreaTop" r="textAreaRight" b="textAreaBottom"/>
              <a:pathLst>
                <a:path fill="none" w="21849" h="43200">
                  <a:moveTo>
                    <a:pt x="248" y="0"/>
                  </a:moveTo>
                  <a:cubicBezTo>
                    <a:pt x="12178" y="0"/>
                    <a:pt x="21849" y="9670"/>
                    <a:pt x="21849" y="21600"/>
                  </a:cubicBezTo>
                  <a:cubicBezTo>
                    <a:pt x="21849" y="-32007"/>
                    <a:pt x="12178" y="-22336"/>
                    <a:pt x="249" y="-22336"/>
                  </a:cubicBezTo>
                  <a:cubicBezTo>
                    <a:pt x="165" y="-22336"/>
                    <a:pt x="82" y="-22337"/>
                    <a:pt x="0" y="-22338"/>
                  </a:cubicBezTo>
                </a:path>
                <a:path stroke="0" w="21849" h="43200">
                  <a:moveTo>
                    <a:pt x="248" y="0"/>
                  </a:moveTo>
                  <a:cubicBezTo>
                    <a:pt x="12178" y="0"/>
                    <a:pt x="21849" y="9670"/>
                    <a:pt x="21849" y="21600"/>
                  </a:cubicBezTo>
                  <a:cubicBezTo>
                    <a:pt x="21849" y="-32007"/>
                    <a:pt x="12178" y="-22336"/>
                    <a:pt x="249" y="-22336"/>
                  </a:cubicBezTo>
                  <a:cubicBezTo>
                    <a:pt x="165" y="-22336"/>
                    <a:pt x="82" y="-22337"/>
                    <a:pt x="0" y="-22338"/>
                  </a:cubicBezTo>
                  <a:lnTo>
                    <a:pt x="249" y="2160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5"/>
            <p:cNvSpPr/>
            <p:nvPr/>
          </p:nvSpPr>
          <p:spPr>
            <a:xfrm rot="375600">
              <a:off x="5257800" y="1523880"/>
              <a:ext cx="73080" cy="73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8"/>
            <p:cNvSpPr/>
            <p:nvPr/>
          </p:nvSpPr>
          <p:spPr>
            <a:xfrm>
              <a:off x="525780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M(x;y;z</a:t>
              </a:r>
              <a:r>
                <a:rPr b="1" lang="ru-RU" sz="20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39"/>
          <p:cNvSpPr/>
          <p:nvPr/>
        </p:nvSpPr>
        <p:spPr>
          <a:xfrm>
            <a:off x="4127400" y="2095560"/>
            <a:ext cx="144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(x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;y</a:t>
            </a:r>
            <a:r>
              <a:rPr b="1" lang="en-US" sz="1800" spc="-1" strike="noStrike" baseline="-25000">
                <a:solidFill>
                  <a:srgbClr val="0066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;z</a:t>
            </a:r>
            <a:r>
              <a:rPr b="1" lang="en-US" sz="1800" spc="-1" strike="noStrike" baseline="-25000">
                <a:solidFill>
                  <a:srgbClr val="0066ff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50"/>
          <p:cNvGrpSpPr/>
          <p:nvPr/>
        </p:nvGrpSpPr>
        <p:grpSpPr>
          <a:xfrm>
            <a:off x="4235400" y="4648320"/>
            <a:ext cx="4530600" cy="648720"/>
            <a:chOff x="4235400" y="4648320"/>
            <a:chExt cx="4530600" cy="648720"/>
          </a:xfrm>
        </p:grpSpPr>
        <p:sp>
          <p:nvSpPr>
            <p:cNvPr id="185" name="Rectangle 42"/>
            <p:cNvSpPr/>
            <p:nvPr/>
          </p:nvSpPr>
          <p:spPr>
            <a:xfrm>
              <a:off x="4352760" y="4648320"/>
              <a:ext cx="4413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–x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+(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y–y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+(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z–z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3"/>
            <p:cNvSpPr/>
            <p:nvPr/>
          </p:nvSpPr>
          <p:spPr>
            <a:xfrm>
              <a:off x="4235400" y="4686480"/>
              <a:ext cx="4057560" cy="457200"/>
            </a:xfrm>
            <a:custGeom>
              <a:avLst/>
              <a:gdLst>
                <a:gd name="textAreaLeft" fmla="*/ 0 w 4057560"/>
                <a:gd name="textAreaRight" fmla="*/ 4057920 w 4057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44" h="288">
                  <a:moveTo>
                    <a:pt x="0" y="108"/>
                  </a:moveTo>
                  <a:lnTo>
                    <a:pt x="36" y="90"/>
                  </a:lnTo>
                  <a:lnTo>
                    <a:pt x="60" y="288"/>
                  </a:lnTo>
                  <a:lnTo>
                    <a:pt x="101" y="24"/>
                  </a:lnTo>
                  <a:lnTo>
                    <a:pt x="274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44"/>
          <p:cNvSpPr/>
          <p:nvPr/>
        </p:nvSpPr>
        <p:spPr>
          <a:xfrm>
            <a:off x="3125520" y="466236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CM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52"/>
          <p:cNvGrpSpPr/>
          <p:nvPr/>
        </p:nvGrpSpPr>
        <p:grpSpPr>
          <a:xfrm>
            <a:off x="3196080" y="5410080"/>
            <a:ext cx="5417640" cy="648720"/>
            <a:chOff x="3196080" y="5410080"/>
            <a:chExt cx="5417640" cy="648720"/>
          </a:xfrm>
        </p:grpSpPr>
        <p:sp>
          <p:nvSpPr>
            <p:cNvPr id="189" name="Rectangle 47"/>
            <p:cNvSpPr/>
            <p:nvPr/>
          </p:nvSpPr>
          <p:spPr>
            <a:xfrm>
              <a:off x="4200480" y="5410080"/>
              <a:ext cx="4413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–x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+(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y–y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+(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z–z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9"/>
            <p:cNvSpPr/>
            <p:nvPr/>
          </p:nvSpPr>
          <p:spPr>
            <a:xfrm>
              <a:off x="3196080" y="5448240"/>
              <a:ext cx="123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R</a:t>
              </a:r>
              <a:r>
                <a:rPr b="1" lang="ru-RU" sz="32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=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51"/>
          <p:cNvSpPr/>
          <p:nvPr/>
        </p:nvSpPr>
        <p:spPr>
          <a:xfrm>
            <a:off x="3188160" y="4660920"/>
            <a:ext cx="11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R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2"/>
          <p:cNvSpPr/>
          <p:nvPr/>
        </p:nvSpPr>
        <p:spPr>
          <a:xfrm>
            <a:off x="228600" y="4200480"/>
            <a:ext cx="4356000" cy="638280"/>
          </a:xfrm>
          <a:custGeom>
            <a:avLst/>
            <a:gdLst>
              <a:gd name="textAreaLeft" fmla="*/ 0 w 4356000"/>
              <a:gd name="textAreaRight" fmla="*/ 4356360 w 435600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2744" h="402">
                <a:moveTo>
                  <a:pt x="387" y="0"/>
                </a:moveTo>
                <a:lnTo>
                  <a:pt x="2744" y="15"/>
                </a:lnTo>
                <a:lnTo>
                  <a:pt x="2300" y="402"/>
                </a:lnTo>
                <a:lnTo>
                  <a:pt x="0" y="402"/>
                </a:lnTo>
                <a:lnTo>
                  <a:pt x="387" y="0"/>
                </a:lnTo>
                <a:close/>
              </a:path>
            </a:pathLst>
          </a:custGeom>
          <a:solidFill>
            <a:srgbClr val="ff0066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194" name="Freeform 4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6"/>
          <p:cNvGrpSpPr/>
          <p:nvPr/>
        </p:nvGrpSpPr>
        <p:grpSpPr>
          <a:xfrm>
            <a:off x="952560" y="1549440"/>
            <a:ext cx="2895480" cy="2971800"/>
            <a:chOff x="952560" y="1549440"/>
            <a:chExt cx="2895480" cy="2971800"/>
          </a:xfrm>
        </p:grpSpPr>
        <p:sp>
          <p:nvSpPr>
            <p:cNvPr id="203" name="Oval 12"/>
            <p:cNvSpPr/>
            <p:nvPr/>
          </p:nvSpPr>
          <p:spPr>
            <a:xfrm>
              <a:off x="952560" y="1549440"/>
              <a:ext cx="2895480" cy="2971800"/>
            </a:xfrm>
            <a:prstGeom prst="ellipse">
              <a:avLst/>
            </a:prstGeom>
            <a:noFill/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3"/>
            <p:cNvGrpSpPr/>
            <p:nvPr/>
          </p:nvGrpSpPr>
          <p:grpSpPr>
            <a:xfrm>
              <a:off x="954720" y="2642400"/>
              <a:ext cx="2890440" cy="749160"/>
              <a:chOff x="954720" y="2642400"/>
              <a:chExt cx="2890440" cy="749160"/>
            </a:xfrm>
          </p:grpSpPr>
          <p:sp>
            <p:nvSpPr>
              <p:cNvPr id="205" name="Arc 14"/>
              <p:cNvSpPr/>
              <p:nvPr/>
            </p:nvSpPr>
            <p:spPr>
              <a:xfrm flipV="1">
                <a:off x="954720" y="2642040"/>
                <a:ext cx="2890440" cy="406800"/>
              </a:xfrm>
              <a:custGeom>
                <a:avLst/>
                <a:gdLst>
                  <a:gd name="textAreaLeft" fmla="*/ 0 w 2890440"/>
                  <a:gd name="textAreaRight" fmla="*/ 2890800 w 2890440"/>
                  <a:gd name="textAreaTop" fmla="*/ 360 h 406800"/>
                  <a:gd name="textAreaBottom" fmla="*/ 407520 h 406800"/>
                </a:gdLst>
                <a:ahLst/>
                <a:rect l="textAreaLeft" t="textAreaTop" r="textAreaRight" b="textAreaBottom"/>
                <a:pathLst>
                  <a:path fill="none" w="43121" h="21600">
                    <a:moveTo>
                      <a:pt x="43120" y="1599"/>
                    </a:moveTo>
                    <a:cubicBezTo>
                      <a:pt x="42282" y="12877"/>
                      <a:pt x="32888" y="21599"/>
                      <a:pt x="21580" y="21600"/>
                    </a:cubicBezTo>
                    <a:cubicBezTo>
                      <a:pt x="10010" y="21600"/>
                      <a:pt x="494" y="12483"/>
                      <a:pt x="-1" y="924"/>
                    </a:cubicBezTo>
                  </a:path>
                  <a:path stroke="0" w="43121" h="21600">
                    <a:moveTo>
                      <a:pt x="43120" y="1599"/>
                    </a:moveTo>
                    <a:cubicBezTo>
                      <a:pt x="42282" y="12877"/>
                      <a:pt x="32888" y="21599"/>
                      <a:pt x="21580" y="21600"/>
                    </a:cubicBezTo>
                    <a:cubicBezTo>
                      <a:pt x="10010" y="21600"/>
                      <a:pt x="494" y="12483"/>
                      <a:pt x="-1" y="924"/>
                    </a:cubicBezTo>
                    <a:lnTo>
                      <a:pt x="21580" y="0"/>
                    </a:lnTo>
                    <a:close/>
                  </a:path>
                </a:pathLst>
              </a:custGeom>
              <a:noFill/>
              <a:ln w="19080">
                <a:solidFill>
                  <a:srgbClr val="1c1c1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rc 15"/>
              <p:cNvSpPr/>
              <p:nvPr/>
            </p:nvSpPr>
            <p:spPr>
              <a:xfrm>
                <a:off x="968760" y="2984760"/>
                <a:ext cx="2873880" cy="406800"/>
              </a:xfrm>
              <a:custGeom>
                <a:avLst/>
                <a:gdLst>
                  <a:gd name="textAreaLeft" fmla="*/ 0 w 2873880"/>
                  <a:gd name="textAreaRight" fmla="*/ 2874240 w 2873880"/>
                  <a:gd name="textAreaTop" fmla="*/ 0 h 406800"/>
                  <a:gd name="textAreaBottom" fmla="*/ 407160 h 406800"/>
                </a:gdLst>
                <a:ahLst/>
                <a:rect l="textAreaLeft" t="textAreaTop" r="textAreaRight" b="textAreaBottom"/>
                <a:pathLst>
                  <a:path fill="none" w="42859" h="21600">
                    <a:moveTo>
                      <a:pt x="-22677" y="2301"/>
                    </a:moveTo>
                    <a:cubicBezTo>
                      <a:pt x="-23853" y="13276"/>
                      <a:pt x="32420" y="21599"/>
                      <a:pt x="21382" y="21600"/>
                    </a:cubicBezTo>
                    <a:cubicBezTo>
                      <a:pt x="10635" y="21600"/>
                      <a:pt x="1523" y="13699"/>
                      <a:pt x="0" y="3061"/>
                    </a:cubicBezTo>
                  </a:path>
                  <a:path stroke="0" w="42859" h="21600">
                    <a:moveTo>
                      <a:pt x="-22677" y="2301"/>
                    </a:moveTo>
                    <a:cubicBezTo>
                      <a:pt x="-23853" y="13276"/>
                      <a:pt x="32420" y="21599"/>
                      <a:pt x="21382" y="21600"/>
                    </a:cubicBezTo>
                    <a:cubicBezTo>
                      <a:pt x="10635" y="21600"/>
                      <a:pt x="1523" y="13699"/>
                      <a:pt x="0" y="3061"/>
                    </a:cubicBezTo>
                    <a:lnTo>
                      <a:pt x="21382" y="0"/>
                    </a:lnTo>
                    <a:close/>
                  </a:path>
                </a:pathLst>
              </a:custGeom>
              <a:noFill/>
              <a:ln w="1908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Oval 17"/>
            <p:cNvSpPr/>
            <p:nvPr/>
          </p:nvSpPr>
          <p:spPr>
            <a:xfrm rot="375600">
              <a:off x="2347560" y="2930760"/>
              <a:ext cx="97920" cy="102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"/>
            <p:cNvSpPr/>
            <p:nvPr/>
          </p:nvSpPr>
          <p:spPr>
            <a:xfrm>
              <a:off x="952560" y="1549440"/>
              <a:ext cx="2895480" cy="2971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6078"/>
                  </a:srgbClr>
                </a:gs>
                <a:gs pos="100000">
                  <a:srgbClr val="bbe0e3">
                    <a:alpha val="5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25"/>
          <p:cNvSpPr/>
          <p:nvPr/>
        </p:nvSpPr>
        <p:spPr>
          <a:xfrm>
            <a:off x="4191120" y="68580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Взаимное расположение сферы и плоскости при условии??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4458960" y="43434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1258560" y="5562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29"/>
          <p:cNvSpPr/>
          <p:nvPr/>
        </p:nvSpPr>
        <p:spPr>
          <a:xfrm>
            <a:off x="2374920" y="914400"/>
            <a:ext cx="38160" cy="5054760"/>
          </a:xfrm>
          <a:custGeom>
            <a:avLst/>
            <a:gdLst>
              <a:gd name="textAreaLeft" fmla="*/ 0 w 38160"/>
              <a:gd name="textAreaRight" fmla="*/ 38520 w 38160"/>
              <a:gd name="textAreaTop" fmla="*/ 0 h 5054760"/>
              <a:gd name="textAreaBottom" fmla="*/ 5055120 h 5054760"/>
            </a:gdLst>
            <a:ahLst/>
            <a:rect l="textAreaLeft" t="textAreaTop" r="textAreaRight" b="textAreaBottom"/>
            <a:pathLst>
              <a:path w="24" h="3184">
                <a:moveTo>
                  <a:pt x="0" y="3184"/>
                </a:moveTo>
                <a:lnTo>
                  <a:pt x="2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1982520" y="68580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1"/>
          <p:cNvSpPr/>
          <p:nvPr/>
        </p:nvSpPr>
        <p:spPr>
          <a:xfrm>
            <a:off x="533520" y="4483080"/>
            <a:ext cx="4273560" cy="50760"/>
          </a:xfrm>
          <a:custGeom>
            <a:avLst/>
            <a:gdLst>
              <a:gd name="textAreaLeft" fmla="*/ 0 w 4273560"/>
              <a:gd name="textAreaRight" fmla="*/ 4273920 w 42735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692" h="32">
                <a:moveTo>
                  <a:pt x="0" y="32"/>
                </a:moveTo>
                <a:lnTo>
                  <a:pt x="269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2"/>
          <p:cNvSpPr/>
          <p:nvPr/>
        </p:nvSpPr>
        <p:spPr>
          <a:xfrm>
            <a:off x="1244520" y="3473280"/>
            <a:ext cx="2094120" cy="2297160"/>
          </a:xfrm>
          <a:custGeom>
            <a:avLst/>
            <a:gdLst>
              <a:gd name="textAreaLeft" fmla="*/ 0 w 2094120"/>
              <a:gd name="textAreaRight" fmla="*/ 2094120 w 2094120"/>
              <a:gd name="textAreaTop" fmla="*/ 0 h 2297160"/>
              <a:gd name="textAreaBottom" fmla="*/ 2297520 h 2297160"/>
            </a:gdLst>
            <a:ahLst/>
            <a:rect l="textAreaLeft" t="textAreaTop" r="textAreaRight" b="textAreaBottom"/>
            <a:pathLst>
              <a:path w="1319" h="1447">
                <a:moveTo>
                  <a:pt x="1319" y="0"/>
                </a:moveTo>
                <a:lnTo>
                  <a:pt x="0" y="14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2"/>
          <p:cNvGrpSpPr/>
          <p:nvPr/>
        </p:nvGrpSpPr>
        <p:grpSpPr>
          <a:xfrm>
            <a:off x="2121840" y="4089240"/>
            <a:ext cx="418320" cy="461160"/>
            <a:chOff x="2121840" y="4089240"/>
            <a:chExt cx="418320" cy="461160"/>
          </a:xfrm>
        </p:grpSpPr>
        <p:sp>
          <p:nvSpPr>
            <p:cNvPr id="217" name="Text Box 23"/>
            <p:cNvSpPr/>
            <p:nvPr/>
          </p:nvSpPr>
          <p:spPr>
            <a:xfrm>
              <a:off x="2121840" y="40892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4"/>
            <p:cNvSpPr/>
            <p:nvPr/>
          </p:nvSpPr>
          <p:spPr>
            <a:xfrm rot="375600">
              <a:off x="2349000" y="4470480"/>
              <a:ext cx="77760" cy="75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6"/>
          <p:cNvSpPr/>
          <p:nvPr/>
        </p:nvSpPr>
        <p:spPr>
          <a:xfrm>
            <a:off x="2389680" y="265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2"/>
          <p:cNvSpPr/>
          <p:nvPr/>
        </p:nvSpPr>
        <p:spPr>
          <a:xfrm>
            <a:off x="228600" y="4200480"/>
            <a:ext cx="4356000" cy="638280"/>
          </a:xfrm>
          <a:custGeom>
            <a:avLst/>
            <a:gdLst>
              <a:gd name="textAreaLeft" fmla="*/ 0 w 4356000"/>
              <a:gd name="textAreaRight" fmla="*/ 4356360 w 435600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2744" h="402">
                <a:moveTo>
                  <a:pt x="387" y="0"/>
                </a:moveTo>
                <a:lnTo>
                  <a:pt x="2744" y="15"/>
                </a:lnTo>
                <a:lnTo>
                  <a:pt x="2300" y="402"/>
                </a:lnTo>
                <a:lnTo>
                  <a:pt x="0" y="402"/>
                </a:lnTo>
                <a:lnTo>
                  <a:pt x="387" y="0"/>
                </a:lnTo>
                <a:close/>
              </a:path>
            </a:pathLst>
          </a:custGeom>
          <a:solidFill>
            <a:srgbClr val="ff0066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222" name="Freeform 4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3"/>
          <p:cNvGrpSpPr/>
          <p:nvPr/>
        </p:nvGrpSpPr>
        <p:grpSpPr>
          <a:xfrm>
            <a:off x="965160" y="914400"/>
            <a:ext cx="2895480" cy="2971800"/>
            <a:chOff x="965160" y="914400"/>
            <a:chExt cx="2895480" cy="2971800"/>
          </a:xfrm>
        </p:grpSpPr>
        <p:sp>
          <p:nvSpPr>
            <p:cNvPr id="231" name="Oval 14"/>
            <p:cNvSpPr/>
            <p:nvPr/>
          </p:nvSpPr>
          <p:spPr>
            <a:xfrm>
              <a:off x="965160" y="914400"/>
              <a:ext cx="2895480" cy="2971800"/>
            </a:xfrm>
            <a:prstGeom prst="ellipse">
              <a:avLst/>
            </a:prstGeom>
            <a:noFill/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15"/>
            <p:cNvGrpSpPr/>
            <p:nvPr/>
          </p:nvGrpSpPr>
          <p:grpSpPr>
            <a:xfrm>
              <a:off x="967320" y="2007360"/>
              <a:ext cx="2890440" cy="749160"/>
              <a:chOff x="967320" y="2007360"/>
              <a:chExt cx="2890440" cy="749160"/>
            </a:xfrm>
          </p:grpSpPr>
          <p:sp>
            <p:nvSpPr>
              <p:cNvPr id="233" name="Arc 16"/>
              <p:cNvSpPr/>
              <p:nvPr/>
            </p:nvSpPr>
            <p:spPr>
              <a:xfrm flipV="1">
                <a:off x="967320" y="2007000"/>
                <a:ext cx="2890440" cy="406800"/>
              </a:xfrm>
              <a:custGeom>
                <a:avLst/>
                <a:gdLst>
                  <a:gd name="textAreaLeft" fmla="*/ 0 w 2890440"/>
                  <a:gd name="textAreaRight" fmla="*/ 2890800 w 2890440"/>
                  <a:gd name="textAreaTop" fmla="*/ 360 h 406800"/>
                  <a:gd name="textAreaBottom" fmla="*/ 407520 h 406800"/>
                </a:gdLst>
                <a:ahLst/>
                <a:rect l="textAreaLeft" t="textAreaTop" r="textAreaRight" b="textAreaBottom"/>
                <a:pathLst>
                  <a:path fill="none" w="43121" h="21600">
                    <a:moveTo>
                      <a:pt x="43120" y="1599"/>
                    </a:moveTo>
                    <a:cubicBezTo>
                      <a:pt x="42282" y="12877"/>
                      <a:pt x="32888" y="21599"/>
                      <a:pt x="21580" y="21600"/>
                    </a:cubicBezTo>
                    <a:cubicBezTo>
                      <a:pt x="10010" y="21600"/>
                      <a:pt x="494" y="12483"/>
                      <a:pt x="-1" y="924"/>
                    </a:cubicBezTo>
                  </a:path>
                  <a:path stroke="0" w="43121" h="21600">
                    <a:moveTo>
                      <a:pt x="43120" y="1599"/>
                    </a:moveTo>
                    <a:cubicBezTo>
                      <a:pt x="42282" y="12877"/>
                      <a:pt x="32888" y="21599"/>
                      <a:pt x="21580" y="21600"/>
                    </a:cubicBezTo>
                    <a:cubicBezTo>
                      <a:pt x="10010" y="21600"/>
                      <a:pt x="494" y="12483"/>
                      <a:pt x="-1" y="924"/>
                    </a:cubicBezTo>
                    <a:lnTo>
                      <a:pt x="21580" y="0"/>
                    </a:lnTo>
                    <a:close/>
                  </a:path>
                </a:pathLst>
              </a:custGeom>
              <a:noFill/>
              <a:ln w="19080">
                <a:solidFill>
                  <a:srgbClr val="1c1c1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rc 17"/>
              <p:cNvSpPr/>
              <p:nvPr/>
            </p:nvSpPr>
            <p:spPr>
              <a:xfrm>
                <a:off x="981360" y="2349720"/>
                <a:ext cx="2873880" cy="406800"/>
              </a:xfrm>
              <a:custGeom>
                <a:avLst/>
                <a:gdLst>
                  <a:gd name="textAreaLeft" fmla="*/ 0 w 2873880"/>
                  <a:gd name="textAreaRight" fmla="*/ 2874240 w 2873880"/>
                  <a:gd name="textAreaTop" fmla="*/ 0 h 406800"/>
                  <a:gd name="textAreaBottom" fmla="*/ 407160 h 406800"/>
                </a:gdLst>
                <a:ahLst/>
                <a:rect l="textAreaLeft" t="textAreaTop" r="textAreaRight" b="textAreaBottom"/>
                <a:pathLst>
                  <a:path fill="none" w="42859" h="21600">
                    <a:moveTo>
                      <a:pt x="-22677" y="2301"/>
                    </a:moveTo>
                    <a:cubicBezTo>
                      <a:pt x="-23853" y="13276"/>
                      <a:pt x="32420" y="21599"/>
                      <a:pt x="21382" y="21600"/>
                    </a:cubicBezTo>
                    <a:cubicBezTo>
                      <a:pt x="10635" y="21600"/>
                      <a:pt x="1523" y="13699"/>
                      <a:pt x="0" y="3061"/>
                    </a:cubicBezTo>
                  </a:path>
                  <a:path stroke="0" w="42859" h="21600">
                    <a:moveTo>
                      <a:pt x="-22677" y="2301"/>
                    </a:moveTo>
                    <a:cubicBezTo>
                      <a:pt x="-23853" y="13276"/>
                      <a:pt x="32420" y="21599"/>
                      <a:pt x="21382" y="21600"/>
                    </a:cubicBezTo>
                    <a:cubicBezTo>
                      <a:pt x="10635" y="21600"/>
                      <a:pt x="1523" y="13699"/>
                      <a:pt x="0" y="3061"/>
                    </a:cubicBezTo>
                    <a:lnTo>
                      <a:pt x="21382" y="0"/>
                    </a:lnTo>
                    <a:close/>
                  </a:path>
                </a:pathLst>
              </a:custGeom>
              <a:noFill/>
              <a:ln w="1908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Oval 18"/>
            <p:cNvSpPr/>
            <p:nvPr/>
          </p:nvSpPr>
          <p:spPr>
            <a:xfrm rot="375600">
              <a:off x="2360160" y="2295720"/>
              <a:ext cx="97920" cy="102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9"/>
            <p:cNvSpPr/>
            <p:nvPr/>
          </p:nvSpPr>
          <p:spPr>
            <a:xfrm>
              <a:off x="965160" y="914400"/>
              <a:ext cx="2895480" cy="2971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6078"/>
                  </a:srgbClr>
                </a:gs>
                <a:gs pos="100000">
                  <a:srgbClr val="bbe0e3">
                    <a:alpha val="5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20"/>
          <p:cNvSpPr/>
          <p:nvPr/>
        </p:nvSpPr>
        <p:spPr>
          <a:xfrm>
            <a:off x="4191120" y="68580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Взаимное расположение сферы и плоскости при условии??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4458960" y="43434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1258560" y="5562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23"/>
          <p:cNvSpPr/>
          <p:nvPr/>
        </p:nvSpPr>
        <p:spPr>
          <a:xfrm>
            <a:off x="2374920" y="914400"/>
            <a:ext cx="38160" cy="5054760"/>
          </a:xfrm>
          <a:custGeom>
            <a:avLst/>
            <a:gdLst>
              <a:gd name="textAreaLeft" fmla="*/ 0 w 38160"/>
              <a:gd name="textAreaRight" fmla="*/ 38520 w 38160"/>
              <a:gd name="textAreaTop" fmla="*/ 0 h 5054760"/>
              <a:gd name="textAreaBottom" fmla="*/ 5055120 h 5054760"/>
            </a:gdLst>
            <a:ahLst/>
            <a:rect l="textAreaLeft" t="textAreaTop" r="textAreaRight" b="textAreaBottom"/>
            <a:pathLst>
              <a:path w="24" h="3184">
                <a:moveTo>
                  <a:pt x="0" y="3184"/>
                </a:moveTo>
                <a:lnTo>
                  <a:pt x="2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1982520" y="38088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5"/>
          <p:cNvSpPr/>
          <p:nvPr/>
        </p:nvSpPr>
        <p:spPr>
          <a:xfrm>
            <a:off x="533520" y="4483080"/>
            <a:ext cx="4273560" cy="50760"/>
          </a:xfrm>
          <a:custGeom>
            <a:avLst/>
            <a:gdLst>
              <a:gd name="textAreaLeft" fmla="*/ 0 w 4273560"/>
              <a:gd name="textAreaRight" fmla="*/ 4273920 w 42735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692" h="32">
                <a:moveTo>
                  <a:pt x="0" y="32"/>
                </a:moveTo>
                <a:lnTo>
                  <a:pt x="269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26"/>
          <p:cNvSpPr/>
          <p:nvPr/>
        </p:nvSpPr>
        <p:spPr>
          <a:xfrm>
            <a:off x="1244520" y="3473280"/>
            <a:ext cx="2094120" cy="2297160"/>
          </a:xfrm>
          <a:custGeom>
            <a:avLst/>
            <a:gdLst>
              <a:gd name="textAreaLeft" fmla="*/ 0 w 2094120"/>
              <a:gd name="textAreaRight" fmla="*/ 2094120 w 2094120"/>
              <a:gd name="textAreaTop" fmla="*/ 0 h 2297160"/>
              <a:gd name="textAreaBottom" fmla="*/ 2297520 h 2297160"/>
            </a:gdLst>
            <a:ahLst/>
            <a:rect l="textAreaLeft" t="textAreaTop" r="textAreaRight" b="textAreaBottom"/>
            <a:pathLst>
              <a:path w="1319" h="1447">
                <a:moveTo>
                  <a:pt x="1319" y="0"/>
                </a:moveTo>
                <a:lnTo>
                  <a:pt x="0" y="14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7"/>
          <p:cNvGrpSpPr/>
          <p:nvPr/>
        </p:nvGrpSpPr>
        <p:grpSpPr>
          <a:xfrm>
            <a:off x="2121840" y="4089240"/>
            <a:ext cx="418320" cy="461160"/>
            <a:chOff x="2121840" y="4089240"/>
            <a:chExt cx="418320" cy="461160"/>
          </a:xfrm>
        </p:grpSpPr>
        <p:sp>
          <p:nvSpPr>
            <p:cNvPr id="245" name="Text Box 28"/>
            <p:cNvSpPr/>
            <p:nvPr/>
          </p:nvSpPr>
          <p:spPr>
            <a:xfrm>
              <a:off x="2121840" y="40892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9"/>
            <p:cNvSpPr/>
            <p:nvPr/>
          </p:nvSpPr>
          <p:spPr>
            <a:xfrm rot="375600">
              <a:off x="2349000" y="4470480"/>
              <a:ext cx="77760" cy="75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12"/>
          <p:cNvSpPr/>
          <p:nvPr/>
        </p:nvSpPr>
        <p:spPr>
          <a:xfrm>
            <a:off x="2402640" y="2019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33"/>
          <p:cNvSpPr/>
          <p:nvPr/>
        </p:nvSpPr>
        <p:spPr>
          <a:xfrm>
            <a:off x="917640" y="4191120"/>
            <a:ext cx="4422600" cy="309600"/>
          </a:xfrm>
          <a:custGeom>
            <a:avLst/>
            <a:gdLst>
              <a:gd name="textAreaLeft" fmla="*/ 0 w 4422600"/>
              <a:gd name="textAreaRight" fmla="*/ 4422600 w 442260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2786" h="195">
                <a:moveTo>
                  <a:pt x="2350" y="192"/>
                </a:moveTo>
                <a:lnTo>
                  <a:pt x="1808" y="190"/>
                </a:lnTo>
                <a:lnTo>
                  <a:pt x="1778" y="172"/>
                </a:lnTo>
                <a:lnTo>
                  <a:pt x="1724" y="154"/>
                </a:lnTo>
                <a:lnTo>
                  <a:pt x="1628" y="142"/>
                </a:lnTo>
                <a:lnTo>
                  <a:pt x="1496" y="132"/>
                </a:lnTo>
                <a:lnTo>
                  <a:pt x="1352" y="124"/>
                </a:lnTo>
                <a:lnTo>
                  <a:pt x="1216" y="120"/>
                </a:lnTo>
                <a:lnTo>
                  <a:pt x="1082" y="122"/>
                </a:lnTo>
                <a:lnTo>
                  <a:pt x="960" y="124"/>
                </a:lnTo>
                <a:lnTo>
                  <a:pt x="852" y="128"/>
                </a:lnTo>
                <a:lnTo>
                  <a:pt x="748" y="134"/>
                </a:lnTo>
                <a:lnTo>
                  <a:pt x="648" y="142"/>
                </a:lnTo>
                <a:lnTo>
                  <a:pt x="564" y="156"/>
                </a:lnTo>
                <a:lnTo>
                  <a:pt x="498" y="168"/>
                </a:lnTo>
                <a:lnTo>
                  <a:pt x="472" y="178"/>
                </a:lnTo>
                <a:lnTo>
                  <a:pt x="451" y="194"/>
                </a:lnTo>
                <a:lnTo>
                  <a:pt x="0" y="195"/>
                </a:lnTo>
                <a:lnTo>
                  <a:pt x="350" y="0"/>
                </a:lnTo>
                <a:lnTo>
                  <a:pt x="2786" y="0"/>
                </a:lnTo>
                <a:lnTo>
                  <a:pt x="2350" y="192"/>
                </a:lnTo>
                <a:close/>
              </a:path>
            </a:pathLst>
          </a:custGeom>
          <a:solidFill>
            <a:srgbClr val="ff0066">
              <a:alpha val="75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6"/>
          <p:cNvSpPr/>
          <p:nvPr/>
        </p:nvSpPr>
        <p:spPr>
          <a:xfrm>
            <a:off x="1542960" y="3473280"/>
            <a:ext cx="2094120" cy="2297160"/>
          </a:xfrm>
          <a:custGeom>
            <a:avLst/>
            <a:gdLst>
              <a:gd name="textAreaLeft" fmla="*/ 0 w 2094120"/>
              <a:gd name="textAreaRight" fmla="*/ 2094120 w 2094120"/>
              <a:gd name="textAreaTop" fmla="*/ 0 h 2297160"/>
              <a:gd name="textAreaBottom" fmla="*/ 2297520 h 2297160"/>
            </a:gdLst>
            <a:ahLst/>
            <a:rect l="textAreaLeft" t="textAreaTop" r="textAreaRight" b="textAreaBottom"/>
            <a:pathLst>
              <a:path w="1319" h="1447">
                <a:moveTo>
                  <a:pt x="1319" y="0"/>
                </a:moveTo>
                <a:lnTo>
                  <a:pt x="0" y="14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251" name="Freeform 4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3"/>
          <p:cNvGrpSpPr/>
          <p:nvPr/>
        </p:nvGrpSpPr>
        <p:grpSpPr>
          <a:xfrm>
            <a:off x="1263600" y="2006640"/>
            <a:ext cx="2895480" cy="2971800"/>
            <a:chOff x="1263600" y="2006640"/>
            <a:chExt cx="2895480" cy="2971800"/>
          </a:xfrm>
        </p:grpSpPr>
        <p:sp>
          <p:nvSpPr>
            <p:cNvPr id="260" name="Oval 14"/>
            <p:cNvSpPr/>
            <p:nvPr/>
          </p:nvSpPr>
          <p:spPr>
            <a:xfrm>
              <a:off x="1263600" y="2006640"/>
              <a:ext cx="2895480" cy="2971800"/>
            </a:xfrm>
            <a:prstGeom prst="ellipse">
              <a:avLst/>
            </a:prstGeom>
            <a:noFill/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15"/>
            <p:cNvGrpSpPr/>
            <p:nvPr/>
          </p:nvGrpSpPr>
          <p:grpSpPr>
            <a:xfrm>
              <a:off x="1265760" y="3099600"/>
              <a:ext cx="2890440" cy="749160"/>
              <a:chOff x="1265760" y="3099600"/>
              <a:chExt cx="2890440" cy="749160"/>
            </a:xfrm>
          </p:grpSpPr>
          <p:sp>
            <p:nvSpPr>
              <p:cNvPr id="262" name="Arc 16"/>
              <p:cNvSpPr/>
              <p:nvPr/>
            </p:nvSpPr>
            <p:spPr>
              <a:xfrm flipV="1">
                <a:off x="1265760" y="3099600"/>
                <a:ext cx="2890440" cy="406800"/>
              </a:xfrm>
              <a:custGeom>
                <a:avLst/>
                <a:gdLst>
                  <a:gd name="textAreaLeft" fmla="*/ 0 w 2890440"/>
                  <a:gd name="textAreaRight" fmla="*/ 2890800 w 2890440"/>
                  <a:gd name="textAreaTop" fmla="*/ 360 h 406800"/>
                  <a:gd name="textAreaBottom" fmla="*/ 407520 h 406800"/>
                </a:gdLst>
                <a:ahLst/>
                <a:rect l="textAreaLeft" t="textAreaTop" r="textAreaRight" b="textAreaBottom"/>
                <a:pathLst>
                  <a:path fill="none" w="43121" h="21600">
                    <a:moveTo>
                      <a:pt x="43120" y="1599"/>
                    </a:moveTo>
                    <a:cubicBezTo>
                      <a:pt x="42282" y="12877"/>
                      <a:pt x="32888" y="21599"/>
                      <a:pt x="21580" y="21600"/>
                    </a:cubicBezTo>
                    <a:cubicBezTo>
                      <a:pt x="10010" y="21600"/>
                      <a:pt x="494" y="12483"/>
                      <a:pt x="-1" y="924"/>
                    </a:cubicBezTo>
                  </a:path>
                  <a:path stroke="0" w="43121" h="21600">
                    <a:moveTo>
                      <a:pt x="43120" y="1599"/>
                    </a:moveTo>
                    <a:cubicBezTo>
                      <a:pt x="42282" y="12877"/>
                      <a:pt x="32888" y="21599"/>
                      <a:pt x="21580" y="21600"/>
                    </a:cubicBezTo>
                    <a:cubicBezTo>
                      <a:pt x="10010" y="21600"/>
                      <a:pt x="494" y="12483"/>
                      <a:pt x="-1" y="924"/>
                    </a:cubicBezTo>
                    <a:lnTo>
                      <a:pt x="21580" y="0"/>
                    </a:lnTo>
                    <a:close/>
                  </a:path>
                </a:pathLst>
              </a:custGeom>
              <a:noFill/>
              <a:ln w="19080">
                <a:solidFill>
                  <a:srgbClr val="1c1c1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rc 17"/>
              <p:cNvSpPr/>
              <p:nvPr/>
            </p:nvSpPr>
            <p:spPr>
              <a:xfrm>
                <a:off x="1279800" y="3441960"/>
                <a:ext cx="2873880" cy="406800"/>
              </a:xfrm>
              <a:custGeom>
                <a:avLst/>
                <a:gdLst>
                  <a:gd name="textAreaLeft" fmla="*/ 0 w 2873880"/>
                  <a:gd name="textAreaRight" fmla="*/ 2874240 w 2873880"/>
                  <a:gd name="textAreaTop" fmla="*/ 0 h 406800"/>
                  <a:gd name="textAreaBottom" fmla="*/ 407160 h 406800"/>
                </a:gdLst>
                <a:ahLst/>
                <a:rect l="textAreaLeft" t="textAreaTop" r="textAreaRight" b="textAreaBottom"/>
                <a:pathLst>
                  <a:path fill="none" w="42859" h="21600">
                    <a:moveTo>
                      <a:pt x="-22677" y="2301"/>
                    </a:moveTo>
                    <a:cubicBezTo>
                      <a:pt x="-23853" y="13276"/>
                      <a:pt x="32420" y="21599"/>
                      <a:pt x="21382" y="21600"/>
                    </a:cubicBezTo>
                    <a:cubicBezTo>
                      <a:pt x="10635" y="21600"/>
                      <a:pt x="1523" y="13699"/>
                      <a:pt x="0" y="3061"/>
                    </a:cubicBezTo>
                  </a:path>
                  <a:path stroke="0" w="42859" h="21600">
                    <a:moveTo>
                      <a:pt x="-22677" y="2301"/>
                    </a:moveTo>
                    <a:cubicBezTo>
                      <a:pt x="-23853" y="13276"/>
                      <a:pt x="32420" y="21599"/>
                      <a:pt x="21382" y="21600"/>
                    </a:cubicBezTo>
                    <a:cubicBezTo>
                      <a:pt x="10635" y="21600"/>
                      <a:pt x="1523" y="13699"/>
                      <a:pt x="0" y="3061"/>
                    </a:cubicBezTo>
                    <a:lnTo>
                      <a:pt x="21382" y="0"/>
                    </a:lnTo>
                    <a:close/>
                  </a:path>
                </a:pathLst>
              </a:custGeom>
              <a:noFill/>
              <a:ln w="1908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Oval 18"/>
            <p:cNvSpPr/>
            <p:nvPr/>
          </p:nvSpPr>
          <p:spPr>
            <a:xfrm rot="375600">
              <a:off x="2658600" y="3387960"/>
              <a:ext cx="97920" cy="102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9"/>
            <p:cNvSpPr/>
            <p:nvPr/>
          </p:nvSpPr>
          <p:spPr>
            <a:xfrm>
              <a:off x="1263600" y="2006640"/>
              <a:ext cx="2895480" cy="2971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bbe0e3">
                    <a:alpha val="3725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20"/>
          <p:cNvSpPr/>
          <p:nvPr/>
        </p:nvSpPr>
        <p:spPr>
          <a:xfrm>
            <a:off x="4191120" y="68580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Взаимное расположение сферы и плоскости при условии??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4757400" y="43434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1557000" y="5562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23"/>
          <p:cNvSpPr/>
          <p:nvPr/>
        </p:nvSpPr>
        <p:spPr>
          <a:xfrm>
            <a:off x="2673360" y="914400"/>
            <a:ext cx="38160" cy="5054760"/>
          </a:xfrm>
          <a:custGeom>
            <a:avLst/>
            <a:gdLst>
              <a:gd name="textAreaLeft" fmla="*/ 0 w 38160"/>
              <a:gd name="textAreaRight" fmla="*/ 38520 w 38160"/>
              <a:gd name="textAreaTop" fmla="*/ 0 h 5054760"/>
              <a:gd name="textAreaBottom" fmla="*/ 5055120 h 5054760"/>
            </a:gdLst>
            <a:ahLst/>
            <a:rect l="textAreaLeft" t="textAreaTop" r="textAreaRight" b="textAreaBottom"/>
            <a:pathLst>
              <a:path w="24" h="3184">
                <a:moveTo>
                  <a:pt x="0" y="3184"/>
                </a:moveTo>
                <a:lnTo>
                  <a:pt x="2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2287440" y="76212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25"/>
          <p:cNvSpPr/>
          <p:nvPr/>
        </p:nvSpPr>
        <p:spPr>
          <a:xfrm>
            <a:off x="846000" y="4483080"/>
            <a:ext cx="4259520" cy="20520"/>
          </a:xfrm>
          <a:custGeom>
            <a:avLst/>
            <a:gdLst>
              <a:gd name="textAreaLeft" fmla="*/ 0 w 4259520"/>
              <a:gd name="textAreaRight" fmla="*/ 4259520 w 42595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2683" h="13">
                <a:moveTo>
                  <a:pt x="0" y="13"/>
                </a:moveTo>
                <a:lnTo>
                  <a:pt x="268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30"/>
          <p:cNvGrpSpPr/>
          <p:nvPr/>
        </p:nvGrpSpPr>
        <p:grpSpPr>
          <a:xfrm>
            <a:off x="1644480" y="4381200"/>
            <a:ext cx="2133720" cy="228960"/>
            <a:chOff x="1644480" y="4381200"/>
            <a:chExt cx="2133720" cy="228960"/>
          </a:xfrm>
        </p:grpSpPr>
        <p:sp>
          <p:nvSpPr>
            <p:cNvPr id="273" name="Arc 31"/>
            <p:cNvSpPr/>
            <p:nvPr/>
          </p:nvSpPr>
          <p:spPr>
            <a:xfrm>
              <a:off x="1644480" y="4476600"/>
              <a:ext cx="2133720" cy="13356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fill="none" w="43200" h="24894">
                  <a:moveTo>
                    <a:pt x="42947" y="-1"/>
                  </a:moveTo>
                  <a:cubicBezTo>
                    <a:pt x="43115" y="1089"/>
                    <a:pt x="43200" y="2191"/>
                    <a:pt x="43200" y="3294"/>
                  </a:cubicBezTo>
                  <a:cubicBezTo>
                    <a:pt x="43200" y="15223"/>
                    <a:pt x="33529" y="24894"/>
                    <a:pt x="21600" y="24894"/>
                  </a:cubicBezTo>
                  <a:cubicBezTo>
                    <a:pt x="9670" y="24894"/>
                    <a:pt x="0" y="15223"/>
                    <a:pt x="0" y="3294"/>
                  </a:cubicBezTo>
                  <a:cubicBezTo>
                    <a:pt x="-1" y="2742"/>
                    <a:pt x="21" y="2190"/>
                    <a:pt x="63" y="1640"/>
                  </a:cubicBezTo>
                </a:path>
                <a:path stroke="0" w="43200" h="24894">
                  <a:moveTo>
                    <a:pt x="42947" y="-1"/>
                  </a:moveTo>
                  <a:cubicBezTo>
                    <a:pt x="43115" y="1089"/>
                    <a:pt x="43200" y="2191"/>
                    <a:pt x="43200" y="3294"/>
                  </a:cubicBezTo>
                  <a:cubicBezTo>
                    <a:pt x="43200" y="15223"/>
                    <a:pt x="33529" y="24894"/>
                    <a:pt x="21600" y="24894"/>
                  </a:cubicBezTo>
                  <a:cubicBezTo>
                    <a:pt x="9670" y="24894"/>
                    <a:pt x="0" y="15223"/>
                    <a:pt x="0" y="3294"/>
                  </a:cubicBezTo>
                  <a:cubicBezTo>
                    <a:pt x="-1" y="2742"/>
                    <a:pt x="21" y="2190"/>
                    <a:pt x="63" y="1640"/>
                  </a:cubicBezTo>
                  <a:lnTo>
                    <a:pt x="21600" y="32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0066ff">
                    <a:alpha val="71372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rc 32"/>
            <p:cNvSpPr/>
            <p:nvPr/>
          </p:nvSpPr>
          <p:spPr>
            <a:xfrm flipV="1">
              <a:off x="1647720" y="4380840"/>
              <a:ext cx="2122920" cy="115560"/>
            </a:xfrm>
            <a:custGeom>
              <a:avLst/>
              <a:gdLst>
                <a:gd name="textAreaLeft" fmla="*/ 0 w 2122920"/>
                <a:gd name="textAreaRight" fmla="*/ 2123280 w 2122920"/>
                <a:gd name="textAreaTop" fmla="*/ -360 h 115560"/>
                <a:gd name="textAreaBottom" fmla="*/ 115560 h 115560"/>
              </a:gdLst>
              <a:ahLst/>
              <a:rect l="textAreaLeft" t="textAreaTop" r="textAreaRight" b="textAreaBottom"/>
              <a:pathLst>
                <a:path fill="none" w="42978" h="21600">
                  <a:moveTo>
                    <a:pt x="-22558" y="2857"/>
                  </a:moveTo>
                  <a:cubicBezTo>
                    <a:pt x="-23990" y="13587"/>
                    <a:pt x="32393" y="21599"/>
                    <a:pt x="21568" y="21600"/>
                  </a:cubicBezTo>
                  <a:cubicBezTo>
                    <a:pt x="10095" y="21600"/>
                    <a:pt x="624" y="12631"/>
                    <a:pt x="0" y="1175"/>
                  </a:cubicBezTo>
                </a:path>
                <a:path stroke="0" w="42978" h="21600">
                  <a:moveTo>
                    <a:pt x="-22558" y="2857"/>
                  </a:moveTo>
                  <a:cubicBezTo>
                    <a:pt x="-23990" y="13587"/>
                    <a:pt x="32393" y="21599"/>
                    <a:pt x="21568" y="21600"/>
                  </a:cubicBezTo>
                  <a:cubicBezTo>
                    <a:pt x="10095" y="21600"/>
                    <a:pt x="624" y="12631"/>
                    <a:pt x="0" y="1175"/>
                  </a:cubicBezTo>
                  <a:lnTo>
                    <a:pt x="2156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0066ff">
                    <a:alpha val="71372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reeform 2"/>
          <p:cNvSpPr/>
          <p:nvPr/>
        </p:nvSpPr>
        <p:spPr>
          <a:xfrm>
            <a:off x="298440" y="4498920"/>
            <a:ext cx="4346640" cy="30168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738" h="190">
                <a:moveTo>
                  <a:pt x="384" y="6"/>
                </a:moveTo>
                <a:lnTo>
                  <a:pt x="846" y="3"/>
                </a:lnTo>
                <a:lnTo>
                  <a:pt x="872" y="18"/>
                </a:lnTo>
                <a:lnTo>
                  <a:pt x="926" y="36"/>
                </a:lnTo>
                <a:lnTo>
                  <a:pt x="1022" y="48"/>
                </a:lnTo>
                <a:lnTo>
                  <a:pt x="1154" y="58"/>
                </a:lnTo>
                <a:lnTo>
                  <a:pt x="1298" y="66"/>
                </a:lnTo>
                <a:lnTo>
                  <a:pt x="1434" y="70"/>
                </a:lnTo>
                <a:lnTo>
                  <a:pt x="1568" y="68"/>
                </a:lnTo>
                <a:lnTo>
                  <a:pt x="1690" y="66"/>
                </a:lnTo>
                <a:lnTo>
                  <a:pt x="1798" y="62"/>
                </a:lnTo>
                <a:lnTo>
                  <a:pt x="1902" y="56"/>
                </a:lnTo>
                <a:lnTo>
                  <a:pt x="2002" y="48"/>
                </a:lnTo>
                <a:lnTo>
                  <a:pt x="2086" y="34"/>
                </a:lnTo>
                <a:lnTo>
                  <a:pt x="2152" y="22"/>
                </a:lnTo>
                <a:lnTo>
                  <a:pt x="2178" y="12"/>
                </a:lnTo>
                <a:lnTo>
                  <a:pt x="2198" y="0"/>
                </a:lnTo>
                <a:lnTo>
                  <a:pt x="2738" y="0"/>
                </a:lnTo>
                <a:lnTo>
                  <a:pt x="2300" y="190"/>
                </a:lnTo>
                <a:lnTo>
                  <a:pt x="0" y="190"/>
                </a:lnTo>
                <a:lnTo>
                  <a:pt x="384" y="6"/>
                </a:lnTo>
                <a:close/>
              </a:path>
            </a:pathLst>
          </a:custGeom>
          <a:solidFill>
            <a:srgbClr val="ff0066">
              <a:alpha val="75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27"/>
          <p:cNvGrpSpPr/>
          <p:nvPr/>
        </p:nvGrpSpPr>
        <p:grpSpPr>
          <a:xfrm>
            <a:off x="2414160" y="4076640"/>
            <a:ext cx="418320" cy="461160"/>
            <a:chOff x="2414160" y="4076640"/>
            <a:chExt cx="418320" cy="461160"/>
          </a:xfrm>
        </p:grpSpPr>
        <p:sp>
          <p:nvSpPr>
            <p:cNvPr id="277" name="Text Box 28"/>
            <p:cNvSpPr/>
            <p:nvPr/>
          </p:nvSpPr>
          <p:spPr>
            <a:xfrm>
              <a:off x="2414160" y="4076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29"/>
            <p:cNvSpPr/>
            <p:nvPr/>
          </p:nvSpPr>
          <p:spPr>
            <a:xfrm rot="375600">
              <a:off x="2640960" y="4457880"/>
              <a:ext cx="77400" cy="75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2670840" y="311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3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281" name="Freeform 4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Oval 12"/>
          <p:cNvSpPr/>
          <p:nvPr/>
        </p:nvSpPr>
        <p:spPr>
          <a:xfrm>
            <a:off x="457200" y="1447920"/>
            <a:ext cx="3886200" cy="3809880"/>
          </a:xfrm>
          <a:prstGeom prst="ellipse">
            <a:avLst/>
          </a:prstGeom>
          <a:noFill/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30"/>
          <p:cNvGrpSpPr/>
          <p:nvPr/>
        </p:nvGrpSpPr>
        <p:grpSpPr>
          <a:xfrm>
            <a:off x="460440" y="2849040"/>
            <a:ext cx="3879720" cy="960840"/>
            <a:chOff x="460440" y="2849040"/>
            <a:chExt cx="3879720" cy="960840"/>
          </a:xfrm>
        </p:grpSpPr>
        <p:sp>
          <p:nvSpPr>
            <p:cNvPr id="291" name="Arc 13"/>
            <p:cNvSpPr/>
            <p:nvPr/>
          </p:nvSpPr>
          <p:spPr>
            <a:xfrm flipV="1">
              <a:off x="460440" y="2848320"/>
              <a:ext cx="3879720" cy="521640"/>
            </a:xfrm>
            <a:custGeom>
              <a:avLst/>
              <a:gdLst>
                <a:gd name="textAreaLeft" fmla="*/ 0 w 3879720"/>
                <a:gd name="textAreaRight" fmla="*/ 3880080 w 3879720"/>
                <a:gd name="textAreaTop" fmla="*/ -360 h 521640"/>
                <a:gd name="textAreaBottom" fmla="*/ 521640 h 521640"/>
              </a:gdLst>
              <a:ahLst/>
              <a:rect l="textAreaLeft" t="textAreaTop" r="textAreaRight" b="textAreaBottom"/>
              <a:pathLst>
                <a:path fill="none" w="43121" h="21600">
                  <a:moveTo>
                    <a:pt x="43120" y="1599"/>
                  </a:moveTo>
                  <a:cubicBezTo>
                    <a:pt x="42282" y="12877"/>
                    <a:pt x="32888" y="21599"/>
                    <a:pt x="21580" y="21600"/>
                  </a:cubicBezTo>
                  <a:cubicBezTo>
                    <a:pt x="10010" y="21600"/>
                    <a:pt x="494" y="12483"/>
                    <a:pt x="-1" y="924"/>
                  </a:cubicBezTo>
                </a:path>
                <a:path stroke="0" w="43121" h="21600">
                  <a:moveTo>
                    <a:pt x="43120" y="1599"/>
                  </a:moveTo>
                  <a:cubicBezTo>
                    <a:pt x="42282" y="12877"/>
                    <a:pt x="32888" y="21599"/>
                    <a:pt x="21580" y="21600"/>
                  </a:cubicBezTo>
                  <a:cubicBezTo>
                    <a:pt x="10010" y="21600"/>
                    <a:pt x="494" y="12483"/>
                    <a:pt x="-1" y="924"/>
                  </a:cubicBezTo>
                  <a:lnTo>
                    <a:pt x="21580" y="0"/>
                  </a:lnTo>
                  <a:close/>
                </a:path>
              </a:pathLst>
            </a:custGeom>
            <a:noFill/>
            <a:ln w="1260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4"/>
            <p:cNvSpPr/>
            <p:nvPr/>
          </p:nvSpPr>
          <p:spPr>
            <a:xfrm>
              <a:off x="479520" y="3288240"/>
              <a:ext cx="3857400" cy="521640"/>
            </a:xfrm>
            <a:custGeom>
              <a:avLst/>
              <a:gdLst>
                <a:gd name="textAreaLeft" fmla="*/ 0 w 3857400"/>
                <a:gd name="textAreaRight" fmla="*/ 3857760 w 385740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fill="none" w="42859" h="21600">
                  <a:moveTo>
                    <a:pt x="-22677" y="2301"/>
                  </a:moveTo>
                  <a:cubicBezTo>
                    <a:pt x="-23853" y="13276"/>
                    <a:pt x="32420" y="21599"/>
                    <a:pt x="21382" y="21600"/>
                  </a:cubicBezTo>
                  <a:cubicBezTo>
                    <a:pt x="10635" y="21600"/>
                    <a:pt x="1523" y="13699"/>
                    <a:pt x="0" y="3061"/>
                  </a:cubicBezTo>
                </a:path>
                <a:path stroke="0" w="42859" h="21600">
                  <a:moveTo>
                    <a:pt x="-22677" y="2301"/>
                  </a:moveTo>
                  <a:cubicBezTo>
                    <a:pt x="-23853" y="13276"/>
                    <a:pt x="32420" y="21599"/>
                    <a:pt x="21382" y="21600"/>
                  </a:cubicBezTo>
                  <a:cubicBezTo>
                    <a:pt x="10635" y="21600"/>
                    <a:pt x="1523" y="13699"/>
                    <a:pt x="0" y="3061"/>
                  </a:cubicBezTo>
                  <a:lnTo>
                    <a:pt x="21382" y="0"/>
                  </a:lnTo>
                  <a:close/>
                </a:path>
              </a:pathLst>
            </a:custGeom>
            <a:noFill/>
            <a:ln w="1260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18"/>
          <p:cNvSpPr/>
          <p:nvPr/>
        </p:nvSpPr>
        <p:spPr>
          <a:xfrm>
            <a:off x="243936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 rot="375600">
            <a:off x="2329920" y="3219120"/>
            <a:ext cx="131760" cy="131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7"/>
          <p:cNvGrpSpPr/>
          <p:nvPr/>
        </p:nvGrpSpPr>
        <p:grpSpPr>
          <a:xfrm>
            <a:off x="456840" y="3674880"/>
            <a:ext cx="2749320" cy="1655640"/>
            <a:chOff x="456840" y="3674880"/>
            <a:chExt cx="2749320" cy="1655640"/>
          </a:xfrm>
        </p:grpSpPr>
        <p:sp>
          <p:nvSpPr>
            <p:cNvPr id="296" name="Arc 28"/>
            <p:cNvSpPr/>
            <p:nvPr/>
          </p:nvSpPr>
          <p:spPr>
            <a:xfrm rot="1524000">
              <a:off x="382680" y="4450320"/>
              <a:ext cx="2819160" cy="289440"/>
            </a:xfrm>
            <a:custGeom>
              <a:avLst/>
              <a:gdLst>
                <a:gd name="textAreaLeft" fmla="*/ 0 w 2819160"/>
                <a:gd name="textAreaRight" fmla="*/ 2819520 w 281916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fill="none" w="43200" h="24894">
                  <a:moveTo>
                    <a:pt x="42947" y="-1"/>
                  </a:moveTo>
                  <a:cubicBezTo>
                    <a:pt x="43115" y="1089"/>
                    <a:pt x="43200" y="2191"/>
                    <a:pt x="43200" y="3294"/>
                  </a:cubicBezTo>
                  <a:cubicBezTo>
                    <a:pt x="43200" y="15223"/>
                    <a:pt x="33529" y="24894"/>
                    <a:pt x="21600" y="24894"/>
                  </a:cubicBezTo>
                  <a:cubicBezTo>
                    <a:pt x="9670" y="24894"/>
                    <a:pt x="0" y="15223"/>
                    <a:pt x="0" y="3294"/>
                  </a:cubicBezTo>
                  <a:cubicBezTo>
                    <a:pt x="-1" y="2742"/>
                    <a:pt x="21" y="2190"/>
                    <a:pt x="63" y="1640"/>
                  </a:cubicBezTo>
                </a:path>
                <a:path stroke="0" w="43200" h="24894">
                  <a:moveTo>
                    <a:pt x="42947" y="-1"/>
                  </a:moveTo>
                  <a:cubicBezTo>
                    <a:pt x="43115" y="1089"/>
                    <a:pt x="43200" y="2191"/>
                    <a:pt x="43200" y="3294"/>
                  </a:cubicBezTo>
                  <a:cubicBezTo>
                    <a:pt x="43200" y="15223"/>
                    <a:pt x="33529" y="24894"/>
                    <a:pt x="21600" y="24894"/>
                  </a:cubicBezTo>
                  <a:cubicBezTo>
                    <a:pt x="9670" y="24894"/>
                    <a:pt x="0" y="15223"/>
                    <a:pt x="0" y="3294"/>
                  </a:cubicBezTo>
                  <a:cubicBezTo>
                    <a:pt x="-1" y="2742"/>
                    <a:pt x="21" y="2190"/>
                    <a:pt x="63" y="1640"/>
                  </a:cubicBezTo>
                  <a:lnTo>
                    <a:pt x="21600" y="32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bbe0e3">
                    <a:alpha val="71372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rc 29"/>
            <p:cNvSpPr/>
            <p:nvPr/>
          </p:nvSpPr>
          <p:spPr>
            <a:xfrm flipV="1" rot="1523400">
              <a:off x="482400" y="4263840"/>
              <a:ext cx="2805120" cy="250560"/>
            </a:xfrm>
            <a:custGeom>
              <a:avLst/>
              <a:gdLst>
                <a:gd name="textAreaLeft" fmla="*/ 0 w 2805120"/>
                <a:gd name="textAreaRight" fmla="*/ 2805480 w 2805120"/>
                <a:gd name="textAreaTop" fmla="*/ 0 h 250560"/>
                <a:gd name="textAreaBottom" fmla="*/ 250560 h 250560"/>
              </a:gdLst>
              <a:ahLst/>
              <a:rect l="textAreaLeft" t="textAreaTop" r="textAreaRight" b="textAreaBottom"/>
              <a:pathLst>
                <a:path fill="none" w="42978" h="21600">
                  <a:moveTo>
                    <a:pt x="-22558" y="2857"/>
                  </a:moveTo>
                  <a:cubicBezTo>
                    <a:pt x="-23990" y="13587"/>
                    <a:pt x="32393" y="21599"/>
                    <a:pt x="21568" y="21600"/>
                  </a:cubicBezTo>
                  <a:cubicBezTo>
                    <a:pt x="10095" y="21600"/>
                    <a:pt x="624" y="12631"/>
                    <a:pt x="0" y="1175"/>
                  </a:cubicBezTo>
                </a:path>
                <a:path stroke="0" w="42978" h="21600">
                  <a:moveTo>
                    <a:pt x="-22558" y="2857"/>
                  </a:moveTo>
                  <a:cubicBezTo>
                    <a:pt x="-23990" y="13587"/>
                    <a:pt x="32393" y="21599"/>
                    <a:pt x="21568" y="21600"/>
                  </a:cubicBezTo>
                  <a:cubicBezTo>
                    <a:pt x="10095" y="21600"/>
                    <a:pt x="624" y="12631"/>
                    <a:pt x="0" y="1175"/>
                  </a:cubicBezTo>
                  <a:lnTo>
                    <a:pt x="2156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bbe0e3">
                    <a:alpha val="71372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31"/>
          <p:cNvGrpSpPr/>
          <p:nvPr/>
        </p:nvGrpSpPr>
        <p:grpSpPr>
          <a:xfrm>
            <a:off x="596880" y="2361960"/>
            <a:ext cx="3580920" cy="609840"/>
            <a:chOff x="596880" y="2361960"/>
            <a:chExt cx="3580920" cy="609840"/>
          </a:xfrm>
        </p:grpSpPr>
        <p:sp>
          <p:nvSpPr>
            <p:cNvPr id="299" name="Arc 32"/>
            <p:cNvSpPr/>
            <p:nvPr/>
          </p:nvSpPr>
          <p:spPr>
            <a:xfrm>
              <a:off x="596880" y="2615760"/>
              <a:ext cx="3580920" cy="356040"/>
            </a:xfrm>
            <a:custGeom>
              <a:avLst/>
              <a:gdLst>
                <a:gd name="textAreaLeft" fmla="*/ 0 w 3580920"/>
                <a:gd name="textAreaRight" fmla="*/ 3581280 w 3580920"/>
                <a:gd name="textAreaTop" fmla="*/ 0 h 356040"/>
                <a:gd name="textAreaBottom" fmla="*/ 356040 h 356040"/>
              </a:gdLst>
              <a:ahLst/>
              <a:rect l="textAreaLeft" t="textAreaTop" r="textAreaRight" b="textAreaBottom"/>
              <a:pathLst>
                <a:path fill="none" w="43200" h="24894">
                  <a:moveTo>
                    <a:pt x="42947" y="-1"/>
                  </a:moveTo>
                  <a:cubicBezTo>
                    <a:pt x="43115" y="1089"/>
                    <a:pt x="43200" y="2191"/>
                    <a:pt x="43200" y="3294"/>
                  </a:cubicBezTo>
                  <a:cubicBezTo>
                    <a:pt x="43200" y="15223"/>
                    <a:pt x="33529" y="24894"/>
                    <a:pt x="21600" y="24894"/>
                  </a:cubicBezTo>
                  <a:cubicBezTo>
                    <a:pt x="9670" y="24894"/>
                    <a:pt x="0" y="15223"/>
                    <a:pt x="0" y="3294"/>
                  </a:cubicBezTo>
                  <a:cubicBezTo>
                    <a:pt x="-1" y="2742"/>
                    <a:pt x="21" y="2190"/>
                    <a:pt x="63" y="1640"/>
                  </a:cubicBezTo>
                </a:path>
                <a:path stroke="0" w="43200" h="24894">
                  <a:moveTo>
                    <a:pt x="42947" y="-1"/>
                  </a:moveTo>
                  <a:cubicBezTo>
                    <a:pt x="43115" y="1089"/>
                    <a:pt x="43200" y="2191"/>
                    <a:pt x="43200" y="3294"/>
                  </a:cubicBezTo>
                  <a:cubicBezTo>
                    <a:pt x="43200" y="15223"/>
                    <a:pt x="33529" y="24894"/>
                    <a:pt x="21600" y="24894"/>
                  </a:cubicBezTo>
                  <a:cubicBezTo>
                    <a:pt x="9670" y="24894"/>
                    <a:pt x="0" y="15223"/>
                    <a:pt x="0" y="3294"/>
                  </a:cubicBezTo>
                  <a:cubicBezTo>
                    <a:pt x="-1" y="2742"/>
                    <a:pt x="21" y="2190"/>
                    <a:pt x="63" y="1640"/>
                  </a:cubicBezTo>
                  <a:lnTo>
                    <a:pt x="21600" y="32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bbe0e3">
                    <a:alpha val="71372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rc 33"/>
            <p:cNvSpPr/>
            <p:nvPr/>
          </p:nvSpPr>
          <p:spPr>
            <a:xfrm flipV="1">
              <a:off x="600480" y="2361240"/>
              <a:ext cx="3563280" cy="307080"/>
            </a:xfrm>
            <a:custGeom>
              <a:avLst/>
              <a:gdLst>
                <a:gd name="textAreaLeft" fmla="*/ 0 w 3563280"/>
                <a:gd name="textAreaRight" fmla="*/ 3563640 w 3563280"/>
                <a:gd name="textAreaTop" fmla="*/ -360 h 307080"/>
                <a:gd name="textAreaBottom" fmla="*/ 307080 h 307080"/>
              </a:gdLst>
              <a:ahLst/>
              <a:rect l="textAreaLeft" t="textAreaTop" r="textAreaRight" b="textAreaBottom"/>
              <a:pathLst>
                <a:path fill="none" w="42978" h="21600">
                  <a:moveTo>
                    <a:pt x="-22558" y="2857"/>
                  </a:moveTo>
                  <a:cubicBezTo>
                    <a:pt x="-23990" y="13587"/>
                    <a:pt x="32393" y="21599"/>
                    <a:pt x="21568" y="21600"/>
                  </a:cubicBezTo>
                  <a:cubicBezTo>
                    <a:pt x="10095" y="21600"/>
                    <a:pt x="624" y="12631"/>
                    <a:pt x="0" y="1175"/>
                  </a:cubicBezTo>
                </a:path>
                <a:path stroke="0" w="42978" h="21600">
                  <a:moveTo>
                    <a:pt x="-22558" y="2857"/>
                  </a:moveTo>
                  <a:cubicBezTo>
                    <a:pt x="-23990" y="13587"/>
                    <a:pt x="32393" y="21599"/>
                    <a:pt x="21568" y="21600"/>
                  </a:cubicBezTo>
                  <a:cubicBezTo>
                    <a:pt x="10095" y="21600"/>
                    <a:pt x="624" y="12631"/>
                    <a:pt x="0" y="1175"/>
                  </a:cubicBezTo>
                  <a:lnTo>
                    <a:pt x="2156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bbe0e3">
                    <a:alpha val="71372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6"/>
          <p:cNvGrpSpPr/>
          <p:nvPr/>
        </p:nvGrpSpPr>
        <p:grpSpPr>
          <a:xfrm>
            <a:off x="800280" y="2031840"/>
            <a:ext cx="3200040" cy="507960"/>
            <a:chOff x="800280" y="2031840"/>
            <a:chExt cx="3200040" cy="507960"/>
          </a:xfrm>
        </p:grpSpPr>
        <p:sp>
          <p:nvSpPr>
            <p:cNvPr id="302" name="Arc 20"/>
            <p:cNvSpPr/>
            <p:nvPr/>
          </p:nvSpPr>
          <p:spPr>
            <a:xfrm>
              <a:off x="800280" y="2243880"/>
              <a:ext cx="3200040" cy="295920"/>
            </a:xfrm>
            <a:custGeom>
              <a:avLst/>
              <a:gdLst>
                <a:gd name="textAreaLeft" fmla="*/ 0 w 3200040"/>
                <a:gd name="textAreaRight" fmla="*/ 3200400 w 3200040"/>
                <a:gd name="textAreaTop" fmla="*/ 0 h 295920"/>
                <a:gd name="textAreaBottom" fmla="*/ 295920 h 295920"/>
              </a:gdLst>
              <a:ahLst/>
              <a:rect l="textAreaLeft" t="textAreaTop" r="textAreaRight" b="textAreaBottom"/>
              <a:pathLst>
                <a:path fill="none" w="43200" h="24894">
                  <a:moveTo>
                    <a:pt x="42947" y="-1"/>
                  </a:moveTo>
                  <a:cubicBezTo>
                    <a:pt x="43115" y="1089"/>
                    <a:pt x="43200" y="2191"/>
                    <a:pt x="43200" y="3294"/>
                  </a:cubicBezTo>
                  <a:cubicBezTo>
                    <a:pt x="43200" y="15223"/>
                    <a:pt x="33529" y="24894"/>
                    <a:pt x="21600" y="24894"/>
                  </a:cubicBezTo>
                  <a:cubicBezTo>
                    <a:pt x="9670" y="24894"/>
                    <a:pt x="0" y="15223"/>
                    <a:pt x="0" y="3294"/>
                  </a:cubicBezTo>
                  <a:cubicBezTo>
                    <a:pt x="-1" y="2742"/>
                    <a:pt x="21" y="2190"/>
                    <a:pt x="63" y="1640"/>
                  </a:cubicBezTo>
                </a:path>
                <a:path stroke="0" w="43200" h="24894">
                  <a:moveTo>
                    <a:pt x="42947" y="-1"/>
                  </a:moveTo>
                  <a:cubicBezTo>
                    <a:pt x="43115" y="1089"/>
                    <a:pt x="43200" y="2191"/>
                    <a:pt x="43200" y="3294"/>
                  </a:cubicBezTo>
                  <a:cubicBezTo>
                    <a:pt x="43200" y="15223"/>
                    <a:pt x="33529" y="24894"/>
                    <a:pt x="21600" y="24894"/>
                  </a:cubicBezTo>
                  <a:cubicBezTo>
                    <a:pt x="9670" y="24894"/>
                    <a:pt x="0" y="15223"/>
                    <a:pt x="0" y="3294"/>
                  </a:cubicBezTo>
                  <a:cubicBezTo>
                    <a:pt x="-1" y="2742"/>
                    <a:pt x="21" y="2190"/>
                    <a:pt x="63" y="1640"/>
                  </a:cubicBezTo>
                  <a:lnTo>
                    <a:pt x="21600" y="32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bbe0e3">
                    <a:alpha val="71372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rc 21"/>
            <p:cNvSpPr/>
            <p:nvPr/>
          </p:nvSpPr>
          <p:spPr>
            <a:xfrm flipV="1">
              <a:off x="803520" y="2031480"/>
              <a:ext cx="3184200" cy="257040"/>
            </a:xfrm>
            <a:custGeom>
              <a:avLst/>
              <a:gdLst>
                <a:gd name="textAreaLeft" fmla="*/ 0 w 3184200"/>
                <a:gd name="textAreaRight" fmla="*/ 3184560 w 3184200"/>
                <a:gd name="textAreaTop" fmla="*/ 360 h 257040"/>
                <a:gd name="textAreaBottom" fmla="*/ 257760 h 257040"/>
              </a:gdLst>
              <a:ahLst/>
              <a:rect l="textAreaLeft" t="textAreaTop" r="textAreaRight" b="textAreaBottom"/>
              <a:pathLst>
                <a:path fill="none" w="42978" h="21600">
                  <a:moveTo>
                    <a:pt x="-22558" y="2857"/>
                  </a:moveTo>
                  <a:cubicBezTo>
                    <a:pt x="-23990" y="13587"/>
                    <a:pt x="32393" y="21599"/>
                    <a:pt x="21568" y="21600"/>
                  </a:cubicBezTo>
                  <a:cubicBezTo>
                    <a:pt x="10095" y="21600"/>
                    <a:pt x="624" y="12631"/>
                    <a:pt x="0" y="1175"/>
                  </a:cubicBezTo>
                </a:path>
                <a:path stroke="0" w="42978" h="21600">
                  <a:moveTo>
                    <a:pt x="-22558" y="2857"/>
                  </a:moveTo>
                  <a:cubicBezTo>
                    <a:pt x="-23990" y="13587"/>
                    <a:pt x="32393" y="21599"/>
                    <a:pt x="21568" y="21600"/>
                  </a:cubicBezTo>
                  <a:cubicBezTo>
                    <a:pt x="10095" y="21600"/>
                    <a:pt x="624" y="12631"/>
                    <a:pt x="0" y="1175"/>
                  </a:cubicBezTo>
                  <a:lnTo>
                    <a:pt x="2156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bbe0e3">
                    <a:alpha val="71372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4"/>
          <p:cNvGrpSpPr/>
          <p:nvPr/>
        </p:nvGrpSpPr>
        <p:grpSpPr>
          <a:xfrm>
            <a:off x="1397160" y="1612440"/>
            <a:ext cx="1981080" cy="228600"/>
            <a:chOff x="1397160" y="1612440"/>
            <a:chExt cx="1981080" cy="228600"/>
          </a:xfrm>
        </p:grpSpPr>
        <p:sp>
          <p:nvSpPr>
            <p:cNvPr id="305" name="Arc 35"/>
            <p:cNvSpPr/>
            <p:nvPr/>
          </p:nvSpPr>
          <p:spPr>
            <a:xfrm>
              <a:off x="1397160" y="1707840"/>
              <a:ext cx="1981080" cy="13320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fill="none" w="43200" h="24894">
                  <a:moveTo>
                    <a:pt x="42947" y="-1"/>
                  </a:moveTo>
                  <a:cubicBezTo>
                    <a:pt x="43115" y="1089"/>
                    <a:pt x="43200" y="2191"/>
                    <a:pt x="43200" y="3294"/>
                  </a:cubicBezTo>
                  <a:cubicBezTo>
                    <a:pt x="43200" y="15223"/>
                    <a:pt x="33529" y="24894"/>
                    <a:pt x="21600" y="24894"/>
                  </a:cubicBezTo>
                  <a:cubicBezTo>
                    <a:pt x="9670" y="24894"/>
                    <a:pt x="0" y="15223"/>
                    <a:pt x="0" y="3294"/>
                  </a:cubicBezTo>
                  <a:cubicBezTo>
                    <a:pt x="-1" y="2742"/>
                    <a:pt x="21" y="2190"/>
                    <a:pt x="63" y="1640"/>
                  </a:cubicBezTo>
                </a:path>
                <a:path stroke="0" w="43200" h="24894">
                  <a:moveTo>
                    <a:pt x="42947" y="-1"/>
                  </a:moveTo>
                  <a:cubicBezTo>
                    <a:pt x="43115" y="1089"/>
                    <a:pt x="43200" y="2191"/>
                    <a:pt x="43200" y="3294"/>
                  </a:cubicBezTo>
                  <a:cubicBezTo>
                    <a:pt x="43200" y="15223"/>
                    <a:pt x="33529" y="24894"/>
                    <a:pt x="21600" y="24894"/>
                  </a:cubicBezTo>
                  <a:cubicBezTo>
                    <a:pt x="9670" y="24894"/>
                    <a:pt x="0" y="15223"/>
                    <a:pt x="0" y="3294"/>
                  </a:cubicBezTo>
                  <a:cubicBezTo>
                    <a:pt x="-1" y="2742"/>
                    <a:pt x="21" y="2190"/>
                    <a:pt x="63" y="1640"/>
                  </a:cubicBezTo>
                  <a:lnTo>
                    <a:pt x="21600" y="32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bbe0e3">
                    <a:alpha val="71372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rc 36"/>
            <p:cNvSpPr/>
            <p:nvPr/>
          </p:nvSpPr>
          <p:spPr>
            <a:xfrm flipV="1">
              <a:off x="1397880" y="1612080"/>
              <a:ext cx="1970280" cy="115560"/>
            </a:xfrm>
            <a:custGeom>
              <a:avLst/>
              <a:gdLst>
                <a:gd name="textAreaLeft" fmla="*/ 0 w 1970280"/>
                <a:gd name="textAreaRight" fmla="*/ 1970640 w 1970280"/>
                <a:gd name="textAreaTop" fmla="*/ -360 h 115560"/>
                <a:gd name="textAreaBottom" fmla="*/ 115560 h 115560"/>
              </a:gdLst>
              <a:ahLst/>
              <a:rect l="textAreaLeft" t="textAreaTop" r="textAreaRight" b="textAreaBottom"/>
              <a:pathLst>
                <a:path fill="none" w="42978" h="21600">
                  <a:moveTo>
                    <a:pt x="-22558" y="2857"/>
                  </a:moveTo>
                  <a:cubicBezTo>
                    <a:pt x="-23990" y="13587"/>
                    <a:pt x="32393" y="21599"/>
                    <a:pt x="21568" y="21600"/>
                  </a:cubicBezTo>
                  <a:cubicBezTo>
                    <a:pt x="10095" y="21600"/>
                    <a:pt x="624" y="12631"/>
                    <a:pt x="0" y="1175"/>
                  </a:cubicBezTo>
                </a:path>
                <a:path stroke="0" w="42978" h="21600">
                  <a:moveTo>
                    <a:pt x="-22558" y="2857"/>
                  </a:moveTo>
                  <a:cubicBezTo>
                    <a:pt x="-23990" y="13587"/>
                    <a:pt x="32393" y="21599"/>
                    <a:pt x="21568" y="21600"/>
                  </a:cubicBezTo>
                  <a:cubicBezTo>
                    <a:pt x="10095" y="21600"/>
                    <a:pt x="624" y="12631"/>
                    <a:pt x="0" y="1175"/>
                  </a:cubicBezTo>
                  <a:lnTo>
                    <a:pt x="2156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bbe0e3">
                    <a:alpha val="71372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37"/>
          <p:cNvSpPr/>
          <p:nvPr/>
        </p:nvSpPr>
        <p:spPr>
          <a:xfrm>
            <a:off x="4191120" y="685800"/>
            <a:ext cx="472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ечения сфер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838080" y="1066680"/>
            <a:ext cx="754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 сфе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я: центра сферы, радиуса сферы, диаметра сфе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 шар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я: центра сферы, радиуса сферы, диаметра шар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орема об уравнении сфе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ное расположение сферы и плоскости (условия без доказательств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Жалыбина</cp:lastModifiedBy>
  <dcterms:modified xsi:type="dcterms:W3CDTF">2018-01-23T16:55:1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