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A3D-2A34-4201-8534-C5C0A35D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F90-C593-4EE2-87CA-EA20D07B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28E-C266-4CA9-8840-B440A5FE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2BF-3604-4B1C-91E5-75D14A55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192C-4E1B-4685-A552-AC0FCC22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4E2-9194-4D3F-8307-FBDB80B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876-8546-4C69-93BE-FEC519B0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AADE-49E3-4539-B5C6-4B1C3D4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D198-8866-4274-838C-1053496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3DAB-1ED3-450E-8E68-9B5E33E2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332A-1535-434A-B0DE-1DF115F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E47-0083-473F-96D5-FAEAD93E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E785-BE66-4AFF-AC24-D5537B9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3EB3-5C8A-46CE-BD01-9E0F8A1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88F0-FE43-4233-817A-CA8602A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21BB-8DE2-4C38-93F4-E371227C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D4C9-75B1-4080-A4A5-DFF8DB4E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60916-8E01-4F28-81E1-7C0D9FDC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B383-BBC8-48C0-B696-71909B6C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981F7-C5DA-496F-B57B-7EFC9913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7C970-9975-4213-884D-4A496CF0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A216F-A8AE-4DED-B5E5-9550DFFD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E8E-95E3-4E5E-9585-FA3EACDE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B4827-B124-4CEA-AC57-6339D36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9412D-8852-4272-BC48-94EA9A1B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427F7-1300-470B-A65F-C5214D1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1AA12-23D7-41DB-8FE0-D937CBD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E729E-D053-4A1E-B5A5-F6F264B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7CD40-FA0F-499E-A651-01A49858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88E68-5F1B-4543-BF28-E06B3EAE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5308-00EB-4BBE-A312-4AFB0F44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8BB8-E471-4953-B6A8-48A19336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41277-B1E8-4BC5-A9CE-888EDE7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6F2-531F-488C-9CE1-499F86D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A080-2384-4507-9F2D-D02BE33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BC9C-2BDB-4E8C-8A09-BF6AEFFF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5E1C-A030-484A-837D-5556220F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50D3-ADB8-433A-8CA5-394A5CE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3E0F-C62E-43A3-9847-0135F4C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34CC-F6AC-4DD3-8F44-BF9D396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E707-F8D2-48EF-BBF9-69445C31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23592-8834-40D9-A2AF-32DAF08A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034A-AEFA-4146-BB94-B3B25984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8194D-9A6E-4420-A3B8-DC400BB2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3A7-C0D0-4377-BEB0-FD5F149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23671-8D4B-4C50-8945-154607CD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CB62C-6706-4818-852D-D4304E66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9CDB7-D167-4C9D-A4BE-9262F4AC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BDC81-508F-4539-A460-B69225A4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A82C2-11CA-4F90-9928-B13CA41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301A8-D937-410F-A5CF-69104C2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B88AA-4327-47E6-9E2C-F0667F4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D7991-CD46-4D6B-8CD9-E7ACB1D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4529A-9915-4351-9E98-F6019BE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1AD84-C8DF-46B5-ABF7-FA5881D2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DC6-B902-4F38-AE1B-988276C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4733A-5D58-4B37-A46E-8274CE8C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BE028-A522-4B2A-8507-D00BFC7E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39F3C-1722-4048-862E-6DFD882F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E3550-9BB8-436D-865C-192CFA5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300E4-3FFD-4FE1-B96C-8A080FCE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030E1-1A1F-43DB-BE9F-C725CBF7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683B0-E142-4AA5-BF4C-FD1F82A2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0129A-BA54-448B-8862-E6DE4D2E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1D113-FF35-4A00-856F-B03746C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C4AC7-8804-4902-9CCD-535B6FE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0FA-C6B0-4B32-8EBF-87652D4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0C659-6ED8-46A3-8560-563818E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B9832-0D49-40BA-ADEF-F8D8F92D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43C80-A613-45CE-BE39-CD090532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83A12-3BA3-4B4D-ADEB-9C798214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92E91-A2B3-4C10-A627-7DA901BD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6CE62-8450-4D28-AB59-EC5F0473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72976-F0DF-4A6A-93A5-D370BFF1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A45A9-75DC-4DD4-B480-7F14E29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A54A4-F58B-434C-825C-2827C74D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0750B-F3DC-444E-88A7-562B7D2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9BD-B1E0-4570-8602-8B64835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764CE-B78F-4226-AF9D-1BC472B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A997F-F8CB-452B-B983-60967FA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0D5D3-55FC-4DD5-9497-6DE22DF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B843D-C20B-4820-B1F0-0CCB055B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0C6D8-7DD2-490C-A624-6651AFCC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F11-5595-4E59-AA88-19B131B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802-1506-4B43-A8D3-F672B0A50A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110A-0CF5-4019-908A-03EFB311F5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D0A1-5FC9-4F18-998E-5533873CD5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E89-C961-45BC-8686-5D0C8074F4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586-4FA9-49D5-BEE4-A5803A7E45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D7C-5AF6-4273-A6D2-BC37C76AC8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5ABE-97C2-4FDB-9A1C-F05BEA7B63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roshka.ru/centers/saint-petersburg/korzuna/news/birds.html" TargetMode="External"/><Relationship Id="rId2" Type="http://schemas.openxmlformats.org/officeDocument/2006/relationships/hyperlink" Target="http://www.kroshka.ru/centers/saint-petersburg/korzuna/news/birds.html" TargetMode="External"/><Relationship Id="rId3" Type="http://schemas.openxmlformats.org/officeDocument/2006/relationships/hyperlink" Target="http://www.kroshka.ru/centers/saint-petersburg/korzuna/news/birds.html" TargetMode="External"/><Relationship Id="rId4" Type="http://schemas.openxmlformats.org/officeDocument/2006/relationships/hyperlink" Target="http://www.kroshka.ru/centers/saint-petersburg/korzuna/news/birds.html" TargetMode="External"/><Relationship Id="rId5" Type="http://schemas.openxmlformats.org/officeDocument/2006/relationships/hyperlink" Target="http://www.kroshka.ru/centers/saint-petersburg/korzuna/news/birds.html" TargetMode="External"/><Relationship Id="rId6" Type="http://schemas.openxmlformats.org/officeDocument/2006/relationships/hyperlink" Target="http://www.kroshka.ru/centers/saint-petersburg/korzuna/news/birds.html" TargetMode="External"/><Relationship Id="rId7" Type="http://schemas.openxmlformats.org/officeDocument/2006/relationships/hyperlink" Target="http://www.kroshka.ru/centers/saint-petersburg/korzuna/news/birds.html" TargetMode="External"/><Relationship Id="rId8" Type="http://schemas.openxmlformats.org/officeDocument/2006/relationships/hyperlink" Target="http://www.kroshka.ru/centers/saint-petersburg/korzuna/news/birds.html" TargetMode="External"/><Relationship Id="rId9" Type="http://schemas.openxmlformats.org/officeDocument/2006/relationships/hyperlink" Target="http://www.kroshka.ru/centers/saint-petersburg/korzuna/news/birds.html" TargetMode="External"/><Relationship Id="rId10" Type="http://schemas.openxmlformats.org/officeDocument/2006/relationships/hyperlink" Target="http://www.kroshka.ru/centers/saint-petersburg/korzuna/news/birds.html" TargetMode="External"/><Relationship Id="rId11" Type="http://schemas.openxmlformats.org/officeDocument/2006/relationships/hyperlink" Target="http://www.kroshka.ru/centers/saint-petersburg/korzuna/news/birds.html" TargetMode="External"/><Relationship Id="rId12" Type="http://schemas.openxmlformats.org/officeDocument/2006/relationships/hyperlink" Target="http://www.kroshka.ru/centers/saint-petersburg/korzuna/news/birds.html" TargetMode="External"/><Relationship Id="rId13" Type="http://schemas.openxmlformats.org/officeDocument/2006/relationships/hyperlink" Target="http://www.kroshka.ru/centers/saint-petersburg/korzuna/news/birds.html" TargetMode="External"/><Relationship Id="rId14" Type="http://schemas.openxmlformats.org/officeDocument/2006/relationships/hyperlink" Target="http://www.kroshka.ru/centers/saint-petersburg/korzuna/news/birds.html" TargetMode="External"/><Relationship Id="rId15" Type="http://schemas.openxmlformats.org/officeDocument/2006/relationships/hyperlink" Target="http://www.kroshka.ru/centers/saint-petersburg/korzuna/news/birds.html" TargetMode="External"/><Relationship Id="rId16" Type="http://schemas.openxmlformats.org/officeDocument/2006/relationships/hyperlink" Target="http://www.kroshka.ru/centers/saint-petersburg/korzuna/news/birds.html" TargetMode="External"/><Relationship Id="rId17" Type="http://schemas.openxmlformats.org/officeDocument/2006/relationships/hyperlink" Target="http://www.kroshka.ru/centers/saint-petersburg/korzuna/news/birds.html" TargetMode="External"/><Relationship Id="rId18" Type="http://schemas.openxmlformats.org/officeDocument/2006/relationships/hyperlink" Target="http://www.kroshka.ru/centers/saint-petersburg/korzuna/news/birds.html" TargetMode="External"/><Relationship Id="rId19" Type="http://schemas.openxmlformats.org/officeDocument/2006/relationships/hyperlink" Target="http://www.kroshka.ru/centers/saint-petersburg/korzuna/news/birds.html" TargetMode="External"/><Relationship Id="rId20" Type="http://schemas.openxmlformats.org/officeDocument/2006/relationships/hyperlink" Target="http://www.kroshka.ru/centers/saint-petersburg/korzuna/news/birds.html" TargetMode="External"/><Relationship Id="rId21" Type="http://schemas.openxmlformats.org/officeDocument/2006/relationships/hyperlink" Target="http://www.kroshka.ru/centers/saint-petersburg/korzuna/news/birds.html" TargetMode="External"/><Relationship Id="rId22" Type="http://schemas.openxmlformats.org/officeDocument/2006/relationships/hyperlink" Target="http://detkam.e-papa.ru/mp/90/" TargetMode="External"/><Relationship Id="rId23" Type="http://schemas.openxmlformats.org/officeDocument/2006/relationships/hyperlink" Target="http://detkam.e-papa.ru/mp/90/" TargetMode="External"/><Relationship Id="rId24" Type="http://schemas.openxmlformats.org/officeDocument/2006/relationships/hyperlink" Target="http://detkam.e-papa.ru/mp/90/" TargetMode="External"/><Relationship Id="rId25" Type="http://schemas.openxmlformats.org/officeDocument/2006/relationships/hyperlink" Target="http://detkam.e-papa.ru/mp/90/" TargetMode="External"/><Relationship Id="rId26" Type="http://schemas.openxmlformats.org/officeDocument/2006/relationships/hyperlink" Target="http://detkam.e-papa.ru/mp/90/" TargetMode="External"/><Relationship Id="rId27" Type="http://schemas.openxmlformats.org/officeDocument/2006/relationships/hyperlink" Target="http://detkam.e-papa.ru/mp/90/" TargetMode="External"/><Relationship Id="rId28" Type="http://schemas.openxmlformats.org/officeDocument/2006/relationships/hyperlink" Target="http://detkam.e-papa.ru/mp/90/" TargetMode="External"/><Relationship Id="rId29" Type="http://schemas.openxmlformats.org/officeDocument/2006/relationships/hyperlink" Target="http://detkam.e-papa.ru/mp/90/" TargetMode="External"/><Relationship Id="rId30" Type="http://schemas.openxmlformats.org/officeDocument/2006/relationships/hyperlink" Target="http://detkam.e-papa.ru/mp/90/" TargetMode="External"/><Relationship Id="rId31" Type="http://schemas.openxmlformats.org/officeDocument/2006/relationships/hyperlink" Target="http://detkam.e-papa.ru/mp/90/" TargetMode="External"/><Relationship Id="rId32" Type="http://schemas.openxmlformats.org/officeDocument/2006/relationships/hyperlink" Target="http://detkam.e-papa.ru/mp/90/" TargetMode="External"/><Relationship Id="rId33" Type="http://schemas.openxmlformats.org/officeDocument/2006/relationships/hyperlink" Target="http://detkam.e-papa.ru/mp/90/" TargetMode="External"/><Relationship Id="rId34" Type="http://schemas.openxmlformats.org/officeDocument/2006/relationships/hyperlink" Target="http://www.lesnoytur.ru/pticy/djatly/picidae.html" TargetMode="External"/><Relationship Id="rId35" Type="http://schemas.openxmlformats.org/officeDocument/2006/relationships/hyperlink" Target="http://www.lesnoytur.ru/pticy/djatly/picidae.html" TargetMode="External"/><Relationship Id="rId36" Type="http://schemas.openxmlformats.org/officeDocument/2006/relationships/hyperlink" Target="http://www.lesnoytur.ru/pticy/djatly/picidae.html" TargetMode="External"/><Relationship Id="rId37" Type="http://schemas.openxmlformats.org/officeDocument/2006/relationships/hyperlink" Target="http://www.lesnoytur.ru/pticy/djatly/picidae.html" TargetMode="External"/><Relationship Id="rId38" Type="http://schemas.openxmlformats.org/officeDocument/2006/relationships/hyperlink" Target="http://www.lesnoytur.ru/pticy/djatly/picidae.html" TargetMode="External"/><Relationship Id="rId39" Type="http://schemas.openxmlformats.org/officeDocument/2006/relationships/hyperlink" Target="http://www.lesnoytur.ru/pticy/djatly/picidae.html" TargetMode="External"/><Relationship Id="rId40" Type="http://schemas.openxmlformats.org/officeDocument/2006/relationships/hyperlink" Target="http://www.lesnoytur.ru/pticy/djatly/picidae.html" TargetMode="External"/><Relationship Id="rId41" Type="http://schemas.openxmlformats.org/officeDocument/2006/relationships/hyperlink" Target="http://www.lesnoytur.ru/pticy/djatly/picidae.html" TargetMode="External"/><Relationship Id="rId42" Type="http://schemas.openxmlformats.org/officeDocument/2006/relationships/hyperlink" Target="http://www.lesnoytur.ru/pticy/djatly/picidae.html" TargetMode="External"/><Relationship Id="rId4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285920" y="142920"/>
            <a:ext cx="73724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9a3d01"/>
                </a:solidFill>
                <a:latin typeface="Comic Sans MS"/>
              </a:rPr>
              <a:t>Тема</a:t>
            </a:r>
            <a:br>
              <a:rPr sz="2000"/>
            </a:br>
            <a:r>
              <a:rPr b="1" lang="ru-RU" sz="1800" spc="-1" strike="noStrike" u="sng">
                <a:solidFill>
                  <a:srgbClr val="9a3d01"/>
                </a:solidFill>
                <a:uFillTx/>
                <a:latin typeface="Comic Sans MS"/>
              </a:rPr>
              <a:t>Проект преобразования профессион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a3d01"/>
                </a:solidFill>
                <a:uFillTx/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9a3d01"/>
                </a:solidFill>
                <a:uFillTx/>
                <a:latin typeface="Comic Sans MS"/>
              </a:rPr>
              <a:t>деятельности педагога в соответствии с Федеральными государственными требов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285920" y="4071960"/>
            <a:ext cx="51433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ер Татьяна Васильевна, педагог – психолог , МБУ д/с № 200 «Волшебный башма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714680" y="192888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про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57120" y="2571840"/>
            <a:ext cx="822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Формирование ценностного отношения к объектам живой природы, посредством организации проектной деятельности с детьми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РЕЗУЛЬТАТ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маю 2016 года у детей старшего дошкольного возраста ценностное отношение к объектам живой природы (к птицам) повыситься до 90 %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разработана и представлено  перспективное планирование по теме «Формирование ценностного отношения к объектам живой природы, посредством организации проектной деятельности с детьми дошкольного возраст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omic Sans MS"/>
              </a:rPr>
              <a:t>КРИТЕРИИ РЕЗУЛЬТАТ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1600200"/>
          <a:ext cx="8218440" cy="4495680"/>
        </p:xfrm>
        <a:graphic>
          <a:graphicData uri="http://schemas.openxmlformats.org/drawingml/2006/table">
            <a:tbl>
              <a:tblPr/>
              <a:tblGrid>
                <a:gridCol w="2697120"/>
                <a:gridCol w="1994040"/>
                <a:gridCol w="1584360"/>
                <a:gridCol w="1942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ая диагност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одителей имеющих высокий и средний уровень мотивации к формированию ценностного отношения к объектам живой при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оспитанников участвующих в проект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ыступлений  на педсоветах, семинарах, мероприятиях регионального напра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ектов экологической направ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omic Sans MS"/>
              </a:rPr>
              <a:t>АНАЛИЗ РЕСУРСОВ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00040" y="1214280"/>
          <a:ext cx="8229600" cy="5392800"/>
        </p:xfrm>
        <a:graphic>
          <a:graphicData uri="http://schemas.openxmlformats.org/drawingml/2006/table">
            <a:tbl>
              <a:tblPr/>
              <a:tblGrid>
                <a:gridCol w="5829480"/>
                <a:gridCol w="2400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щи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ющи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дровые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старшей группы, педагог- психолог, методист, учитель- логоп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педагогов работе по методу прое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 – пространственная среда оборудована в полом объёме (имеются центр, экологическая тропа, физкультурный за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 имеют в полном объёме методическое обеспечение по организации экологического воспит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 разработанных конспектов НОД по развитию ценностного отношения к птиц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о-технически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центр, видеоцентр, набор открыток, иллюстрации, раскраски, бумага, карандаши, краски, цветная бумага, ножницы, клей, пластилин, доски, стеки, бросовый материал, дидактические игры, реквизиты в театральный и физкультурный угол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овый материал, дидактические игры, демонстрационный матер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нтернет ресурсы (сайты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:/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www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kroshka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ru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centers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saint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petersburg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korzuna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ws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birds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http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:/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detkam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e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-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papa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ru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p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/90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http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:/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www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lesnoytur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ru</a:t>
                      </a:r>
                      <a:r>
                        <a:rPr b="0" lang="ru-RU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d2611c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pticy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jatly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icidae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ические пособ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Галочкина, С.М. Формирование у детей дошкольного возраста комплексного художественного восприятия посредством интегрированных  видов детской деятельности [Текст] / С.М. Галочкина /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ойди в природу другом (технологические материалы по формированию элементарной системы экологических знаний у старших дошкольников на экологической тропе) [Текст] / Сост. Л.А. Репникова, В.Н. Гандина, Р.И. Вашурина. – Тольятти, 2010. – С. 1-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 ресурсы: Выход в интерн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2400" spc="-1" strike="noStrike">
                <a:solidFill>
                  <a:srgbClr val="575f6d"/>
                </a:solidFill>
                <a:latin typeface="Comic Sans MS"/>
              </a:rPr>
              <a:t>ТЕМА</a:t>
            </a:r>
            <a:br>
              <a:rPr sz="2400"/>
            </a:br>
            <a:r>
              <a:rPr b="1" lang="ru-RU" sz="2000" spc="-1" strike="noStrike" u="sng">
                <a:solidFill>
                  <a:srgbClr val="575f6d"/>
                </a:solidFill>
                <a:uFillTx/>
                <a:latin typeface="Comic Sans MS"/>
              </a:rPr>
              <a:t>ПРОЕКТ ПРЕОБРАЗОВАНИЯ ПРОФЕССИОНАЛЬНОЙ ДЕЯТЕЛЬНОСТИ ПЕДАГОГА В СООТВЕТСТВИИ С ФЕДЕРАЛЬНЫМИ ГОСУДАРСТВЕННЫМИ ТРЕБОВАНИЯМ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31431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Формирование ценностного отношения к объектам живой природы, посредством организации проектной деятельности с детьми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285840" y="4572000"/>
            <a:ext cx="8286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: Губер Татьяна Васильевна, педагог – психолог , МБУ д/с № 200 «Волшебный башмач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1785960" y="228600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про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0% детей старшей группы не сформирован познавательный интерес и ценностное отношение к объектам живой природы (птица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omic Sans MS"/>
              </a:rPr>
              <a:t>ПРИЧИН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тсутствие системы планирования по формированию ценностного отношения к живой приро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тсутствие навыков владения педагогами технологией проектной деятельности для организации работы в данном направле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изкий уровень мотивации родителей на формирование нравственных качеств по отношению к объектам живой природы (птицам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omic Sans MS"/>
              </a:rPr>
              <a:t>ЦЕ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90% воспитанников ценностное отношение к объектам живой природы через организации проектной деятельности с деть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ать планирование по формированию ценностного отношения к объектам живой природы в разных видах деятельност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учить и активно использовать метод проектов при организации образовательного процесс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высить уровень мотивации родителей по формированию нравственного поведения в приро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МЕРОПРИЯТИЯ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1 ЗАДАЧ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417680"/>
          <a:ext cx="8229600" cy="5394240"/>
        </p:xfrm>
        <a:graphic>
          <a:graphicData uri="http://schemas.openxmlformats.org/drawingml/2006/table">
            <a:tbl>
              <a:tblPr/>
              <a:tblGrid>
                <a:gridCol w="5915160"/>
                <a:gridCol w="1295280"/>
                <a:gridCol w="10191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серию конспектов по темам «Наши пернатые друзья»; «Прилетайте птицы в гости»;«Птичья столовая»; «Зимующие птицы нашего города»; «Зимние приключения»; «Голоса птиц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–логоп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- ноябрь 2014-15 уч.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положение о конкурсе на лучший проект  по теме: «Птицы -  наши друзья»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– февраль 2014 – 2015 уч.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бластной экологической акции «День птиц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–логоп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– псих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– апр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– 2015 уч.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серию проектов для разных возрастных групп по следующим тема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ая группа «Легко ли птицам зимой?», «Птицы нашего кр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готовительная к школе группа «Птицы Красной книги», с последующей презентацией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- логоп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– апрель 2015 – 2016 уч.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положение о конкурсе на лучшее оформление эколого – валеологического центра «Мы – друзья птиц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–логоп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– псих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 май 2015  - 2016 уч.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МЕРОПРИЯТИЯ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2 ЗАДАЧ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600200"/>
          <a:ext cx="8229600" cy="4986360"/>
        </p:xfrm>
        <a:graphic>
          <a:graphicData uri="http://schemas.openxmlformats.org/drawingml/2006/table">
            <a:tbl>
              <a:tblPr/>
              <a:tblGrid>
                <a:gridCol w="5900760"/>
                <a:gridCol w="1214280"/>
                <a:gridCol w="11145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семинар – практикум «Метод проектов в работе с дошкольник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– 2015 уч.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алгоритм использования метода проектов в работе со старшими дошкольниками. Выпуск памят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– логопе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- псих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– май 2014 – 2016 уч.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совместных проектов на уровне ДОУ, города,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и узкие специалис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- дека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– 2016 уч.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социально – значимый проект «Чудо – кормуш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2015 уч.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и провести мастер – класс «Формирование ценностного отношения к объектам живой природы, посредством организации проектной деятельности с детьми дошкольного возрас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– логопе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- псих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- март 2016  год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МЕРОПРИЯТИЯ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omic Sans MS"/>
              </a:rPr>
              <a:t>3 ЗАДАЧ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600200"/>
          <a:ext cx="8229600" cy="4816440"/>
        </p:xfrm>
        <a:graphic>
          <a:graphicData uri="http://schemas.openxmlformats.org/drawingml/2006/table">
            <a:tbl>
              <a:tblPr/>
              <a:tblGrid>
                <a:gridCol w="5972040"/>
                <a:gridCol w="1143000"/>
                <a:gridCol w="1114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сти родительское собрание «Формирование ценностного отношения к объектам живой природы, посредством организации проектной деятельности с детьми дошкольного возраста» в интерактивной фор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родителей детей старшего дошкольного возраста по теме «Как вы заботитесь о птицах в вашей сем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- 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сультаций на тему «Птицы всякие нужны, птицы всякие важ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онкурса «Сделай кормушку сам (из бросового материала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и узкие специал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февраль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проектов родителей совместно с детьми, педагогов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с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– психоло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- 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06:06:11Z</dcterms:created>
  <dc:creator>Виталий</dc:creator>
  <dc:description/>
  <dc:language>en-US</dc:language>
  <cp:lastModifiedBy>Пользователь</cp:lastModifiedBy>
  <dcterms:modified xsi:type="dcterms:W3CDTF">2018-01-24T15:03:55Z</dcterms:modified>
  <cp:revision>80</cp:revision>
  <dc:subject/>
  <dc:title>Тема:</dc:title>
</cp:coreProperties>
</file>