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applause.wav" ContentType="audio/x-wav"/>
  <Override PartName="/ppt/media/%D0%9D%D1%83%20%D1%87%D1%82%D0%BE%20%D0%B6%D0%B5%20%D1%82%D1%8B.wav" ContentType="audio/x-wav"/>
  <Override PartName="/ppt/media/%D0%9F%D0%BE%D0%BF%D1%80%D0%BE%D0%B1%D1%83%D0%B9%20%D0%B5%D1%89%D1%91.wav" ContentType="audio/x-wav"/>
  <Override PartName="/ppt/media/image15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2EA2-34D3-4C25-86AC-920FCFBD13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D160-6B38-4DCE-AC5B-35D442E95E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BE45-639A-4E53-BEE6-497E8A0A1C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59DC-9290-4BCF-A49C-F29CCA8795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C7C6-8142-40BD-93DD-37953D1AA4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ED47-8A47-490F-BFAA-6D9CDDD10C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C449-87EB-4884-B066-9264298CB5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48E6-E99C-4586-B40E-C320EECC43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7772-2BD9-484E-B9AF-B66CD2DAA6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674D-42A4-4600-9075-7E3D6BDCDF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BA2D-3E2D-4B9E-8DBB-0126688910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7A14-DEFF-4136-9C45-58369D4BA2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31B4-1ACA-4589-A83D-BF8BB4174D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66B7-F9BD-4653-85A6-1321528043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F314-94D4-4345-A6C9-DEBBEC0232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F993-63CC-487D-A1AC-3B60E14B19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14A6-972C-433E-918A-E37D8C6AB4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D4B4-81FA-4F4F-BA46-FE3C3116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D518-E54A-4A1B-A1C2-8E577FD3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6FD1-4681-4E7E-8595-170C59F8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E6B6-51A7-44CD-9909-CE53CC23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5F7-B1C2-44BA-878F-FF449D9C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27D7-089C-461A-9214-F023FC52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EA7-8FC0-458C-8853-352F7E4F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30EC-6339-4DAF-B4A7-4FFFD80E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394-D264-401D-9A5D-781B8F0F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765-51A4-4E8C-B10E-CF4F1EE7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6CC2-5F3B-4783-8D43-4925AAFD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429-586B-439A-A9E9-4CB0E99E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16F4-259D-4256-B45C-68A1D35206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&#1055;&#1086;&#1087;&#1088;&#1086;&#1073;&#1091;&#1081;%20&#1077;&#1097;&#1105;.wav"/><Relationship Id="rId3" Type="http://schemas.openxmlformats.org/officeDocument/2006/relationships/audio" Target="../media/&#1053;&#1091;%20&#1095;&#1090;&#1086;%20&#1078;&#1077;%20&#1090;&#1099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&#1053;&#1091;%20&#1095;&#1090;&#1086;%20&#1078;&#1077;%20&#1090;&#1099;.wav"/><Relationship Id="rId2" Type="http://schemas.openxmlformats.org/officeDocument/2006/relationships/audio" Target="../media/applause.wav"/><Relationship Id="rId3" Type="http://schemas.openxmlformats.org/officeDocument/2006/relationships/audio" Target="../media/&#1055;&#1086;&#1087;&#1088;&#1086;&#1073;&#1091;&#1081;%20&#1077;&#1097;&#110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&#1053;&#1091;%20&#1095;&#1090;&#1086;%20&#1078;&#1077;%20&#1090;&#1099;.wav"/><Relationship Id="rId2" Type="http://schemas.openxmlformats.org/officeDocument/2006/relationships/audio" Target="../media/&#1053;&#1091;%20&#1095;&#1090;&#1086;%20&#1078;&#1077;%20&#1090;&#1099;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&#1055;&#1086;&#1087;&#1088;&#1086;&#1073;&#1091;&#1081;%20&#1077;&#1097;&#1105;.wav"/><Relationship Id="rId2" Type="http://schemas.openxmlformats.org/officeDocument/2006/relationships/audio" Target="../media/applause.wav"/><Relationship Id="rId3" Type="http://schemas.openxmlformats.org/officeDocument/2006/relationships/audio" Target="../media/&#1053;&#1091;%20&#1095;&#1090;&#1086;%20&#1078;&#1077;%20&#1090;&#1099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&#1053;&#1091;%20&#1095;&#1090;&#1086;%20&#1078;&#1077;%20&#1090;&#1099;.wav"/><Relationship Id="rId3" Type="http://schemas.openxmlformats.org/officeDocument/2006/relationships/audio" Target="../media/&#1055;&#1086;&#1087;&#1088;&#1086;&#1073;&#1091;&#1081;%20&#1077;&#1097;&#110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razymama.ru/cartoon.php?id_cartoon=1357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&#1053;&#1091;%20&#1095;&#1090;&#1086;%20&#1078;&#1077;%20&#1090;&#1099;.wav"/><Relationship Id="rId2" Type="http://schemas.openxmlformats.org/officeDocument/2006/relationships/audio" Target="../media/applause.wav"/><Relationship Id="rId3" Type="http://schemas.openxmlformats.org/officeDocument/2006/relationships/audio" Target="../media/&#1055;&#1086;&#1087;&#1088;&#1086;&#1073;&#1091;&#1081;%20&#1077;&#1097;&#110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4" descr=""/>
          <p:cNvPicPr/>
          <p:nvPr/>
        </p:nvPicPr>
        <p:blipFill>
          <a:blip r:embed="rId1"/>
          <a:stretch/>
        </p:blipFill>
        <p:spPr>
          <a:xfrm>
            <a:off x="542880" y="328680"/>
            <a:ext cx="799164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томобильдән төшәргә һәм утырырга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кругленный прямоугольник 5"/>
          <p:cNvSpPr/>
          <p:nvPr/>
        </p:nvSpPr>
        <p:spPr>
          <a:xfrm>
            <a:off x="928800" y="228600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Барлык яктан да,куркынычсызлыкка ышаны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6"/>
          <p:cNvSpPr/>
          <p:nvPr/>
        </p:nvSpPr>
        <p:spPr>
          <a:xfrm>
            <a:off x="928800" y="357192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Юл ягынн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7"/>
          <p:cNvSpPr/>
          <p:nvPr/>
        </p:nvSpPr>
        <p:spPr>
          <a:xfrm>
            <a:off x="928800" y="48578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Тротуар ягынн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ренче булып транспортка керәләр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5"/>
          <p:cNvSpPr/>
          <p:nvPr/>
        </p:nvSpPr>
        <p:spPr>
          <a:xfrm>
            <a:off x="928800" y="21430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Хатын-кызл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6"/>
          <p:cNvSpPr/>
          <p:nvPr/>
        </p:nvSpPr>
        <p:spPr>
          <a:xfrm>
            <a:off x="928800" y="342900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Ир кешелә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7"/>
          <p:cNvSpPr/>
          <p:nvPr/>
        </p:nvSpPr>
        <p:spPr>
          <a:xfrm>
            <a:off x="928800" y="471492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Балал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0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алонга зур сумка, яки рукзак б\н керсәң нишләргә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кругленный прямоугольник 5"/>
          <p:cNvSpPr/>
          <p:nvPr/>
        </p:nvSpPr>
        <p:spPr>
          <a:xfrm>
            <a:off x="928800" y="242892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Күрше урындыкка куяр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6"/>
          <p:cNvSpPr/>
          <p:nvPr/>
        </p:nvSpPr>
        <p:spPr>
          <a:xfrm>
            <a:off x="958680" y="3714840"/>
            <a:ext cx="735840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Тәрәзә янына куяр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7"/>
          <p:cNvSpPr/>
          <p:nvPr/>
        </p:nvSpPr>
        <p:spPr>
          <a:xfrm>
            <a:off x="928800" y="5000760"/>
            <a:ext cx="7358040" cy="78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Кулда тотарга, яки идәнгә куяр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здән синең тукталышың,чыгарга кешеләр комачаулый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Скругленный прямоугольник 5"/>
          <p:cNvSpPr/>
          <p:nvPr/>
        </p:nvSpPr>
        <p:spPr>
          <a:xfrm>
            <a:off x="928800" y="2214720"/>
            <a:ext cx="7358040" cy="78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Син дәшмичә араларыннан кысылып чыгасы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6"/>
          <p:cNvSpPr/>
          <p:nvPr/>
        </p:nvSpPr>
        <p:spPr>
          <a:xfrm>
            <a:off x="928800" y="35002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Гафу үтенеп, юл бирүне сорыйсы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928800" y="478620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Каты кычкырып, тавыш чыгарасы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3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тобуста морож</a:t>
            </a: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ены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(пирожное, пирожки)ашарга ярыйм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928800" y="242892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Ю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6"/>
          <p:cNvSpPr/>
          <p:nvPr/>
        </p:nvSpPr>
        <p:spPr>
          <a:xfrm>
            <a:off x="928800" y="371484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Һәрвакыт я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7"/>
          <p:cNvSpPr/>
          <p:nvPr/>
        </p:nvSpPr>
        <p:spPr>
          <a:xfrm>
            <a:off x="928800" y="5000760"/>
            <a:ext cx="7358040" cy="78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Тәрәзә янында утырсаң я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5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708360" y="2857680"/>
          <a:ext cx="4859280" cy="5396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  <a:gridCol w="539640"/>
                <a:gridCol w="541440"/>
                <a:gridCol w="539640"/>
                <a:gridCol w="540000"/>
                <a:gridCol w="539640"/>
                <a:gridCol w="539640"/>
              </a:tblGrid>
              <a:tr h="539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184560" y="3397320"/>
          <a:ext cx="3779640" cy="5396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  <a:gridCol w="541440"/>
                <a:gridCol w="539640"/>
                <a:gridCol w="539640"/>
                <a:gridCol w="539640"/>
              </a:tblGrid>
              <a:tr h="539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720960" y="4500720"/>
          <a:ext cx="3780000" cy="539640"/>
        </p:xfrm>
        <a:graphic>
          <a:graphicData uri="http://schemas.openxmlformats.org/drawingml/2006/table">
            <a:tbl>
              <a:tblPr/>
              <a:tblGrid>
                <a:gridCol w="540000"/>
                <a:gridCol w="539640"/>
                <a:gridCol w="539640"/>
                <a:gridCol w="541440"/>
                <a:gridCol w="539640"/>
                <a:gridCol w="540000"/>
                <a:gridCol w="539640"/>
              </a:tblGrid>
              <a:tr h="539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643120" y="3952800"/>
          <a:ext cx="5400720" cy="54000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41440"/>
                <a:gridCol w="539640"/>
                <a:gridCol w="539640"/>
                <a:gridCol w="539640"/>
                <a:gridCol w="540000"/>
                <a:gridCol w="541080"/>
                <a:gridCol w="540000"/>
                <a:gridCol w="539640"/>
              </a:tblGrid>
              <a:tr h="540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035000" y="5064120"/>
          <a:ext cx="4859280" cy="5396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  <a:gridCol w="539640"/>
                <a:gridCol w="541440"/>
                <a:gridCol w="539640"/>
                <a:gridCol w="540000"/>
                <a:gridCol w="539640"/>
                <a:gridCol w="539640"/>
              </a:tblGrid>
              <a:tr h="539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Прямоугольник 7"/>
          <p:cNvSpPr/>
          <p:nvPr/>
        </p:nvSpPr>
        <p:spPr>
          <a:xfrm>
            <a:off x="3666960" y="2841480"/>
            <a:ext cx="492948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8"/>
          <p:cNvSpPr/>
          <p:nvPr/>
        </p:nvSpPr>
        <p:spPr>
          <a:xfrm>
            <a:off x="3166920" y="3413160"/>
            <a:ext cx="378648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9"/>
          <p:cNvSpPr/>
          <p:nvPr/>
        </p:nvSpPr>
        <p:spPr>
          <a:xfrm>
            <a:off x="2666880" y="3984480"/>
            <a:ext cx="542952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3738600" y="4556160"/>
            <a:ext cx="378612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1023840" y="5056200"/>
            <a:ext cx="49291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2960" y="499680"/>
            <a:ext cx="692928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500" spc="-1" strike="noStrike">
                <a:solidFill>
                  <a:srgbClr val="000000"/>
                </a:solidFill>
                <a:latin typeface="Calibri"/>
              </a:rPr>
              <a:t>Транспорт көтә торган уры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500" spc="-1" strike="noStrike">
                <a:solidFill>
                  <a:srgbClr val="000000"/>
                </a:solidFill>
                <a:latin typeface="Calibri"/>
              </a:rPr>
              <a:t>Матур, кирәкле сү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500" spc="-1" strike="noStrike">
                <a:solidFill>
                  <a:srgbClr val="000000"/>
                </a:solidFill>
                <a:latin typeface="Calibri"/>
              </a:rPr>
              <a:t>Пасс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жирларга, </a:t>
            </a:r>
            <a:r>
              <a:rPr b="0" lang="tt-RU" sz="2500" spc="-1" strike="noStrike">
                <a:solidFill>
                  <a:srgbClr val="000000"/>
                </a:solidFill>
                <a:latin typeface="Calibri"/>
              </a:rPr>
              <a:t>автобус йөртүчегә, кондукторга кирәкле сыйфа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500" spc="-1" strike="noStrike">
                <a:solidFill>
                  <a:srgbClr val="000000"/>
                </a:solidFill>
                <a:latin typeface="Calibri"/>
              </a:rPr>
              <a:t>Автобуста аларга тотынырга кирәк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втобуста аны беркайчанда ашарга ярамый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164268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Транспорттан чыкканда әйберләрегезне онытмагыз, ә кергәндә әдәплелек турында онытмагыз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лланылган әдәбия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ультфильм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razymama.ru/cartoon.php?id_cartoon=135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люстрации – игра-лото «Этикет: Школа изящных мане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т  И.В. Мирошниченко «Уроки вежливост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митриева В. Главные правила пове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ткина М. Веселые уроки кота Этик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Скругленный прямоугольник 3"/>
          <p:cNvSpPr/>
          <p:nvPr/>
        </p:nvSpPr>
        <p:spPr>
          <a:xfrm>
            <a:off x="1714680" y="1071720"/>
            <a:ext cx="5929200" cy="4286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Трамвай 10.wmv" descr=""/>
          <p:cNvPicPr/>
          <p:nvPr/>
        </p:nvPicPr>
        <p:blipFill>
          <a:blip r:embed="rId1"/>
          <a:stretch/>
        </p:blipFill>
        <p:spPr>
          <a:xfrm>
            <a:off x="3143160" y="21430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139680" y="73080"/>
            <a:ext cx="8186760" cy="153036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5" descr="13.jpg"/>
          <p:cNvPicPr/>
          <p:nvPr/>
        </p:nvPicPr>
        <p:blipFill>
          <a:blip r:embed="rId2"/>
          <a:stretch/>
        </p:blipFill>
        <p:spPr>
          <a:xfrm>
            <a:off x="5018040" y="1285920"/>
            <a:ext cx="3336840" cy="4500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57160" y="1285560"/>
            <a:ext cx="39290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шек төбендә төртешеп торма. Беренче булып карт к һәм кечкенә балалы кешеләрне кертеп жиб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әр. Инвалидларга, авыр сумкалы кешеләргә менергә булыш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212760" y="139680"/>
            <a:ext cx="8188200" cy="153036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5" descr="13.jpg"/>
          <p:cNvPicPr/>
          <p:nvPr/>
        </p:nvPicPr>
        <p:blipFill>
          <a:blip r:embed="rId2"/>
          <a:stretch/>
        </p:blipFill>
        <p:spPr>
          <a:xfrm>
            <a:off x="5000760" y="1285920"/>
            <a:ext cx="3294000" cy="4429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28440" y="1285920"/>
            <a:ext cx="37861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асып торырга авыр булган кешеләргә урын би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785880" y="2643120"/>
            <a:ext cx="4000320" cy="2928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амвайга утырсаң(трамвайга гына түгел) олыларга һәрвакыт урын бир. Бу гадәтеңнән беркайчан оял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212760" y="73080"/>
            <a:ext cx="8188200" cy="153036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5" descr="13.jpg"/>
          <p:cNvPicPr/>
          <p:nvPr/>
        </p:nvPicPr>
        <p:blipFill>
          <a:blip r:embed="rId2"/>
          <a:stretch/>
        </p:blipFill>
        <p:spPr>
          <a:xfrm>
            <a:off x="4929120" y="1214280"/>
            <a:ext cx="3363840" cy="4500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28440" y="1213920"/>
            <a:ext cx="37861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алалы хатын-кызларга урын бир. Салонда башкаларга комачауламаслык итеп басып торырга тырыш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928800" y="3500280"/>
            <a:ext cx="3786120" cy="2071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ы от сиденья отойд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сторонку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тупим мес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ме и ребе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212760" y="139680"/>
            <a:ext cx="8188200" cy="153036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5" descr="13.jpg"/>
          <p:cNvPicPr/>
          <p:nvPr/>
        </p:nvPicPr>
        <p:blipFill>
          <a:blip r:embed="rId2"/>
          <a:stretch/>
        </p:blipFill>
        <p:spPr>
          <a:xfrm>
            <a:off x="4857840" y="1285920"/>
            <a:ext cx="3311280" cy="4429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142640" y="1500120"/>
            <a:ext cx="3500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Хатын –кызларга һәм кызларга урын бир. Яки бөтенләй утырма.Синең аякларың сәламәт би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139680" y="73080"/>
            <a:ext cx="8186760" cy="153036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5" descr="13.jpg"/>
          <p:cNvPicPr/>
          <p:nvPr/>
        </p:nvPicPr>
        <p:blipFill>
          <a:blip r:embed="rId2"/>
          <a:stretch/>
        </p:blipFill>
        <p:spPr>
          <a:xfrm>
            <a:off x="4929120" y="1276200"/>
            <a:ext cx="3303720" cy="4438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00080" y="1731960"/>
            <a:ext cx="357192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Ир кешеләр һәм малайлар кызларга, хатын-кызларга чыкканда кул бирергә тиеш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500040" y="-176040"/>
            <a:ext cx="8186760" cy="2485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L:\etiket3\etiket3\16.jpg"/>
          <p:cNvPicPr/>
          <p:nvPr/>
        </p:nvPicPr>
        <p:blipFill>
          <a:blip r:embed="rId2"/>
          <a:stretch/>
        </p:blipFill>
        <p:spPr>
          <a:xfrm>
            <a:off x="3371760" y="1332000"/>
            <a:ext cx="2414520" cy="324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L:\etiket3\etiket3\17.jpg"/>
          <p:cNvPicPr/>
          <p:nvPr/>
        </p:nvPicPr>
        <p:blipFill>
          <a:blip r:embed="rId3"/>
          <a:stretch/>
        </p:blipFill>
        <p:spPr>
          <a:xfrm>
            <a:off x="754200" y="1335240"/>
            <a:ext cx="2388960" cy="324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L:\etiket3\etiket3\18.jpg"/>
          <p:cNvPicPr/>
          <p:nvPr/>
        </p:nvPicPr>
        <p:blipFill>
          <a:blip r:embed="rId4"/>
          <a:stretch/>
        </p:blipFill>
        <p:spPr>
          <a:xfrm>
            <a:off x="6004080" y="1359000"/>
            <a:ext cx="2425680" cy="3240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9"/>
          <p:cNvSpPr/>
          <p:nvPr/>
        </p:nvSpPr>
        <p:spPr>
          <a:xfrm>
            <a:off x="1214280" y="4714920"/>
            <a:ext cx="6643800" cy="1214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ссажирларга</a:t>
            </a:r>
            <a:r>
              <a:rPr b="1" lang="tt-RU" sz="1800" spc="-1" strike="noStrike">
                <a:solidFill>
                  <a:srgbClr val="000000"/>
                </a:solidFill>
                <a:latin typeface="Calibri"/>
              </a:rPr>
              <a:t> автобустан чыгарга комачаулам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анспортка мороженый</a:t>
            </a:r>
            <a:r>
              <a:rPr b="1" lang="tt-RU" sz="1800" spc="-1" strike="noStrike">
                <a:solidFill>
                  <a:srgbClr val="000000"/>
                </a:solidFill>
                <a:latin typeface="Calibri"/>
              </a:rPr>
              <a:t> һәм пироңкилар белән кермә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ычкырып сөйлә</a:t>
            </a:r>
            <a:r>
              <a:rPr b="1" lang="tt-RU" sz="1800" spc="-1" strike="noStrike">
                <a:solidFill>
                  <a:srgbClr val="000000"/>
                </a:solidFill>
                <a:latin typeface="Calibri"/>
              </a:rPr>
              <a:t>шмә һәм каты итеп музыка тыңлам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анспортка утырганда, кирәк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928800" y="207180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Беренче булып керерг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6"/>
          <p:cNvSpPr/>
          <p:nvPr/>
        </p:nvSpPr>
        <p:spPr>
          <a:xfrm>
            <a:off x="928800" y="3357720"/>
            <a:ext cx="7358040" cy="78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Хатын-кызны, кызны беренче кертерг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7"/>
          <p:cNvSpPr/>
          <p:nvPr/>
        </p:nvSpPr>
        <p:spPr>
          <a:xfrm>
            <a:off x="928800" y="4643280"/>
            <a:ext cx="7358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Барысына да керергә комачаулар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9D%D1%83%20%D1%87%D1%82%D0%BE%20%D0%B6%D0%B5%20%D1%82%D1%8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F%D0%BE%D0%BF%D1%80%D0%BE%D0%B1%D1%83%D0%B9%20%D0%B5%D1%89%D1%91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01:46:17Z</dcterms:created>
  <dc:creator>Bazil</dc:creator>
  <dc:description/>
  <dc:language>en-US</dc:language>
  <cp:lastModifiedBy>Гульшат</cp:lastModifiedBy>
  <dcterms:modified xsi:type="dcterms:W3CDTF">2017-03-14T17:48:04Z</dcterms:modified>
  <cp:revision>78</cp:revision>
  <dc:subject/>
  <dc:title>Слайд 1</dc:title>
</cp:coreProperties>
</file>