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B09-D6D9-4AEB-8994-709AE250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691-D013-446C-96F3-3ADFC38D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0C7-9EA8-4523-9AA4-A7F1A1BA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967-4381-483E-A303-A586CDEF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C43B-CB6E-471C-80E7-E30DE320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F44F-D4E2-47B0-BA04-21F8F28E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BFCE-819C-44BF-9B23-AB7274A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4077-9745-460F-A97B-094B4592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10F8-684F-4FAC-BCC5-7FB15621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0C04-55EC-4943-8390-BC80104E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1A6C-C4BD-4F3A-AB3B-2E174EB4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D83-5FB3-4474-83F2-F0816AD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08C-F000-4F88-8081-8B9206D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15B6-CD70-4317-A8C0-9E1F296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68E4-0600-4A33-B1CF-0F3D0784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6082-A44E-42A6-8765-2C29E921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7AAF-5220-4753-A1B9-D9FDECFE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D5A2-AD86-41B0-AA0A-7EE945D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1DD6-23BB-4AB9-A5FE-749DEF19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D08C-E9A6-4502-8904-40830BB7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8190-CA3E-4B21-9F3E-E43545F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E685-56D7-479D-86E2-49663CF3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80D-5B84-4A2A-8607-DDD8DD3D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15AA-CD36-4F9A-BF5A-D4B2C7DB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4A8C-E56B-431B-97D7-A7E0AA6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44D3-58AB-4DD2-BF69-5D7F1A55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835D-F15F-4AEA-9BB7-3976F863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D9D7-9253-4A49-87A2-D66D4328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A2DC-B1BF-4A61-9BCB-0A1DE860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0806-E5D2-4E4A-8831-7C8F0326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B8FF-4DE9-4AB6-A6CC-71820231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7962-EAF5-404D-A30B-30A1F07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2DE81-82CB-42F7-B267-5872214C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511-2CB6-4989-8CEC-465BF8F9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8141-1B95-4A25-B987-4C87DA5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B4B73-354F-475F-8EA1-831E9E44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C2F5-022B-40E0-A250-72E28C0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7D43-E784-4AED-855B-13DFA35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6F9E-629A-4D65-9F29-E9E2ABBC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0274-9A17-48BA-871C-EB66CCF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6FC1-A093-4F4B-A2F1-C67DCDB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023E-6840-4BD1-A96B-D906ABD7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BF59-954D-406F-94A2-2BB247E7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59CFE-7197-4B8F-8A34-A2A3D31C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C46-5654-4258-ABBA-8A305A2C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A4D12-C111-4655-AE26-4981899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0A5B5-4E02-45A1-AB59-D79AABAF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BB40-4585-4BB8-B4BB-675CD39F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3E4C-067F-48F5-BB31-7E376144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F87B-267F-41F1-9C52-37C59B0F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B12F-9E3E-49CE-898C-A6E4A36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F5AF-F276-425F-A909-7CF8E81D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9CAC-F10C-4119-BB08-C18AAB35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301B4-7E47-46B1-B1A4-0733C8D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7D97-2857-474B-84E2-5751C685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772-8F3A-4596-A69A-17EBC8AB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7AD04-0E52-4EDB-A56E-943A9329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103-5A5D-4D7F-9C18-6E3E9F7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316-2C0B-4F03-9618-BD3054A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D69-B732-4B7A-895D-E9D84C6A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71CC-F835-4216-AAF2-4F19113EE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F64C-CC64-46FA-8AEE-EEA5CE6D1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B29-BC12-45FA-82C7-C589681A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E47D-502A-41C6-9060-2F7DE6BF63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7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7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9CF-CC3E-4A37-90AB-259BD71F26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11280" y="981000"/>
            <a:ext cx="8064360" cy="34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0000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имое движение плане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0000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11280" y="260280"/>
            <a:ext cx="77770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нфигурация внутрених план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1916280"/>
            <a:ext cx="309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Элонгации плане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ркурий - 2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нера - 4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03640" y="1989000"/>
            <a:ext cx="3600360" cy="3895920"/>
            <a:chOff x="3203640" y="1989000"/>
            <a:chExt cx="3600360" cy="3895920"/>
          </a:xfrm>
        </p:grpSpPr>
        <p:grpSp>
          <p:nvGrpSpPr>
            <p:cNvPr id="234" name=""/>
            <p:cNvGrpSpPr/>
            <p:nvPr/>
          </p:nvGrpSpPr>
          <p:grpSpPr>
            <a:xfrm>
              <a:off x="3203640" y="1989000"/>
              <a:ext cx="3600360" cy="3672000"/>
              <a:chOff x="3203640" y="1989000"/>
              <a:chExt cx="3600360" cy="3672000"/>
            </a:xfrm>
          </p:grpSpPr>
          <p:sp>
            <p:nvSpPr>
              <p:cNvPr id="235" name=""/>
              <p:cNvSpPr/>
              <p:nvPr/>
            </p:nvSpPr>
            <p:spPr>
              <a:xfrm>
                <a:off x="4788000" y="3500280"/>
                <a:ext cx="431640" cy="432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40000" y="2852640"/>
                <a:ext cx="1727280" cy="1727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03640" y="1989000"/>
                <a:ext cx="3600360" cy="3600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03640" y="2852640"/>
                <a:ext cx="0" cy="172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03640" y="4581360"/>
                <a:ext cx="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4282560" y="3860640"/>
                <a:ext cx="57636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82920" y="4148280"/>
                <a:ext cx="720720" cy="151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48360" y="3860640"/>
                <a:ext cx="57600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003640" y="4148280"/>
                <a:ext cx="720720" cy="144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43280" y="2492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43280" y="4508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24360" y="4076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724360" y="40766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076720" y="5516640"/>
              <a:ext cx="124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59280" y="5516640"/>
              <a:ext cx="289080" cy="257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611280" y="260280"/>
            <a:ext cx="77770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нфигурация внутрених план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640" y="260280"/>
            <a:ext cx="7993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конфигурация внешних планет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25840" y="1633680"/>
            <a:ext cx="3529800" cy="3957840"/>
            <a:chOff x="2625840" y="1633680"/>
            <a:chExt cx="3529800" cy="3957840"/>
          </a:xfrm>
        </p:grpSpPr>
        <p:sp>
          <p:nvSpPr>
            <p:cNvPr id="253" name=""/>
            <p:cNvSpPr/>
            <p:nvPr/>
          </p:nvSpPr>
          <p:spPr>
            <a:xfrm>
              <a:off x="4426920" y="1633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625840" y="1992960"/>
              <a:ext cx="3529800" cy="3598560"/>
              <a:chOff x="2625840" y="1992960"/>
              <a:chExt cx="3529800" cy="3598560"/>
            </a:xfrm>
          </p:grpSpPr>
          <p:sp>
            <p:nvSpPr>
              <p:cNvPr id="255" name=""/>
              <p:cNvSpPr/>
              <p:nvPr/>
            </p:nvSpPr>
            <p:spPr>
              <a:xfrm>
                <a:off x="4137480" y="3428280"/>
                <a:ext cx="433440" cy="4305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489480" y="2854080"/>
                <a:ext cx="1656000" cy="1558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97480" y="1992960"/>
                <a:ext cx="3312000" cy="3301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81840" y="4362120"/>
                <a:ext cx="144720" cy="1422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4920" y="1992960"/>
                <a:ext cx="0" cy="236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4920" y="4506120"/>
                <a:ext cx="0" cy="78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13120" y="4433760"/>
                <a:ext cx="288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81840" y="4433760"/>
                <a:ext cx="93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Земл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54920" y="52232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25840" y="43621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95280" y="43621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11280" y="260280"/>
            <a:ext cx="77770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нфигурация внутрених план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80360" y="5516640"/>
            <a:ext cx="1579320" cy="1122120"/>
          </a:xfrm>
          <a:prstGeom prst="borderCallout1">
            <a:avLst>
              <a:gd name="adj1" fmla="val 18750"/>
              <a:gd name="adj2" fmla="val -8333"/>
              <a:gd name="adj3" fmla="val -29421"/>
              <a:gd name="adj4" fmla="val -5024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рбита 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1844640"/>
            <a:ext cx="1942920" cy="1079640"/>
          </a:xfrm>
          <a:prstGeom prst="borderCallout1">
            <a:avLst>
              <a:gd name="adj1" fmla="val 18750"/>
              <a:gd name="adj2" fmla="val -8333"/>
              <a:gd name="adj3" fmla="val 125736"/>
              <a:gd name="adj4" fmla="val -6380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рбита внутренней план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492360" y="2133720"/>
            <a:ext cx="3600360" cy="3671280"/>
            <a:chOff x="3492360" y="2133720"/>
            <a:chExt cx="3600360" cy="3671280"/>
          </a:xfrm>
        </p:grpSpPr>
        <p:sp>
          <p:nvSpPr>
            <p:cNvPr id="270" name=""/>
            <p:cNvSpPr/>
            <p:nvPr/>
          </p:nvSpPr>
          <p:spPr>
            <a:xfrm>
              <a:off x="5076720" y="3644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8720" y="2997000"/>
              <a:ext cx="1727280" cy="1726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92360" y="2133720"/>
              <a:ext cx="3600360" cy="36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92360" y="2997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92360" y="47257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571280" y="4005000"/>
              <a:ext cx="57636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1640" y="4292640"/>
              <a:ext cx="720720" cy="151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7080" y="4005000"/>
              <a:ext cx="57600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292360" y="4292640"/>
              <a:ext cx="720720" cy="14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2000" y="263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3200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13080" y="422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13080" y="422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79280" y="1916280"/>
            <a:ext cx="3097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рхнее соединение план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жнее соедин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точная элонгация планеты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аибольшее удаление плане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падная элонгация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аибольшее удаление плане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Элонгации плане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ркурий - 2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нера - 4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58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5661000"/>
            <a:ext cx="2174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11280" y="260280"/>
            <a:ext cx="77770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онфигурация внутрених план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9640" y="260280"/>
            <a:ext cx="79930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конфигурация внешних планет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7451640" y="1557360"/>
            <a:ext cx="1494000" cy="977760"/>
          </a:xfrm>
          <a:prstGeom prst="borderCallout1">
            <a:avLst>
              <a:gd name="adj1" fmla="val 18750"/>
              <a:gd name="adj2" fmla="val -8333"/>
              <a:gd name="adj3" fmla="val 72402"/>
              <a:gd name="adj4" fmla="val -5898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рбита внешней план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31000" y="2924280"/>
            <a:ext cx="1206720" cy="690480"/>
          </a:xfrm>
          <a:prstGeom prst="borderCallout1">
            <a:avLst>
              <a:gd name="adj1" fmla="val 18750"/>
              <a:gd name="adj2" fmla="val -8333"/>
              <a:gd name="adj3" fmla="val 64597"/>
              <a:gd name="adj4" fmla="val -10039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рбита Зем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067280" y="2060640"/>
            <a:ext cx="3529080" cy="3608280"/>
            <a:chOff x="4067280" y="2060640"/>
            <a:chExt cx="3529080" cy="3608280"/>
          </a:xfrm>
        </p:grpSpPr>
        <p:sp>
          <p:nvSpPr>
            <p:cNvPr id="292" name=""/>
            <p:cNvSpPr/>
            <p:nvPr/>
          </p:nvSpPr>
          <p:spPr>
            <a:xfrm>
              <a:off x="5578560" y="3500280"/>
              <a:ext cx="43344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30920" y="2924280"/>
              <a:ext cx="1655640" cy="1563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38920" y="2060640"/>
              <a:ext cx="3311280" cy="3311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22920" y="443700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96000" y="206064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458136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54560" y="4508640"/>
              <a:ext cx="28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22920" y="450864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9600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67280" y="44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6000" y="44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55640" y="2276640"/>
            <a:ext cx="2303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единение план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остояние план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точная квад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падная квад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91ff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вязь синодического и сидерического периодов пл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95280" y="1700280"/>
            <a:ext cx="3168720" cy="1944360"/>
            <a:chOff x="395280" y="1700280"/>
            <a:chExt cx="3168720" cy="1944360"/>
          </a:xfrm>
        </p:grpSpPr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395280" y="1700280"/>
                  <a:ext cx="3079800" cy="18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07" name=""/>
            <p:cNvGrpSpPr/>
            <p:nvPr/>
          </p:nvGrpSpPr>
          <p:grpSpPr>
            <a:xfrm>
              <a:off x="3132000" y="3213000"/>
              <a:ext cx="432000" cy="431640"/>
              <a:chOff x="3132000" y="3213000"/>
              <a:chExt cx="432000" cy="431640"/>
            </a:xfrm>
          </p:grpSpPr>
          <p:sp>
            <p:nvSpPr>
              <p:cNvPr id="308" name=""/>
              <p:cNvSpPr/>
              <p:nvPr/>
            </p:nvSpPr>
            <p:spPr>
              <a:xfrm>
                <a:off x="3132000" y="3213000"/>
                <a:ext cx="432000" cy="431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48000" y="3213000"/>
                <a:ext cx="0" cy="43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32000" y="3429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5724360" y="1773360"/>
            <a:ext cx="2719440" cy="1800000"/>
            <a:chOff x="5724360" y="1773360"/>
            <a:chExt cx="2719440" cy="1800000"/>
          </a:xfrm>
        </p:grpSpPr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5724360" y="1773360"/>
                  <a:ext cx="2719440" cy="15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13" name=""/>
            <p:cNvGrpSpPr/>
            <p:nvPr/>
          </p:nvGrpSpPr>
          <p:grpSpPr>
            <a:xfrm>
              <a:off x="7020000" y="3141720"/>
              <a:ext cx="431640" cy="431640"/>
              <a:chOff x="7020000" y="3141720"/>
              <a:chExt cx="431640" cy="431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020000" y="3141720"/>
                <a:ext cx="431640" cy="431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35640" y="3141720"/>
                <a:ext cx="0" cy="43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020000" y="3357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2195640" y="357336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51640" y="3357720"/>
            <a:ext cx="432000" cy="792000"/>
          </a:xfrm>
          <a:prstGeom prst="downArrow">
            <a:avLst>
              <a:gd name="adj1" fmla="val 50000"/>
              <a:gd name="adj2" fmla="val 458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45086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Для внутренней (нижней)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35640" y="443700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Для внешней (верхней)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3:43Z</dcterms:created>
  <dc:creator>Пользователь</dc:creator>
  <dc:description/>
  <dc:language>en-US</dc:language>
  <cp:lastModifiedBy>Пользователь</cp:lastModifiedBy>
  <dcterms:modified xsi:type="dcterms:W3CDTF">2006-12-05T17:26:20Z</dcterms:modified>
  <cp:revision>3</cp:revision>
  <dc:subject/>
  <dc:title>Слайд 1</dc:title>
</cp:coreProperties>
</file>