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741-A1A4-45C3-B53D-FB8FC2EE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8EE-29BC-4114-9021-4FA221E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3A10C-F3BF-477E-82CC-F6883102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2A4D9-70E1-4DE6-AFF5-DE6671FC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F5A19-27B2-43B4-9520-C75497F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FBA08-A251-44C6-A804-68733C9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D5ED2-A8B9-4976-BF91-56C883A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2AB31-A57C-4C0F-A778-A39D2EE5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43272-D7FD-4989-BAC3-D9AA37B6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83EEB-134E-4788-ADF7-019E3F75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6F1E5-41E6-4297-B492-E6D82820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E1FAE-1400-44A6-9644-04EE33B6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EB7-7596-477C-8E56-CD2198EF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242BC-65B5-45BF-BE7E-CA7C74B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B3EA9-2C92-4DB3-87CC-B0E0155E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3401B-A975-49B2-A9DE-53296043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9BB8F-1240-442A-A29A-A9A390C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0BB0F-74AF-4515-821A-0CE3E64F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C86A0-03A6-4BD2-B69C-14740F9B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76CA5-2061-445D-B3C1-BD16141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EC04F-3ECB-4688-B941-C428BEB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AA024-D69C-4DF3-90BE-682C0194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B6F0E-6FC1-4087-A60C-FFC5B435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BAC-B862-4FBD-8C57-4755B0DF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33542-12A2-416C-8C07-3CFDE1B1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0F404-EBB0-4C3C-906D-BD75D9C9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36054-572B-4C43-A2BF-2FF21EDB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A3B93-7271-4DC9-A366-0CC1FA2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C866D-5362-42FF-826A-F1C97C2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C1575-A7D2-4B8B-904F-082AD62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26578-48EE-42C3-B603-21D2CB85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B1F90-9AC9-42BE-A5DE-3783266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29917-DEB8-4C72-B39F-2B607158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7C52B-77CE-4467-B5B0-CDF5F00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3B9-383A-41A1-B54A-E1BA22D1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AD5B-AEA3-406B-8A64-FF4DC863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667EA-13CD-47A1-BC6D-25AB5906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08D20-61CD-487F-98A8-86212B56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816B7-63F5-417C-A820-06B4253C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09031-8EA9-41D1-A17E-9A637177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84C04-F72E-4CDF-ACEE-CE666849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56CFF-E676-42E0-8129-3F003540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B6451-FAEF-488A-B522-1D8E088D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EC40B-1128-4F15-85B5-625E154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622C3-0F75-41AC-B60B-07B8C34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151-0A97-4ECD-BC36-992E1BAC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9A674-ABBE-4E92-8133-23D0C7F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84983-04AA-4411-80F8-8F18A83C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60328-A0C5-4F96-B14D-598275BF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6131D-E140-48F3-B9E2-BECC6B3D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DF1D6-33D0-4723-B2EC-2C4B547B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486A-649C-47B0-A45E-4B835970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15A2-F989-42AE-83FD-5CFFC0C5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E348-709D-4E9F-B1C9-880510C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410A-3E4A-46D6-B19E-4C1B7BA0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4730-AD20-44B7-8809-39D07078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BC1-7074-4339-BB9F-952CCF58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50D-D528-4DFC-A7BA-10F68916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A717-F866-4E2A-9349-4C4B3CD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275F-5AD8-46EE-A8E6-31DA070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686F-23BF-4CB8-80D6-EB5167EF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3AFB-BF67-49F0-90C9-373E3F84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4679-CC80-401F-8955-B16C49D6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0075-CA93-4564-B3FD-8E750820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B293-FA2B-47A6-9FE6-8558EA6D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649C-806E-45C9-9A21-28DCA9B1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9677-FCCA-4571-A45A-3CB44AC4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3B7-86FB-4D6D-8AF7-7AC4C77B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5669-FB90-451C-A980-D0A1C68D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131E-276E-443D-8187-9861103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D972-A630-44BE-A5DC-118B49BA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D379-24CD-4EAE-957E-491249F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595E-78FD-4806-A2B0-D442FE54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A8C9-0C76-42DB-8F4C-0C071100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3D32-D878-4460-8673-78558C83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0BC3-3612-4FBF-BC5A-24DC3FA3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6053-6ABA-451D-94D0-75F751C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775C-498E-4D53-B53D-6A949C8A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58B-199A-4EFC-91DA-2C9B2810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8848-A40B-420B-954C-F755B6DB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07134-1119-49C3-AAA1-07C42F79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D150-6906-4679-8B88-3765FBFF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273C7-96A4-4021-B26E-D8E7E99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F73C6-C60D-4FA0-98FE-45F3841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E030-DB41-4971-8439-F42747AE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2D43-3D86-49A5-865E-D9991B29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8555-359F-4B5D-BC9D-69855BBC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D062-EACD-43AC-8C1E-68AA5AA1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C559-16CF-4571-80BB-68427AD6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571-DC67-486E-BCA5-78A9F82E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46A9-EBAD-4552-8703-2E760AE4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C55E6-0196-4BE6-97F8-3B0CC950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6541-A722-4A73-B889-A1792AF3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A8A0-EF27-430D-A043-DA6C0C22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19F4-FB0A-4749-9B68-D5879CE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8467E-C8A7-4DEB-8AE8-65488EA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1C33-3001-41E6-9F9B-5B1E527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F630-465A-45D7-96C1-1CAC380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5738-9777-4F71-B683-950A234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7BD1A-8070-408A-B227-598B3466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302-5485-4F1A-9B0F-6A3C0B5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0F78B-3204-4AF5-A817-905B9272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45E3-0830-46C2-BDF0-C5BEA91E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8E4D-5607-400E-B200-94CC0F8C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072AC-AD58-4C7C-A6E6-348933E1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78C3-081B-42D9-ABC1-449178CB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D687E-17E5-4259-8F70-27403687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97CDB-2E2C-4632-A87B-4BBB7790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D2D2-71C3-46F7-B83A-DBBD393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08C8-28F8-44A3-AFE6-BDB9AB1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4DAC3-8ACB-41EA-BDE4-58C5ED0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B0D-8CEA-42B2-B567-B367204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AA559-DDF3-4B87-A3FB-CDB8248C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3B0A-A096-4385-AADC-E910C3A9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7D033-789F-4EE3-B4AB-057CEFA0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912D-1A14-4240-ADCE-C2B21CE7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7739-6CC1-4750-B04E-3C43D60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85D1C-FDD3-4500-8BED-883F163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062BC-AC7F-4D64-8EAF-F04CE3E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E18A-4717-4202-80AD-9D9B0D1C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58FFF-1A1F-49E4-9940-5D619B6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375C7-CB8B-4E39-88A0-229279C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7F9-E21B-4AB5-A81B-FE4EDDE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CBAFD-C287-4EB8-BE5B-01FE951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2B35-BF46-46DC-AF4B-B0F1D7DE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0DAF-966D-4220-B227-3DB473B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5465-77B4-492A-9F06-235A8C27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5F36-7E63-45DD-AE55-4D87646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AEDD-BB25-45F9-BBBE-9D592A67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20897-7735-4B6B-A5FA-AB489652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9C3D8-36A5-46FB-B0F6-86EC294C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F3088-0314-4DE6-8E41-8A726508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2BB9C-2029-48BC-8DDD-364B9A0B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2FD-F9EC-4BC3-8FAC-9A40AFCA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6CD87-C3FB-40E9-B360-98BCC200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8437-EB94-42E8-A06C-CB0C5D6E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FBBFB-7DC3-44BE-9C08-384F766C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9C810-83E4-4CE8-8F55-44C9D22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E08D-BFF7-4E5D-BEC5-E82C122A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43DE-2EDA-4E34-AF9D-F6FD9DBF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ED53F-355D-4FE7-83C4-DF9EFBD4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63B55-48EE-4CC8-AC6B-34030888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71BDC-6629-4E2C-9A14-9B69903F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10EA-474D-4DED-9364-56F7A03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6.10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FB9-35EA-42EA-B129-DBF5DDB76CE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F425-F502-47B7-AE4C-CC15A98CC27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9AC2-E1EB-4BDB-A301-C43DAF5FB7A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A80C-7D45-470D-A3BF-61121259EDF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BDB3-E61F-438A-8365-160D7CD82E6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C6F7-1090-4FF5-940A-ED2C4DB81CD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043-3865-4A51-A409-5E1C06E21F4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3A6C-F1CF-4326-B978-28A8BC576B94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734-2EF6-4CCD-8B6D-F0B7CD8B6C6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1D6-3498-4557-A45E-7A660DCBD02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CDD1-07E9-4C48-9725-E369F5E4323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6436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ЭПбук «Поющие гласные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11280" y="105264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Цель: </a:t>
            </a:r>
            <a:r>
              <a:rPr b="1" lang="ru-RU" sz="2000" spc="-1" strike="noStrike">
                <a:solidFill>
                  <a:srgbClr val="9a3130"/>
                </a:solidFill>
                <a:latin typeface="Calibri"/>
              </a:rPr>
              <a:t>Познакомить детей с гласными звуками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Задачи: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Развивать фонематический слух, зрительное и слуховое  восприятие детей.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Закрепить знания детей о гласных звуках, их артикуляции и звучании. 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Учить детей находить заданный звук в слове, а так же определять его место в слове.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Развивать творческое воображение, мелкую моторику на материале гласных звуков.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Воспитывать уважение друг к другу, умение работать парами и группами.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Материал: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Гласные звуки. Кармашки с материалом: найди картинки к звукам; нарисуй дорожку к заданному звуку; отгадай кроссворд на заданный звук; найди картинку с одинаковым звуком; где спрятался звук; подбери тучку со звуками к картинке; скажи звук весело, грустно, удивленно и т.д.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Материал в кармашках можно использовать индивидуально, для работы в паре или группе, а так же в качестве демонстрационного материала.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a3130"/>
                </a:solidFill>
                <a:latin typeface="Calibri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\Desktop\Лепбук\гласные\SAM_1492.JPG"/>
          <p:cNvPicPr/>
          <p:nvPr/>
        </p:nvPicPr>
        <p:blipFill>
          <a:blip r:embed="rId1"/>
          <a:stretch/>
        </p:blipFill>
        <p:spPr>
          <a:xfrm>
            <a:off x="611280" y="123840"/>
            <a:ext cx="77058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36:03Z</dcterms:created>
  <dc:creator>Александр</dc:creator>
  <dc:description/>
  <dc:language>en-US</dc:language>
  <cp:lastModifiedBy>A</cp:lastModifiedBy>
  <dcterms:modified xsi:type="dcterms:W3CDTF">2017-10-27T17:08:53Z</dcterms:modified>
  <cp:revision>2</cp:revision>
  <dc:subject/>
  <dc:title>Шаблон оформ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291049</vt:lpwstr>
  </property>
</Properties>
</file>