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798B-D88E-4071-836D-D1B48EAB1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76E0-EE6D-459C-8765-1B85A392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3DF6-9693-4795-BF23-B8A8B8567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C4DC-4FAA-4325-9C94-E2A512D5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3754-8D92-4380-AB2D-16183C69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6C8A-355E-4F67-B0C9-B9969DA3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CDAE-F4EC-49A6-9A36-2A85A9F1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E45A-A14E-47C6-BB75-43D46745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946F-5CC1-4BC3-A18D-F3406C75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F3D1-37AC-493F-805B-5A7A6D30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47FA-B1F8-436E-9E1E-DD58EB72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D7F9-6067-4A25-ACBA-F4784337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09D8-EB7D-46CE-BC79-3CDAD7B87A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755640" y="191628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Экономия семейных ресурс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2987640" y="5373720"/>
            <a:ext cx="593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Кваша И.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учитель начальных классов ГБОУ СОШ № 28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250920" y="54936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Семейные ресурсы </a:t>
            </a: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это запасы средств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используемые для ве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хозя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19800" y="3789360"/>
            <a:ext cx="376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финансовые 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(деньг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5232600" y="3789360"/>
            <a:ext cx="354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материальные 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(предметы бы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2856240" y="5084640"/>
            <a:ext cx="353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трудовые 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(труд членов семь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Прямая со стрелкой 9"/>
          <p:cNvCxnSpPr/>
          <p:nvPr/>
        </p:nvCxnSpPr>
        <p:spPr>
          <a:xfrm>
            <a:off x="4284360" y="2924280"/>
            <a:ext cx="1080" cy="2018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" name="Прямая со стрелкой 11"/>
          <p:cNvCxnSpPr>
            <a:endCxn id="44" idx="0"/>
          </p:cNvCxnSpPr>
          <p:nvPr/>
        </p:nvCxnSpPr>
        <p:spPr>
          <a:xfrm flipH="1">
            <a:off x="1901160" y="2997360"/>
            <a:ext cx="1051560" cy="792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" name="Прямая со стрелкой 13"/>
          <p:cNvCxnSpPr/>
          <p:nvPr/>
        </p:nvCxnSpPr>
        <p:spPr>
          <a:xfrm>
            <a:off x="5651280" y="2924280"/>
            <a:ext cx="1081800" cy="792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2576520" y="2852640"/>
            <a:ext cx="417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d0d0d"/>
                </a:solidFill>
                <a:latin typeface="Arial"/>
              </a:rPr>
              <a:t>РАСХОД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Группа 64"/>
          <p:cNvGrpSpPr/>
          <p:nvPr/>
        </p:nvGrpSpPr>
        <p:grpSpPr>
          <a:xfrm>
            <a:off x="3294360" y="189000"/>
            <a:ext cx="2933280" cy="1944720"/>
            <a:chOff x="3294360" y="189000"/>
            <a:chExt cx="2933280" cy="1944720"/>
          </a:xfrm>
        </p:grpSpPr>
        <p:sp>
          <p:nvSpPr>
            <p:cNvPr id="52" name="TextBox 2"/>
            <p:cNvSpPr/>
            <p:nvPr/>
          </p:nvSpPr>
          <p:spPr>
            <a:xfrm>
              <a:off x="3294360" y="189000"/>
              <a:ext cx="2687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оммуналь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латеж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Группа 15"/>
            <p:cNvGrpSpPr/>
            <p:nvPr/>
          </p:nvGrpSpPr>
          <p:grpSpPr>
            <a:xfrm>
              <a:off x="3564360" y="1197360"/>
              <a:ext cx="2663280" cy="936360"/>
              <a:chOff x="3564360" y="1197360"/>
              <a:chExt cx="2663280" cy="936360"/>
            </a:xfrm>
          </p:grpSpPr>
          <p:grpSp>
            <p:nvGrpSpPr>
              <p:cNvPr id="54" name="Группа 14"/>
              <p:cNvGrpSpPr/>
              <p:nvPr/>
            </p:nvGrpSpPr>
            <p:grpSpPr>
              <a:xfrm>
                <a:off x="3564360" y="1197360"/>
                <a:ext cx="1799280" cy="936360"/>
                <a:chOff x="3564360" y="1197360"/>
                <a:chExt cx="1799280" cy="936360"/>
              </a:xfrm>
            </p:grpSpPr>
            <p:pic>
              <p:nvPicPr>
                <p:cNvPr id="55" name="Picture 2" descr="C:\Users\РиК\Desktop\экономия\газ м..png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564360" y="1197360"/>
                  <a:ext cx="881280" cy="864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Picture 3" descr="C:\Users\РиК\Desktop\экономия\лампа м.png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572000" y="1341360"/>
                  <a:ext cx="791640" cy="792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7" name="Picture 4" descr="C:\Users\РиК\Desktop\экономия\кран.png"/>
              <p:cNvPicPr/>
              <p:nvPr/>
            </p:nvPicPr>
            <p:blipFill>
              <a:blip r:embed="rId4"/>
              <a:stretch/>
            </p:blipFill>
            <p:spPr>
              <a:xfrm>
                <a:off x="5364000" y="1197360"/>
                <a:ext cx="863640" cy="86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8" name="Группа 63"/>
          <p:cNvGrpSpPr/>
          <p:nvPr/>
        </p:nvGrpSpPr>
        <p:grpSpPr>
          <a:xfrm>
            <a:off x="185760" y="260280"/>
            <a:ext cx="2776680" cy="1697040"/>
            <a:chOff x="185760" y="260280"/>
            <a:chExt cx="2776680" cy="1697040"/>
          </a:xfrm>
        </p:grpSpPr>
        <p:sp>
          <p:nvSpPr>
            <p:cNvPr id="59" name="Прямоугольник 4"/>
            <p:cNvSpPr/>
            <p:nvPr/>
          </p:nvSpPr>
          <p:spPr>
            <a:xfrm>
              <a:off x="185760" y="260280"/>
              <a:ext cx="275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дежда, обувь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Группа 18"/>
            <p:cNvGrpSpPr/>
            <p:nvPr/>
          </p:nvGrpSpPr>
          <p:grpSpPr>
            <a:xfrm>
              <a:off x="251280" y="1053000"/>
              <a:ext cx="2711160" cy="904320"/>
              <a:chOff x="251280" y="1053000"/>
              <a:chExt cx="2711160" cy="904320"/>
            </a:xfrm>
          </p:grpSpPr>
          <p:pic>
            <p:nvPicPr>
              <p:cNvPr id="61" name="Рисунок 16" descr="одежда м.png"/>
              <p:cNvPicPr/>
              <p:nvPr/>
            </p:nvPicPr>
            <p:blipFill>
              <a:blip r:embed="rId5"/>
              <a:stretch/>
            </p:blipFill>
            <p:spPr>
              <a:xfrm>
                <a:off x="251280" y="1053000"/>
                <a:ext cx="1158840" cy="88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Рисунок 17" descr="обувь м.png"/>
              <p:cNvPicPr/>
              <p:nvPr/>
            </p:nvPicPr>
            <p:blipFill>
              <a:blip r:embed="rId6"/>
              <a:stretch/>
            </p:blipFill>
            <p:spPr>
              <a:xfrm>
                <a:off x="1692000" y="1099800"/>
                <a:ext cx="1270440" cy="85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3" name="Группа 68"/>
          <p:cNvGrpSpPr/>
          <p:nvPr/>
        </p:nvGrpSpPr>
        <p:grpSpPr>
          <a:xfrm>
            <a:off x="0" y="2421000"/>
            <a:ext cx="1898640" cy="1800000"/>
            <a:chOff x="0" y="2421000"/>
            <a:chExt cx="1898640" cy="1800000"/>
          </a:xfrm>
        </p:grpSpPr>
        <p:sp>
          <p:nvSpPr>
            <p:cNvPr id="64" name="Прямоугольник 3"/>
            <p:cNvSpPr/>
            <p:nvPr/>
          </p:nvSpPr>
          <p:spPr>
            <a:xfrm>
              <a:off x="9360" y="2421000"/>
              <a:ext cx="188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родукты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Рисунок 19" descr="продукты м.png"/>
            <p:cNvPicPr/>
            <p:nvPr/>
          </p:nvPicPr>
          <p:blipFill>
            <a:blip r:embed="rId7"/>
            <a:stretch/>
          </p:blipFill>
          <p:spPr>
            <a:xfrm>
              <a:off x="0" y="2925000"/>
              <a:ext cx="1704960" cy="12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Группа 67"/>
          <p:cNvGrpSpPr/>
          <p:nvPr/>
        </p:nvGrpSpPr>
        <p:grpSpPr>
          <a:xfrm>
            <a:off x="3579120" y="4581360"/>
            <a:ext cx="2053800" cy="2048040"/>
            <a:chOff x="3579120" y="4581360"/>
            <a:chExt cx="2053800" cy="2048040"/>
          </a:xfrm>
        </p:grpSpPr>
        <p:sp>
          <p:nvSpPr>
            <p:cNvPr id="67" name="TextBox 7"/>
            <p:cNvSpPr/>
            <p:nvPr/>
          </p:nvSpPr>
          <p:spPr>
            <a:xfrm>
              <a:off x="3579120" y="4581360"/>
              <a:ext cx="2053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обильна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вяз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Рисунок 21" descr="телефон м.png"/>
            <p:cNvPicPr/>
            <p:nvPr/>
          </p:nvPicPr>
          <p:blipFill>
            <a:blip r:embed="rId8"/>
            <a:stretch/>
          </p:blipFill>
          <p:spPr>
            <a:xfrm>
              <a:off x="4283640" y="5373000"/>
              <a:ext cx="1256400" cy="125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Группа 54"/>
          <p:cNvGrpSpPr/>
          <p:nvPr/>
        </p:nvGrpSpPr>
        <p:grpSpPr>
          <a:xfrm>
            <a:off x="176040" y="4869000"/>
            <a:ext cx="2341800" cy="1557360"/>
            <a:chOff x="176040" y="4869000"/>
            <a:chExt cx="2341800" cy="1557360"/>
          </a:xfrm>
        </p:grpSpPr>
        <p:sp>
          <p:nvSpPr>
            <p:cNvPr id="70" name="TextBox 6"/>
            <p:cNvSpPr/>
            <p:nvPr/>
          </p:nvSpPr>
          <p:spPr>
            <a:xfrm>
              <a:off x="176040" y="4869000"/>
              <a:ext cx="234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Развлеч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Группа 25"/>
            <p:cNvGrpSpPr/>
            <p:nvPr/>
          </p:nvGrpSpPr>
          <p:grpSpPr>
            <a:xfrm>
              <a:off x="179280" y="5301000"/>
              <a:ext cx="2304720" cy="1125360"/>
              <a:chOff x="179280" y="5301000"/>
              <a:chExt cx="2304720" cy="1125360"/>
            </a:xfrm>
          </p:grpSpPr>
          <p:pic>
            <p:nvPicPr>
              <p:cNvPr id="72" name="Рисунок 22" descr="театр м.png"/>
              <p:cNvPicPr/>
              <p:nvPr/>
            </p:nvPicPr>
            <p:blipFill>
              <a:blip r:embed="rId9"/>
              <a:stretch/>
            </p:blipFill>
            <p:spPr>
              <a:xfrm>
                <a:off x="1510200" y="5301000"/>
                <a:ext cx="973800" cy="90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Рисунок 23" descr="кино м..png"/>
              <p:cNvPicPr/>
              <p:nvPr/>
            </p:nvPicPr>
            <p:blipFill>
              <a:blip r:embed="rId10"/>
              <a:stretch/>
            </p:blipFill>
            <p:spPr>
              <a:xfrm>
                <a:off x="179280" y="5448960"/>
                <a:ext cx="1161360" cy="977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4" name="Группа 66"/>
          <p:cNvGrpSpPr/>
          <p:nvPr/>
        </p:nvGrpSpPr>
        <p:grpSpPr>
          <a:xfrm>
            <a:off x="6730200" y="260280"/>
            <a:ext cx="1919520" cy="1641600"/>
            <a:chOff x="6730200" y="260280"/>
            <a:chExt cx="1919520" cy="1641600"/>
          </a:xfrm>
        </p:grpSpPr>
        <p:pic>
          <p:nvPicPr>
            <p:cNvPr id="75" name="Рисунок 10" descr="автобус м..png"/>
            <p:cNvPicPr/>
            <p:nvPr/>
          </p:nvPicPr>
          <p:blipFill>
            <a:blip r:embed="rId11"/>
            <a:stretch/>
          </p:blipFill>
          <p:spPr>
            <a:xfrm>
              <a:off x="7092360" y="908280"/>
              <a:ext cx="1439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Прямоугольник 5"/>
            <p:cNvSpPr/>
            <p:nvPr/>
          </p:nvSpPr>
          <p:spPr>
            <a:xfrm>
              <a:off x="6730200" y="260280"/>
              <a:ext cx="19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Транспор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Группа 59"/>
          <p:cNvGrpSpPr/>
          <p:nvPr/>
        </p:nvGrpSpPr>
        <p:grpSpPr>
          <a:xfrm>
            <a:off x="7243560" y="2492280"/>
            <a:ext cx="1621080" cy="1731960"/>
            <a:chOff x="7243560" y="2492280"/>
            <a:chExt cx="1621080" cy="1731960"/>
          </a:xfrm>
        </p:grpSpPr>
        <p:pic>
          <p:nvPicPr>
            <p:cNvPr id="78" name="Рисунок 20" descr="лекарства м.png"/>
            <p:cNvPicPr/>
            <p:nvPr/>
          </p:nvPicPr>
          <p:blipFill>
            <a:blip r:embed="rId12"/>
            <a:stretch/>
          </p:blipFill>
          <p:spPr>
            <a:xfrm>
              <a:off x="7668000" y="2996280"/>
              <a:ext cx="1184760" cy="122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Box 8"/>
            <p:cNvSpPr/>
            <p:nvPr/>
          </p:nvSpPr>
          <p:spPr>
            <a:xfrm>
              <a:off x="7243560" y="2492280"/>
              <a:ext cx="162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Здоровь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Группа 65"/>
          <p:cNvGrpSpPr/>
          <p:nvPr/>
        </p:nvGrpSpPr>
        <p:grpSpPr>
          <a:xfrm>
            <a:off x="6359400" y="4797360"/>
            <a:ext cx="2766960" cy="1785960"/>
            <a:chOff x="6359400" y="4797360"/>
            <a:chExt cx="2766960" cy="1785960"/>
          </a:xfrm>
        </p:grpSpPr>
        <p:sp>
          <p:nvSpPr>
            <p:cNvPr id="81" name="TextBox 9"/>
            <p:cNvSpPr/>
            <p:nvPr/>
          </p:nvSpPr>
          <p:spPr>
            <a:xfrm>
              <a:off x="6359400" y="4797360"/>
              <a:ext cx="2766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редметы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личной гигиен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Рисунок 24" descr="мыло м.png"/>
            <p:cNvPicPr/>
            <p:nvPr/>
          </p:nvPicPr>
          <p:blipFill>
            <a:blip r:embed="rId13"/>
            <a:stretch/>
          </p:blipFill>
          <p:spPr>
            <a:xfrm>
              <a:off x="7062120" y="5733000"/>
              <a:ext cx="1279080" cy="8503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83" name="Прямая со стрелкой 27"/>
          <p:cNvCxnSpPr/>
          <p:nvPr/>
        </p:nvCxnSpPr>
        <p:spPr>
          <a:xfrm>
            <a:off x="4427280" y="3645000"/>
            <a:ext cx="1080" cy="1008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Прямая со стрелкой 29"/>
          <p:cNvCxnSpPr/>
          <p:nvPr/>
        </p:nvCxnSpPr>
        <p:spPr>
          <a:xfrm flipV="1">
            <a:off x="5580000" y="1844280"/>
            <a:ext cx="1440360" cy="1008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Прямая со стрелкой 35"/>
          <p:cNvCxnSpPr/>
          <p:nvPr/>
        </p:nvCxnSpPr>
        <p:spPr>
          <a:xfrm flipV="1">
            <a:off x="4500360" y="2060280"/>
            <a:ext cx="1080" cy="937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Прямая со стрелкой 39"/>
          <p:cNvCxnSpPr/>
          <p:nvPr/>
        </p:nvCxnSpPr>
        <p:spPr>
          <a:xfrm flipH="1" flipV="1">
            <a:off x="1692000" y="2060280"/>
            <a:ext cx="1728000" cy="792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" name="Прямая со стрелкой 41"/>
          <p:cNvCxnSpPr/>
          <p:nvPr/>
        </p:nvCxnSpPr>
        <p:spPr>
          <a:xfrm flipH="1">
            <a:off x="1763280" y="3428640"/>
            <a:ext cx="9374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Прямая со стрелкой 43"/>
          <p:cNvCxnSpPr/>
          <p:nvPr/>
        </p:nvCxnSpPr>
        <p:spPr>
          <a:xfrm flipH="1">
            <a:off x="2483640" y="3860280"/>
            <a:ext cx="793080" cy="1081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Прямая со стрелкой 45"/>
          <p:cNvCxnSpPr/>
          <p:nvPr/>
        </p:nvCxnSpPr>
        <p:spPr>
          <a:xfrm>
            <a:off x="5867280" y="3933720"/>
            <a:ext cx="721440" cy="936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Прямая со стрелкой 47"/>
          <p:cNvCxnSpPr/>
          <p:nvPr/>
        </p:nvCxnSpPr>
        <p:spPr>
          <a:xfrm>
            <a:off x="6516720" y="3428640"/>
            <a:ext cx="1008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318960" y="333360"/>
            <a:ext cx="87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«Бережливость лучше прибыт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604440" y="1844640"/>
            <a:ext cx="8084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кономить ресурсы семь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значит разумно вести хозяйств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продуманно расходова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имеющиеся средства, бережн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использовать продукты питани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вещ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318960" y="0"/>
            <a:ext cx="87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«Бережливость лучше прибыт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Группа 15"/>
          <p:cNvGrpSpPr/>
          <p:nvPr/>
        </p:nvGrpSpPr>
        <p:grpSpPr>
          <a:xfrm>
            <a:off x="5580000" y="2492280"/>
            <a:ext cx="2664000" cy="936720"/>
            <a:chOff x="5580000" y="2492280"/>
            <a:chExt cx="2664000" cy="936720"/>
          </a:xfrm>
        </p:grpSpPr>
        <p:grpSp>
          <p:nvGrpSpPr>
            <p:cNvPr id="95" name="Группа 14"/>
            <p:cNvGrpSpPr/>
            <p:nvPr/>
          </p:nvGrpSpPr>
          <p:grpSpPr>
            <a:xfrm>
              <a:off x="5580000" y="2492280"/>
              <a:ext cx="1800000" cy="936720"/>
              <a:chOff x="5580000" y="2492280"/>
              <a:chExt cx="1800000" cy="936720"/>
            </a:xfrm>
          </p:grpSpPr>
          <p:pic>
            <p:nvPicPr>
              <p:cNvPr id="96" name="Picture 2" descr="C:\Users\РиК\Desktop\экономия\газ м..png"/>
              <p:cNvPicPr/>
              <p:nvPr/>
            </p:nvPicPr>
            <p:blipFill>
              <a:blip r:embed="rId2"/>
              <a:stretch/>
            </p:blipFill>
            <p:spPr>
              <a:xfrm>
                <a:off x="5580000" y="2492280"/>
                <a:ext cx="881640" cy="86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Picture 3" descr="C:\Users\РиК\Desktop\экономия\лампа м.png"/>
              <p:cNvPicPr/>
              <p:nvPr/>
            </p:nvPicPr>
            <p:blipFill>
              <a:blip r:embed="rId3"/>
              <a:stretch/>
            </p:blipFill>
            <p:spPr>
              <a:xfrm>
                <a:off x="6588000" y="2636280"/>
                <a:ext cx="792000" cy="792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8" name="Picture 4" descr="C:\Users\РиК\Desktop\экономия\кран.png"/>
            <p:cNvPicPr/>
            <p:nvPr/>
          </p:nvPicPr>
          <p:blipFill>
            <a:blip r:embed="rId4"/>
            <a:stretch/>
          </p:blipFill>
          <p:spPr>
            <a:xfrm>
              <a:off x="7380000" y="2492280"/>
              <a:ext cx="864000" cy="86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Группа 18"/>
          <p:cNvGrpSpPr/>
          <p:nvPr/>
        </p:nvGrpSpPr>
        <p:grpSpPr>
          <a:xfrm>
            <a:off x="468360" y="2492280"/>
            <a:ext cx="2709720" cy="905040"/>
            <a:chOff x="468360" y="2492280"/>
            <a:chExt cx="2709720" cy="905040"/>
          </a:xfrm>
        </p:grpSpPr>
        <p:pic>
          <p:nvPicPr>
            <p:cNvPr id="100" name="Рисунок 12" descr="одежда м.png"/>
            <p:cNvPicPr/>
            <p:nvPr/>
          </p:nvPicPr>
          <p:blipFill>
            <a:blip r:embed="rId5"/>
            <a:stretch/>
          </p:blipFill>
          <p:spPr>
            <a:xfrm>
              <a:off x="468360" y="2492280"/>
              <a:ext cx="1158120" cy="88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Рисунок 13" descr="обувь м.png"/>
            <p:cNvPicPr/>
            <p:nvPr/>
          </p:nvPicPr>
          <p:blipFill>
            <a:blip r:embed="rId6"/>
            <a:stretch/>
          </p:blipFill>
          <p:spPr>
            <a:xfrm>
              <a:off x="1908360" y="2539080"/>
              <a:ext cx="1269720" cy="858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Рисунок 16" descr="продукты м.png"/>
          <p:cNvPicPr/>
          <p:nvPr/>
        </p:nvPicPr>
        <p:blipFill>
          <a:blip r:embed="rId7"/>
          <a:stretch/>
        </p:blipFill>
        <p:spPr>
          <a:xfrm>
            <a:off x="395280" y="765000"/>
            <a:ext cx="1704960" cy="12956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21" descr="автобус м..png"/>
          <p:cNvPicPr/>
          <p:nvPr/>
        </p:nvPicPr>
        <p:blipFill>
          <a:blip r:embed="rId8"/>
          <a:stretch/>
        </p:blipFill>
        <p:spPr>
          <a:xfrm>
            <a:off x="324000" y="4941720"/>
            <a:ext cx="1439640" cy="9939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3"/>
          <p:cNvSpPr/>
          <p:nvPr/>
        </p:nvSpPr>
        <p:spPr>
          <a:xfrm>
            <a:off x="4844880" y="3573360"/>
            <a:ext cx="408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речь электричеств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ду, г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4"/>
          <p:cNvSpPr/>
          <p:nvPr/>
        </p:nvSpPr>
        <p:spPr>
          <a:xfrm>
            <a:off x="250920" y="3500280"/>
            <a:ext cx="361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режно относи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одежде и обу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5"/>
          <p:cNvSpPr/>
          <p:nvPr/>
        </p:nvSpPr>
        <p:spPr>
          <a:xfrm>
            <a:off x="2073240" y="692280"/>
            <a:ext cx="724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упать только необходимые продук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окупать полуфабрик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ерекусывать в каф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6"/>
          <p:cNvSpPr/>
          <p:nvPr/>
        </p:nvSpPr>
        <p:spPr>
          <a:xfrm>
            <a:off x="1849320" y="5084640"/>
            <a:ext cx="74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енькие расстояния проходить пеш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пить проездной би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0" y="333360"/>
            <a:ext cx="921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В одиночку не одолеешь и кочку, артелью и через гору впор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420480" y="2133720"/>
            <a:ext cx="843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Всякий дом хозяином держит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755640" y="3500280"/>
            <a:ext cx="756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Добрый хозяин — господин деньгам, а плохой — слуг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205560" y="5661000"/>
            <a:ext cx="848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Дом вести – не рукавами тря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710280" y="0"/>
            <a:ext cx="7873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Распределение обязанносте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по организ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встречи го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2" descr="родители м.png"/>
          <p:cNvPicPr/>
          <p:nvPr/>
        </p:nvPicPr>
        <p:blipFill>
          <a:blip r:embed="rId2"/>
          <a:stretch/>
        </p:blipFill>
        <p:spPr>
          <a:xfrm>
            <a:off x="6516720" y="1484280"/>
            <a:ext cx="1481040" cy="12970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4" descr="семья.png"/>
          <p:cNvPicPr/>
          <p:nvPr/>
        </p:nvPicPr>
        <p:blipFill>
          <a:blip r:embed="rId3"/>
          <a:stretch/>
        </p:blipFill>
        <p:spPr>
          <a:xfrm>
            <a:off x="971640" y="1413000"/>
            <a:ext cx="1627200" cy="13888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6" descr="McLM6RgXi.png"/>
          <p:cNvPicPr/>
          <p:nvPr/>
        </p:nvPicPr>
        <p:blipFill>
          <a:blip r:embed="rId4"/>
          <a:stretch/>
        </p:blipFill>
        <p:spPr>
          <a:xfrm>
            <a:off x="4356000" y="4221000"/>
            <a:ext cx="432000" cy="10144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7"/>
          <p:cNvSpPr/>
          <p:nvPr/>
        </p:nvSpPr>
        <p:spPr>
          <a:xfrm>
            <a:off x="-2880" y="3213000"/>
            <a:ext cx="390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суждение мен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готовление блю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5384880" y="3213000"/>
            <a:ext cx="350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купка проду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Мытье посу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2838600" y="5516640"/>
            <a:ext cx="342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борка комн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вировка ст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342000" y="1197000"/>
            <a:ext cx="8510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Трудолюбие и рачи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70c0"/>
                </a:solidFill>
                <a:uFillTx/>
                <a:latin typeface="Arial"/>
              </a:rPr>
              <a:t>всех </a:t>
            </a: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членов семьи помогаю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увеличивать её благосостояни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экономить ресурс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и тем самым развива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семейному хозяйств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6T09:13:23Z</dcterms:created>
  <dc:creator>ИРИША</dc:creator>
  <dc:description/>
  <dc:language>en-US</dc:language>
  <cp:lastModifiedBy>ИРИША</cp:lastModifiedBy>
  <dcterms:modified xsi:type="dcterms:W3CDTF">2018-01-24T12:34:17Z</dcterms:modified>
  <cp:revision>24</cp:revision>
  <dc:subject/>
  <dc:title>Слайд 1</dc:title>
</cp:coreProperties>
</file>