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E76-60BC-4390-B2AC-C8A28440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A5A-E452-412F-8552-876025B7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5F3-C8E7-4497-8066-D1ECFF8E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C60-B08D-4E25-B801-3ABED545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C553-81E1-4A44-B41D-EE6E30D7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90FA-8CBB-4E72-994A-09ECE36C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17C3-3D48-475E-AC4F-A811C7DD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6135-3D1E-4437-8750-C737468F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FC16-6686-410B-9336-941E5D5B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E7C7-D3C1-4DAF-BE4A-F8527B3A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EA5-5B0B-415F-BEF2-9EB48F10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D62-2549-4AC5-8DE0-D6729885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E3E7-CC43-44DB-B554-7FA5D11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917A-7FB7-4945-B0D5-A3927581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567B-0AA3-4DBE-BEBD-4BF021CD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50DC-331D-4B03-A143-F89F4815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21FF-74EB-4398-8EAD-494C9FC7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347AB-E5E8-455B-BB62-FEB86D82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04851-7C8F-4389-AEA6-C898A71F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149C0-4ACC-4891-AC1F-4F617295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0433D-83E0-4921-81ED-2EA9D54C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D8E9E-DE0C-47CB-8BD7-0A3B76EB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D8A-E36B-4B37-9EBD-AF6DA8FE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6CE81-19BB-4ED3-8B93-D8F02551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4569B-F622-494B-AF43-142BFFE6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D514B-2A79-4990-9BC3-23CF5BB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3127A-EEC2-4757-A2ED-ACF496C8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E526F-B30F-42C0-8DE6-788BBF14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D2E77-4B73-4E84-9E90-58C78F06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DF220-AF17-4DDC-8D46-119FF5B1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B486-0813-4074-B72D-787820BF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8854-9342-4548-AF3C-CAA3AA87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BF7A5-BE87-42CB-943F-39CFFBC3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0A0-24FB-434F-9366-15C91F6A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3425E-A3CF-4058-A19C-23F70605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DF3C-0BF0-45F5-9722-1919171E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32C3-1806-4934-B190-10D3B07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F537-58B0-4E5D-9E56-4FF24B3B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45DC5-49DA-4F3A-AF8D-CA47B012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F539-B3C9-4E97-B045-23FE30F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19D1-805F-42B1-B07F-F1799261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A553-B206-4A44-8948-BBA60516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A77E1-53AB-47F9-B6DE-EB00C56A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4C4-F786-440F-A5B3-72C2C026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FB3-7D30-43EF-BABF-0002E753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295-19F8-4C1C-81BD-789AA883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A7D-84E1-4985-BFA3-C5A8F7FC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060-F3E4-4A57-A78C-EB1DF57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a1f28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a1f28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1AFD-FAA0-48E5-948A-AB85DFA55B3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da1f2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da1f2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da1f2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a1f28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a1f28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39FB-16D9-4506-8F1E-3E5A0AABEED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a1f28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a1f28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E061-9993-4449-BDDC-614AD4A00F5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da1f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da1f28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da1f28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da1f28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D091-673E-4B55-9822-AB078F6AE99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464328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ализация инновационного проект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«Самбо в школу»</a:t>
            </a:r>
            <a:endParaRPr b="0" lang="en-US" sz="40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067280" y="4723920"/>
            <a:ext cx="5076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Arial"/>
              </a:rPr>
              <a:t>Немиров Олег Вячеславович, учитель физической культур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Arial"/>
              </a:rPr>
              <a:t>МБОУ г.Шахты «Лицей №11»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Arial"/>
              </a:rPr>
              <a:t>1 категор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C:\Users\Admin\Desktop\1_500.jpg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2517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Немиров О"/>
          <p:cNvPicPr/>
          <p:nvPr/>
        </p:nvPicPr>
        <p:blipFill>
          <a:blip r:embed="rId2"/>
          <a:stretch/>
        </p:blipFill>
        <p:spPr>
          <a:xfrm>
            <a:off x="878040" y="2938320"/>
            <a:ext cx="3078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Trebuchet MS"/>
              </a:rPr>
              <a:t>ОСНОВНОЕ СОДЕРЖАНИЕ МОДУЛЯ САМБО НА УРОВНЕ СРЕДНЕГО ОБЩЕГО ОБРАЗОВАНИЯ</a:t>
            </a:r>
            <a:endParaRPr b="0" lang="en-US" sz="16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В раздел спортивно- оздоровительной деятельности входит модуль Самбо, включающий: Подраздел Самбо «Самозащита»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560">
              <a:lnSpc>
                <a:spcPct val="90000"/>
              </a:lnSpc>
              <a:spcBef>
                <a:spcPts val="300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знакомление с приёмами самостраховки на твердом покрытии (деревянный или синтетический пол спортивного зала)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560">
              <a:lnSpc>
                <a:spcPct val="90000"/>
              </a:lnSpc>
              <a:spcBef>
                <a:spcPts val="300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ложнение специально-подготовительных упражнений для техники. Использование упражнений в парах и тройк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560">
              <a:lnSpc>
                <a:spcPct val="90000"/>
              </a:lnSpc>
              <a:spcBef>
                <a:spcPts val="300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вершенствование приёмов Самбо в положении лёжа и бросков, изученных на предыдущих этапах подготовки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7560">
              <a:lnSpc>
                <a:spcPct val="90000"/>
              </a:lnSpc>
              <a:spcBef>
                <a:spcPts val="300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хватки по заданию в парах и группах занимающихся. Моделирование ситуаций самозащиты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C:\Users\Admin\Desktop\sambo-in-school-3.jpg"/>
          <p:cNvPicPr/>
          <p:nvPr/>
        </p:nvPicPr>
        <p:blipFill>
          <a:blip r:embed="rId1"/>
          <a:stretch/>
        </p:blipFill>
        <p:spPr>
          <a:xfrm>
            <a:off x="152280" y="2089080"/>
            <a:ext cx="51022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00040" y="5000400"/>
            <a:ext cx="82360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амбо позволяет сохранять здоровье детям, а также учит правильно защищать себя и своих близких, что очень важно в условиях сложного современного мир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2" descr="C:\Users\Admin\Desktop\Osambo.jpg"/>
          <p:cNvPicPr/>
          <p:nvPr/>
        </p:nvPicPr>
        <p:blipFill>
          <a:blip r:embed="rId1"/>
          <a:stretch/>
        </p:blipFill>
        <p:spPr>
          <a:xfrm rot="21060600">
            <a:off x="323640" y="1844640"/>
            <a:ext cx="5113080" cy="2581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rebuchet MS"/>
              </a:rPr>
              <a:t>Результаты первого года внедрен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Текст 2"/>
          <p:cNvSpPr/>
          <p:nvPr/>
        </p:nvSpPr>
        <p:spPr>
          <a:xfrm>
            <a:off x="5580000" y="1557360"/>
            <a:ext cx="33829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9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Текст 2"/>
          <p:cNvSpPr/>
          <p:nvPr/>
        </p:nvSpPr>
        <p:spPr>
          <a:xfrm>
            <a:off x="5580000" y="1844640"/>
            <a:ext cx="33829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33520">
              <a:lnSpc>
                <a:spcPct val="90000"/>
              </a:lnSpc>
              <a:spcBef>
                <a:spcPts val="300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развитая силовая выносливость и координационные возмо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1440" indent="-533520" algn="just">
              <a:lnSpc>
                <a:spcPct val="90000"/>
              </a:lnSpc>
              <a:spcBef>
                <a:spcPts val="300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успешное освоение гимнастических  упражнений и спортивных иг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1440" indent="-533520" algn="just">
              <a:lnSpc>
                <a:spcPct val="90000"/>
              </a:lnSpc>
              <a:spcBef>
                <a:spcPts val="300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эмоциональная устойчив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1440" indent="-533520" algn="just">
              <a:lnSpc>
                <a:spcPct val="90000"/>
              </a:lnSpc>
              <a:spcBef>
                <a:spcPts val="300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освоенные при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64646"/>
                </a:solidFill>
                <a:latin typeface="Arial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464646"/>
                </a:solidFill>
                <a:latin typeface="Arial"/>
              </a:rPr>
              <a:t>ЗА </a:t>
            </a:r>
            <a:br>
              <a:rPr sz="6600"/>
            </a:br>
            <a:r>
              <a:rPr b="1" lang="ru-RU" sz="6600" spc="-1" strike="noStrike">
                <a:solidFill>
                  <a:srgbClr val="464646"/>
                </a:solidFill>
                <a:latin typeface="Arial"/>
              </a:rPr>
              <a:t>ВНИМАНИЕ!</a:t>
            </a:r>
            <a:endParaRPr b="0" lang="en-US" sz="6600" spc="-1" strike="noStrike">
              <a:solidFill>
                <a:srgbClr val="46464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348000" y="475920"/>
            <a:ext cx="5184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64646"/>
                </a:solidFill>
                <a:latin typeface="Trebuchet MS"/>
              </a:rPr>
              <a:t>Стратегические ориентиры воспитания сформулированы Президентом Российской Федерации В. В. Путиным: </a:t>
            </a:r>
            <a:endParaRPr b="0" lang="en-US" sz="18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067280" y="1484280"/>
            <a:ext cx="4968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«…Формирование гармоничной личности, воспитание гражданина России – зрелого, ответственного человека, в котором сочетается любовь к большой и малой родине, общенациональная и этническая идентичность, уважение к культуре, традициям людей, которые живут рядом»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Picture 2" descr="C:\Users\Admin\Desktop\pic_607f1076b8cf87c24a383062e2ef83d0.jpg"/>
          <p:cNvPicPr/>
          <p:nvPr/>
        </p:nvPicPr>
        <p:blipFill>
          <a:blip r:embed="rId1"/>
          <a:stretch/>
        </p:blipFill>
        <p:spPr>
          <a:xfrm rot="21123000">
            <a:off x="324000" y="549000"/>
            <a:ext cx="3097080" cy="2065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Admin\Desktop\l1g3fuej81anhner5xq1d2yihgoorrve_500.jpeg"/>
          <p:cNvPicPr/>
          <p:nvPr/>
        </p:nvPicPr>
        <p:blipFill>
          <a:blip r:embed="rId2"/>
          <a:stretch/>
        </p:blipFill>
        <p:spPr>
          <a:xfrm rot="496200">
            <a:off x="5084640" y="3373560"/>
            <a:ext cx="3888000" cy="240192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1"/>
          <p:cNvSpPr/>
          <p:nvPr/>
        </p:nvSpPr>
        <p:spPr>
          <a:xfrm>
            <a:off x="250920" y="2924280"/>
            <a:ext cx="44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rebuchet MS"/>
              </a:rPr>
              <a:t>Президент Всероссийской и Европейской федерации самбо </a:t>
            </a:r>
            <a:r>
              <a:rPr b="1" i="1" lang="ru-RU" sz="1800" spc="-1" strike="noStrike">
                <a:solidFill>
                  <a:srgbClr val="464646"/>
                </a:solidFill>
                <a:latin typeface="Trebuchet MS"/>
              </a:rPr>
              <a:t>Сергей Елисеев</a:t>
            </a:r>
            <a:r>
              <a:rPr b="1" lang="ru-RU" sz="1800" spc="-1" strike="noStrike">
                <a:solidFill>
                  <a:srgbClr val="464646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Текст 2"/>
          <p:cNvSpPr/>
          <p:nvPr/>
        </p:nvSpPr>
        <p:spPr>
          <a:xfrm>
            <a:off x="108000" y="3645000"/>
            <a:ext cx="5256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«К самбо должны относиться как к национальному достоянию. Дети должны знать историю самбо, гордиться ей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А знание приемов самозащиты необходимы каждо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«Мы не учим детей бороться, делать броски. Мы учим их правильно падать, освобождаться от захватов и как себя вести в экстремальных ситуац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Если детям нравится, мы советуем им идти заниматься самбо на более продвинутом уровн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rebuchet MS"/>
              </a:rPr>
              <a:t>О ПРОЕКТЕ «САМБО В ШКОЛУ»</a:t>
            </a:r>
            <a:br>
              <a:rPr sz="1800"/>
            </a:br>
            <a:endParaRPr b="0" lang="en-US" sz="18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52840" y="2214360"/>
            <a:ext cx="33829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деральный проект «Самбо в школу» предусматривает программу включения урока самбо в общую систему подготовки школьников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тивная работа по внедрению самбо в школьную программу проводится в МБОУ г.Шахты «Лицей №11» с 1 сентября 2016 года.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C:\Users\Admin\Desktop\824A1810.jpg"/>
          <p:cNvPicPr/>
          <p:nvPr/>
        </p:nvPicPr>
        <p:blipFill>
          <a:blip r:embed="rId1"/>
          <a:stretch/>
        </p:blipFill>
        <p:spPr>
          <a:xfrm>
            <a:off x="214200" y="1785960"/>
            <a:ext cx="51022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ed8d0239e639e682c6f4997389a557f5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108000" y="620640"/>
            <a:ext cx="8840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Trebuchet MS"/>
              </a:rPr>
              <a:t>Причины введения блока «Самб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Trebuchet MS"/>
              </a:rPr>
              <a:t>Динамика грабежей и разбойных нападений в России</a:t>
            </a:r>
            <a:endParaRPr b="0" lang="en-US" sz="24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5"/>
          <p:cNvGraphicFramePr/>
          <p:nvPr/>
        </p:nvGraphicFramePr>
        <p:xfrm>
          <a:off x="468360" y="2205000"/>
          <a:ext cx="83199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83199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7"/>
          <p:cNvSpPr/>
          <p:nvPr/>
        </p:nvSpPr>
        <p:spPr>
          <a:xfrm>
            <a:off x="108000" y="765000"/>
            <a:ext cx="8840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Trebuchet MS"/>
              </a:rPr>
              <a:t>Причины введения блока «Самб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46"/>
                </a:solidFill>
                <a:latin typeface="Trebuchet MS"/>
              </a:rPr>
              <a:t>Причины введения блока «Самбо»</a:t>
            </a:r>
            <a:endParaRPr b="0" lang="en-US" sz="3600" spc="-1" strike="noStrike">
              <a:solidFill>
                <a:srgbClr val="464646"/>
              </a:solidFill>
              <a:latin typeface="Trebuchet M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5"/>
          <p:cNvGraphicFramePr/>
          <p:nvPr/>
        </p:nvGraphicFramePr>
        <p:xfrm>
          <a:off x="0" y="2492280"/>
          <a:ext cx="896472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896472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7"/>
          <p:cNvSpPr/>
          <p:nvPr/>
        </p:nvSpPr>
        <p:spPr>
          <a:xfrm>
            <a:off x="611280" y="1844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Trebuchet MS"/>
              </a:rPr>
              <a:t>Ответы на вопрос: </a:t>
            </a:r>
            <a:br>
              <a:rPr sz="2800"/>
            </a:br>
            <a:r>
              <a:rPr b="0" lang="ru-RU" sz="2800" spc="-1" strike="noStrike">
                <a:solidFill>
                  <a:srgbClr val="464646"/>
                </a:solidFill>
                <a:latin typeface="Trebuchet MS"/>
              </a:rPr>
              <a:t>«Какой вид спорта является исконно русским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64000" y="1989000"/>
            <a:ext cx="33832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вид спорта, который можно успешно применять в трудных ситуациях для самозащиты, а это значит, что его введение в школьную программу не только поможет физическому развитию и воспитанию детей, но и сделает их более защищенны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:\Users\Admin\Desktop\1447024485_detail_picture_578925.jpg"/>
          <p:cNvPicPr/>
          <p:nvPr/>
        </p:nvPicPr>
        <p:blipFill>
          <a:blip r:embed="rId1"/>
          <a:stretch/>
        </p:blipFill>
        <p:spPr>
          <a:xfrm>
            <a:off x="698400" y="2214720"/>
            <a:ext cx="392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На сегодняшний день школа САМБО «самозащита без оружия» является системой философии справедливости, сдержанной силы, разумной социальной стабильности, безопасности и жизнеспособности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Она вобрала в себя достижения современной науки, передового педагогического опыта в развитии физической культуры, спорта и является эффективным средством решения Государственных зада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2" descr="C:\Users\Admin\Desktop\7ee6820f20f5430adca54ea94404082f.jpg"/>
          <p:cNvPicPr/>
          <p:nvPr/>
        </p:nvPicPr>
        <p:blipFill>
          <a:blip r:embed="rId1"/>
          <a:stretch/>
        </p:blipFill>
        <p:spPr>
          <a:xfrm>
            <a:off x="152280" y="2001960"/>
            <a:ext cx="51022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435280" y="836280"/>
            <a:ext cx="338292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грамма предусматривает не только физическое развитие и совершенствование обучающихся, но и формирование таких качеств личности как: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активность, инициативность, конкурентоспособность, способность к рефлексии и самооценке, готовность обучаться в течение всей жизни, способность творчески мыслить и находить нестандартные решения, умение ставить и достигать цели, выбирать жизненные стратегии, умение делать выбор и осмысливать последствия выбора и результаты собственной деятельности, вести консенсусный диалог и работать в команде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C:\Users\Admin\Desktop\30216shkola-sambo.jpg"/>
          <p:cNvPicPr/>
          <p:nvPr/>
        </p:nvPicPr>
        <p:blipFill>
          <a:blip r:embed="rId1"/>
          <a:stretch/>
        </p:blipFill>
        <p:spPr>
          <a:xfrm>
            <a:off x="152280" y="2011320"/>
            <a:ext cx="51022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14:38:54Z</dcterms:created>
  <dc:creator>Admin</dc:creator>
  <dc:description/>
  <dc:language>en-US</dc:language>
  <cp:lastModifiedBy>Рудь</cp:lastModifiedBy>
  <dcterms:modified xsi:type="dcterms:W3CDTF">2017-12-12T09:32:49Z</dcterms:modified>
  <cp:revision>14</cp:revision>
  <dc:subject/>
  <dc:title>«Самбо в школу»</dc:title>
</cp:coreProperties>
</file>