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FD1E-E43B-4C7A-99ED-571E0A10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E151-B59E-489D-AD73-92777982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D0BE-141A-4944-960C-07DFBE58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98C0-D1B0-4013-B057-2DCC7CAB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0EBD-91E2-466B-A579-32AF7DA9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FBEB-565E-4877-B7FA-FC778F49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BCDC-01E6-458D-901A-E74A1263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1F63-36BC-47C7-848A-46025C5C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9E02-FC2C-42AB-A856-B889E40A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023F-5918-4EE5-B04F-E02BCFB9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31A9-BB09-483D-8495-52FB2216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D78-CACE-49EB-A096-A7291309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F4C5-17CC-4BA2-A036-30831EC1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3DDA-9312-45D9-A3EC-4F189717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389A-2B0C-4E9A-9944-D365F444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ADF9-CA37-451C-BFEC-5F8883B1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59CE-84C2-4059-B0AE-3F5A792F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7839A-07B4-4CD1-BD41-DDEC3CD0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5D585-6E86-4DD7-9A02-BD7C9A85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9E292-F800-4175-912A-645EB730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617AF-8958-4CBB-94BB-E3B6A58F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02F5F-83BB-48F5-B09F-B7C0D108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D04-DC0A-4243-9B8E-3E3A7FAE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EC838-7226-43B9-BDB6-C51FBA2C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A4C29-6D36-468B-8B32-ECF82BDE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9ED6C-8F61-49A5-A68B-808D8F63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FDA1D-A3B7-43C5-9822-F0A099CC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B1DBE-1F72-4A7E-B4D5-62A67F71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4A9D3-9BA5-4F89-803B-617A49A9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B81E0-1049-4CD1-9422-F010EDD5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0B357-3B20-44CA-B3DC-F60B6234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4949B-D06D-4A09-BE02-F5DD8C89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86D7E-C396-4783-8E24-8574CBB2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D15-2E80-4D4E-B3A5-7A45545D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0B40F-AC8F-40DF-8583-EA5D54DC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FC371-2133-49E6-B139-35C2C896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7EFF2-9369-4B38-9591-39B1DEAE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F85F3-E593-4F9D-B5AF-C0EF160A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EF689-E380-47AB-9AB9-A4DB5E90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BE83B-1D0A-44F3-A309-FC78D33C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AEC11-89CB-4E04-96D6-59DCE367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F44EE-3622-4C23-A639-268FC14B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CAE74-389D-41E5-8574-811EEBE6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A07EF-69E7-43DE-B603-744B54E3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BE91-D72E-4E12-A6B9-26BB381E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DAF17-6612-43A7-A4E3-914DA8AC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D5B08-693E-4EDF-8310-D8D2D13A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C3A58-F0F0-49FE-90F8-3823B0B8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839BD-E44B-4F4F-A593-D62036BB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B394D-5D30-42BC-97E5-68CB2A81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BF7C0-6451-40E7-B582-5A7C1A25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8DA08-834B-4846-9450-D1FA3180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A94AB-1066-4E9D-B903-AA8C6B46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D4C8B-4022-4289-B9F1-B1512061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2B317-50CB-4A10-A64E-F81ED178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53F5-4E2F-40F3-9F3D-7C4EAFD7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12ED9-53CF-4807-A44A-79776748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A6B-9F5C-4110-B31A-21DF021C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72C-755F-42BB-9A60-0F1FB882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033-2873-4FAE-8C44-F5124CA2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4C18-62E9-4454-8954-53CAA64BD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A4EF-638B-454C-BD70-1E5B348EE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482C-E28B-4C72-ABE0-5591709FA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3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55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9E0B-217F-4DE2-A0FA-0825936FB0D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04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08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36F2-895D-49A5-A37A-2B6EE61107F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Narrow"/>
              </a:rPr>
              <a:t>Вид</a:t>
            </a:r>
            <a:r>
              <a:rPr b="1" i="1" lang="en-US" sz="4400" spc="-1" strike="noStrike">
                <a:solidFill>
                  <a:srgbClr val="0000ff"/>
                </a:solidFill>
                <a:latin typeface="Arial Narrow"/>
              </a:rPr>
              <a:t> неба на различных </a:t>
            </a:r>
            <a:br>
              <a:rPr sz="4400"/>
            </a:br>
            <a:r>
              <a:rPr b="1" i="1" lang="en-US" sz="4400" spc="-1" strike="noStrike">
                <a:solidFill>
                  <a:srgbClr val="0000ff"/>
                </a:solidFill>
                <a:latin typeface="Arial Narrow"/>
              </a:rPr>
              <a:t>широтах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Связь географической широты места наблюдения (</a:t>
            </a:r>
            <a:r>
              <a:rPr b="1" lang="el-GR" sz="4400" spc="-1" strike="noStrike">
                <a:solidFill>
                  <a:srgbClr val="ccecff"/>
                </a:solidFill>
                <a:latin typeface="Arial"/>
                <a:ea typeface="Arial"/>
              </a:rPr>
              <a:t>φ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с высотой полюса мира(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h</a:t>
            </a:r>
            <a:r>
              <a:rPr b="1" lang="ru-RU" sz="4400" spc="-1" strike="noStrike" baseline="-25000">
                <a:solidFill>
                  <a:srgbClr val="ccecff"/>
                </a:solidFill>
                <a:latin typeface="Arial"/>
              </a:rPr>
              <a:t>р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059280" y="3213000"/>
            <a:ext cx="3241440" cy="3024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564000" y="3645000"/>
            <a:ext cx="223200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716360" y="1483920"/>
            <a:ext cx="0" cy="33130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03280" y="3213000"/>
            <a:ext cx="633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716360" y="2133360"/>
            <a:ext cx="3384720" cy="2663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716360" y="2133360"/>
            <a:ext cx="3384720" cy="2663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716360" y="1197000"/>
            <a:ext cx="2448000" cy="20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933080" y="2852640"/>
            <a:ext cx="43056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356000" y="4149720"/>
            <a:ext cx="72000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479736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636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058920" y="3213000"/>
            <a:ext cx="1657080" cy="1224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187280" y="4365720"/>
            <a:ext cx="1944720" cy="1368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84720" y="1484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56000" y="623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948360" y="1341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58920" y="5589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9218000">
            <a:off x="6834600" y="2069640"/>
            <a:ext cx="143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сь 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2708280"/>
            <a:ext cx="21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емной горизо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593040" y="6122880"/>
            <a:ext cx="1218960" cy="401760"/>
          </a:xfrm>
          <a:prstGeom prst="borderCallout1">
            <a:avLst>
              <a:gd name="adj1" fmla="val 18750"/>
              <a:gd name="adj2" fmla="val -8333"/>
              <a:gd name="adj3" fmla="val -43083"/>
              <a:gd name="adj4" fmla="val -10663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ем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84720" y="28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211640" y="4724280"/>
            <a:ext cx="647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3213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178920" y="321300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3141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3640" y="3284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9600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63640" y="5950080"/>
            <a:ext cx="1579680" cy="753840"/>
          </a:xfrm>
          <a:prstGeom prst="borderCallout1">
            <a:avLst>
              <a:gd name="adj1" fmla="val 18750"/>
              <a:gd name="adj2" fmla="val -8333"/>
              <a:gd name="adj3" fmla="val -70314"/>
              <a:gd name="adj4" fmla="val 22412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емной эква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11640" y="3716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92720" y="270828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9280" y="549360"/>
            <a:ext cx="187344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┴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О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 ┴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О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79640" y="69228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76720" y="47628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∟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=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084360" y="1844640"/>
            <a:ext cx="71640" cy="50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300360" y="1628640"/>
            <a:ext cx="7164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95280" y="3860640"/>
            <a:ext cx="71640" cy="57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140360" y="4005360"/>
            <a:ext cx="72720" cy="57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5866920" y="2997360"/>
            <a:ext cx="289080" cy="431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012000" y="3068640"/>
            <a:ext cx="287280" cy="431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500720" y="3357720"/>
            <a:ext cx="358560" cy="358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571640" y="3500280"/>
            <a:ext cx="36036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859280" y="549360"/>
            <a:ext cx="1079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О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940360" y="620640"/>
            <a:ext cx="863640" cy="503280"/>
          </a:xfrm>
          <a:prstGeom prst="rightArrow">
            <a:avLst>
              <a:gd name="adj1" fmla="val 50000"/>
              <a:gd name="adj2" fmla="val 42901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308720" y="549360"/>
            <a:ext cx="1582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l-G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7236000" y="476280"/>
          <a:ext cx="1728720" cy="936720"/>
        </p:xfrm>
        <a:graphic>
          <a:graphicData uri="http://schemas.openxmlformats.org/drawingml/2006/table">
            <a:tbl>
              <a:tblPr/>
              <a:tblGrid>
                <a:gridCol w="17287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4:51:05Z</dcterms:created>
  <dc:creator>Пользователь</dc:creator>
  <dc:description/>
  <dc:language>en-US</dc:language>
  <cp:lastModifiedBy>Пользователь</cp:lastModifiedBy>
  <dcterms:modified xsi:type="dcterms:W3CDTF">2006-10-09T16:05:31Z</dcterms:modified>
  <cp:revision>2</cp:revision>
  <dc:subject/>
  <dc:title>Вид неба на различных  широтах</dc:title>
</cp:coreProperties>
</file>