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21F-8104-410C-83C3-876852A0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43B-94D7-4683-BF24-5CD6512A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5C7EA7-C1FF-41D3-B955-9F298301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DAE730-61E5-4518-993D-81B8196B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3F14B2-3ABE-4C63-BD99-953ED23A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FFB121-0C8D-46FD-8C26-345B196A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F61F26-E753-409B-8D4F-7C3768B0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9041CD-C31E-4349-90B8-C0F2AF48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40E254-040F-4100-AF5A-404F5E26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DF790F-29E9-425D-B958-C8DDDD23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CDC84C-F75B-4A3C-86C4-61A3737A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8927C-E0CB-40C1-921B-AC487E3B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28DB-09FA-4CD7-A721-387CF885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4BD76-FF5F-405B-A250-1CA9392A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18F5D-19EF-4686-A3DA-44F0DF17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E8DEF-9743-462D-A459-9E8DED60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974D9-AD11-4474-855C-3947F435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7DE30-CA28-4A0E-B8B6-9575949C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DC5DC-941C-4F6B-891E-3B15961A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E95DF-4AF1-4979-89DC-DD5184C0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DAAA6-A565-4619-A987-0C622585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CB73F-BB9E-4488-8F98-F5059111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6B0B9-FD8B-4F25-99E4-46B1541D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EC3-077A-4885-A15D-B165BED4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088A5-0E25-40E9-8D91-B5745976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C837-7040-4967-82BF-461936F0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B737-D651-4890-BB82-8AADA0FA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06FB-2269-41ED-A8E7-CEA3E537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98FA-4F42-458A-82BF-E118FC0F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30C3-6C47-4FDB-94AA-8CD0C9A9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1E19-440D-4BB5-813E-4D4AB1F1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810D-EDA0-4742-B631-1CDE3642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A09-8982-457E-B2A7-10C3E807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45C2-38E2-4E94-9F5D-BB1DF209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4031-384E-40CD-B124-A79D033D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C9B5-6183-4D63-90AF-09D5B257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8DCF-140A-40B7-A8A2-A2574F8F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1EF8-063F-41C9-B02D-E1B08A02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3EB60-83B7-4075-90F9-F3EE8CAA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FD0C5-A611-43CE-AAFB-04373926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1EAF1-4DCE-4039-9366-38523A51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D932-5C8F-4394-9A22-AE9E5EC9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E41C2-F004-4AEF-A9AF-CBF12BE3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99A-A089-4A87-8CF4-280ED2C5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D8EA4-EBA2-4122-A85C-F77FE570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B8E04-5C6F-4F45-B984-AC373868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6A80D-13C7-4811-B111-EA31CB7B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044FC-2939-4FB5-87E9-F13D9BD3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103B1-19D3-4BF7-870B-55796BC5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41DA0-E29E-4DA0-AC36-610690B4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5736D-7868-4A78-B7B3-3B9974B2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E1928-1DA1-4DC9-A645-EAF8ADCC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F1B95-893C-4C0D-9674-C36DB884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C9F6-1898-4D20-ACE2-0EE200BA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A6E-A484-49D8-A060-E60D3D70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E3F7A-6430-445D-BB23-CCB57BC7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300D4-9136-4EDC-8BF2-85B176C1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02A34-0E5A-44E1-9F6F-39FF0AB5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54523-6695-4AA6-AAEB-BFEEB5B2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4A3EF-8D31-4E06-BF8F-9AF6F4DC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21757-D725-45D0-A69E-9E4FAD00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297D5-446D-4D2F-8808-7512DD2B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95B3C-DDC4-4781-BDD0-53BED0A5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C029F-2FA5-44EC-A443-BB472DD2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ABC52-7292-47C2-9D55-243CBA53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B64-9A12-4DF9-9EA0-1F80D3E0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1B9A0-5685-41B9-BCAA-CE062032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37BCA-B452-4D94-A5D4-693017E9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AE8ED-D1FE-4FFC-A8CF-B82FABEE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153C1-B300-4CBA-B563-BE8AE22A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9A415-F7C3-4254-B127-BE039F1E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45969-ACF2-47F7-AE4B-62842D97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56337-DF62-4482-8A25-898D84DA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4433D-99CB-4FB5-99BE-F1D69FB2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05DCA-49B7-4738-8F89-4D673F0D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EEBCD-31F3-4492-8CAA-5E3397B8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3632-DD8C-4468-BC88-088DE5C8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984C9-FB90-461F-AC28-369E70A4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8382C-6E9D-484F-858E-6BE5B5B2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83AEE-4108-4AEB-996D-8FB6F413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6FBBD-3A76-4A7C-B0E1-E1563931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43CE7-3689-4FCB-913D-CE4D2D72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FBE9B-5713-4089-9F73-E3D2BAC3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CD9A5-EB5B-48C0-B7F3-B36C8406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B5E56-6308-4FB7-9348-C443B17F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6829A-4A7E-4D8B-ACF8-578B2A39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20DB9-AA30-44B2-9929-F53F2C27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706-D27B-48F5-84D9-C12B0EFD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38796-CEF1-4A9C-BCA4-A6DD4B2D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EB1E6-2A12-49BC-9337-403CA94F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22B4F-5D3C-437D-83A6-FB77BD9F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FB05F-8C84-4AA1-9056-FB92F7B5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52297-80EF-4E4A-974B-BBB1106C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6BB0C-3636-406B-8865-8BA629FB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99E22-B5FD-4FFB-87FC-4ACF2AEC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55749-1054-4F93-A2A7-E522BE3E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745A0-CACB-4D3B-898F-B8507DFB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91C5B-E50D-40B3-BDEE-A5821075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079-ED5F-4F10-9C94-3489B89B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A2F7A-C966-4698-A865-6613CD78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7C65C-15C5-4CB8-B3FF-76A69946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9C5DC-B6BF-4BC0-86A4-C5C93509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73F9D-8E43-4980-BAE5-F1DCBD14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FA39E-60B5-4ED6-B7ED-6AB0F9C0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399F2-9215-48C8-810E-24D3EBC9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ED4E9-3F32-49E5-8544-5F3704E8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4244B-57B0-4E48-A251-316EAFE9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93271-C879-4877-BCAC-462A4388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398DA-84E6-400A-B707-5833D985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3DF-BD67-4EDA-9C60-CA415653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A2DB5-8B03-481C-AB39-A97F4F4A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6AE3C-799E-4C1F-9946-0E67E916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7F0AE-A03F-4815-913E-7E78C055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2920C-E434-4924-8B0F-EDD8D8DF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82A05-C762-4D19-AF4A-2CD5AFE5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EF20D-CCB9-4763-AF51-083FAA8D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C7BAC-8C24-46A4-828F-443BB19C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11C744-316C-41B3-9719-113E7473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F11381-CC41-484B-B8DF-8710062A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A3C46C-19E7-44C6-A591-D32B7296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4D98-EA35-412B-B0CC-F022470217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3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1FD3-0C2D-4C98-AA47-A31D5394D04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7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EAFD-6756-43ED-B558-9A0FF8F782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5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5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9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6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6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F1B0-C372-4325-BE69-F022A8EA618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4009-3A01-46FF-902B-7C74C27035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46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147A-E9DA-4242-8599-CE7E9AD5822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290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1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2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93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294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295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296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297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9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0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3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31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3" name="Freeform 46"/>
            <p:cNvSpPr/>
            <p:nvPr/>
          </p:nvSpPr>
          <p:spPr>
            <a:xfrm>
              <a:off x="7953480" y="4909320"/>
              <a:ext cx="1190520" cy="1938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4" name="Freeform 47"/>
            <p:cNvSpPr/>
            <p:nvPr/>
          </p:nvSpPr>
          <p:spPr>
            <a:xfrm>
              <a:off x="7939080" y="4858560"/>
              <a:ext cx="1219320" cy="199908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5" name="Freeform 48"/>
            <p:cNvSpPr/>
            <p:nvPr/>
          </p:nvSpPr>
          <p:spPr>
            <a:xfrm>
              <a:off x="7927920" y="2819520"/>
              <a:ext cx="1231920" cy="403488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6" name="Freeform 49"/>
            <p:cNvSpPr/>
            <p:nvPr/>
          </p:nvSpPr>
          <p:spPr>
            <a:xfrm>
              <a:off x="8010360" y="3539880"/>
              <a:ext cx="979560" cy="21834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7" name="Freeform 50"/>
            <p:cNvSpPr/>
            <p:nvPr/>
          </p:nvSpPr>
          <p:spPr>
            <a:xfrm>
              <a:off x="8244000" y="429840"/>
              <a:ext cx="914400" cy="50457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8" name="Freeform 51"/>
            <p:cNvSpPr/>
            <p:nvPr/>
          </p:nvSpPr>
          <p:spPr>
            <a:xfrm>
              <a:off x="8250120" y="264960"/>
              <a:ext cx="909720" cy="30697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9" name="Freeform 52"/>
            <p:cNvSpPr/>
            <p:nvPr/>
          </p:nvSpPr>
          <p:spPr>
            <a:xfrm>
              <a:off x="7943760" y="2880"/>
              <a:ext cx="576360" cy="3350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0" name="Freeform 53"/>
            <p:cNvSpPr/>
            <p:nvPr/>
          </p:nvSpPr>
          <p:spPr>
            <a:xfrm>
              <a:off x="7943760" y="4320"/>
              <a:ext cx="300240" cy="33512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1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2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3" name="AutoShape 56"/>
            <p:cNvSpPr/>
            <p:nvPr/>
          </p:nvSpPr>
          <p:spPr>
            <a:xfrm rot="5400000">
              <a:off x="4325760" y="3317400"/>
              <a:ext cx="68547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8E89-CAFF-4AAD-94FD-87642BAE65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6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7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8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9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0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1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2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3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8947-EE3D-4370-9F64-32EED0C6AD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4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2B7C-5ABB-4899-B906-FC166F6E638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18E4-FDD7-4627-8695-869AC3A8B2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7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ffcc"/>
                </a:solidFill>
                <a:latin typeface="Tahoma"/>
              </a:rPr>
              <a:t>Баш</a:t>
            </a:r>
            <a:r>
              <a:rPr b="0" lang="ba-RU" sz="5400" spc="-1" strike="noStrike">
                <a:solidFill>
                  <a:srgbClr val="ffffcc"/>
                </a:solidFill>
                <a:latin typeface="Tahoma"/>
              </a:rPr>
              <a:t>ҡ</a:t>
            </a:r>
            <a:r>
              <a:rPr b="0" lang="tt-RU" sz="5400" spc="-1" strike="noStrike">
                <a:solidFill>
                  <a:srgbClr val="ffffcc"/>
                </a:solidFill>
                <a:latin typeface="Tahoma"/>
              </a:rPr>
              <a:t>орт халҡының милли йолалары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79280" y="2492280"/>
            <a:ext cx="58564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Боҙ оҙатыу йола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Ҡарға бутҡа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Ҡаҙ өмә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6666"/>
                </a:solidFill>
                <a:latin typeface="Arial"/>
              </a:rPr>
              <a:t>Уртак билдәләр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3366"/>
                </a:solidFill>
                <a:latin typeface="Arial"/>
              </a:rPr>
              <a:t>1. Һәр йола ла күмәк уҙғары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3366"/>
                </a:solidFill>
                <a:latin typeface="Arial"/>
              </a:rPr>
              <a:t>2. Һәр йола ла </a:t>
            </a:r>
            <a:r>
              <a:rPr b="0" lang="ba-RU" sz="2400" spc="-1" strike="noStrike">
                <a:solidFill>
                  <a:srgbClr val="003366"/>
                </a:solidFill>
                <a:latin typeface="Arial"/>
              </a:rPr>
              <a:t>тәбиғәт </a:t>
            </a:r>
            <a:r>
              <a:rPr b="0" lang="tt-RU" sz="2400" spc="-1" strike="noStrike">
                <a:solidFill>
                  <a:srgbClr val="003366"/>
                </a:solidFill>
                <a:latin typeface="Arial"/>
              </a:rPr>
              <a:t> менән бәйл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3366"/>
                </a:solidFill>
                <a:latin typeface="Arial"/>
              </a:rPr>
              <a:t>3. Бер генә йола ла бейеү, йыр, уйындарһыҙ уҙма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4" name="Picture 5" descr="picture"/>
          <p:cNvPicPr/>
          <p:nvPr/>
        </p:nvPicPr>
        <p:blipFill>
          <a:blip r:embed="rId1"/>
          <a:stretch/>
        </p:blipFill>
        <p:spPr>
          <a:xfrm>
            <a:off x="755640" y="2276640"/>
            <a:ext cx="3827520" cy="3809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6666"/>
                </a:solidFill>
                <a:latin typeface="Arial"/>
              </a:rPr>
              <a:t>Йомғаҡла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әтерләүҙән ҡурҡма һин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Үткәнеңде онотма һин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ел һин йыраҡ бабаларҙың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исек итеп көн иткәнен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индәй уйҙар, ниндәй моңда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еҙгә ҡалдырып киткәне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7" name="Picture 28" descr="борьба"/>
          <p:cNvPicPr/>
          <p:nvPr/>
        </p:nvPicPr>
        <p:blipFill>
          <a:blip r:embed="rId1"/>
          <a:stretch/>
        </p:blipFill>
        <p:spPr>
          <a:xfrm>
            <a:off x="755640" y="2276640"/>
            <a:ext cx="3887640" cy="20160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9" descr="чак"/>
          <p:cNvPicPr/>
          <p:nvPr/>
        </p:nvPicPr>
        <p:blipFill>
          <a:blip r:embed="rId2"/>
          <a:stretch/>
        </p:blipFill>
        <p:spPr>
          <a:xfrm>
            <a:off x="755640" y="4292640"/>
            <a:ext cx="3960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Прямоугольник 1"/>
          <p:cNvSpPr/>
          <p:nvPr/>
        </p:nvSpPr>
        <p:spPr>
          <a:xfrm>
            <a:off x="857160" y="285840"/>
            <a:ext cx="742968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Э</a:t>
            </a:r>
            <a:r>
              <a:rPr b="1" i="1" lang="be-BY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ҙләнеү</a:t>
            </a:r>
            <a:r>
              <a:rPr b="1" i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 эшене</a:t>
            </a:r>
            <a:r>
              <a:rPr b="1" i="1" lang="be-BY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ң</a:t>
            </a:r>
            <a:r>
              <a:rPr b="1" i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 сы</a:t>
            </a:r>
            <a:r>
              <a:rPr b="1" i="1" lang="be-BY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ғ</a:t>
            </a:r>
            <a:r>
              <a:rPr b="1" i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ана</a:t>
            </a:r>
            <a:r>
              <a:rPr b="1" i="1" lang="be-BY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ҡ</a:t>
            </a:r>
            <a:r>
              <a:rPr b="1" i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тары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Тикшерене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ү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эшен баш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ҡ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арыу 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ө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ө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н 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йолаларға ҡ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а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ғ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ылышлы ф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ә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нни тикшерене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үҙә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р, а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ң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латмалы, диалектик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   һүҙлектә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р, теоретик 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ҡ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лланмалар, 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йолаларҙы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т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ө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рл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ө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я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ҡ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лап 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өйрәнеүгә бәйле мәҡәләләр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, йыйынты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ҡ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тар фай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ҙ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аланды. Шулай у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ҡ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ауыл а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ҡһ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а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ҡ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алдары мен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ә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н фекер алышыу ойошторолдо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Эҙләнеүҙең практик әһәмиәт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Йыйылған материалдар артабан ауыл тарихын өйрәнеүҙә, йолаларҙы өйрәнеүҙә,мәктәп музейында файҙаланыла ала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Структураһы</a:t>
            </a:r>
            <a:r>
              <a:rPr b="1" lang="be-BY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be-BY" sz="1600" spc="-1" strike="noStrike">
                <a:solidFill>
                  <a:srgbClr val="2f1311"/>
                </a:solidFill>
                <a:latin typeface="Arial"/>
              </a:rPr>
              <a:t>– </a:t>
            </a:r>
            <a:r>
              <a:rPr b="0" lang="be-BY" sz="1600" spc="-1" strike="noStrike">
                <a:solidFill>
                  <a:srgbClr val="2f1311"/>
                </a:solidFill>
                <a:latin typeface="Arial"/>
              </a:rPr>
              <a:t>тикшеренеү эше инештән, төп өлөштән, йомғаҡлауҙан, ҡулланылған әҙәбиәт  исемлегенән тора</a:t>
            </a: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Прямоугольник 1"/>
          <p:cNvSpPr/>
          <p:nvPr/>
        </p:nvSpPr>
        <p:spPr>
          <a:xfrm>
            <a:off x="785880" y="500040"/>
            <a:ext cx="735804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Э</a:t>
            </a:r>
            <a:r>
              <a:rPr b="1" i="1" lang="be-BY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ҙ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л</a:t>
            </a:r>
            <a:r>
              <a:rPr b="1" i="1" lang="be-BY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ә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не</a:t>
            </a:r>
            <a:r>
              <a:rPr b="1" i="1" lang="be-BY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ү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 эшене</a:t>
            </a:r>
            <a:r>
              <a:rPr b="1" i="1" lang="be-BY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ң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  ма</a:t>
            </a:r>
            <a:r>
              <a:rPr b="1" i="1" lang="be-BY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ҡ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сат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Йолаларҙы өйрәнеү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Иптәштәремдә </a:t>
            </a:r>
            <a:r>
              <a:rPr b="0" lang="ba-RU" sz="2400" spc="-1" strike="noStrike">
                <a:solidFill>
                  <a:srgbClr val="2f1311"/>
                </a:solidFill>
                <a:latin typeface="Arial"/>
              </a:rPr>
              <a:t>йолаларҙы </a:t>
            </a: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ө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йр</a:t>
            </a: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ә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</a:t>
            </a: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ү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</a:t>
            </a: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ә ҡ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ы</a:t>
            </a: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ҙ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ы</a:t>
            </a: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ҡһ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ыныу уяты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Э</a:t>
            </a:r>
            <a:r>
              <a:rPr b="1" i="1" lang="be-BY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ҙ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л</a:t>
            </a:r>
            <a:r>
              <a:rPr b="1" i="1" lang="be-BY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ә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не</a:t>
            </a:r>
            <a:r>
              <a:rPr b="1" i="1" lang="be-BY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ү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 эшене</a:t>
            </a:r>
            <a:r>
              <a:rPr b="1" i="1" lang="be-BY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ң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 гипотеза</a:t>
            </a:r>
            <a:r>
              <a:rPr b="1" i="1" lang="be-BY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һ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2f1311"/>
                </a:solidFill>
                <a:latin typeface="Arial"/>
              </a:rPr>
              <a:t>Йолаларҙың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тарихын </a:t>
            </a: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ө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йр</a:t>
            </a: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ә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</a:t>
            </a: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ү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Тикшерене</a:t>
            </a:r>
            <a:r>
              <a:rPr b="1" i="1" lang="be-BY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ү</a:t>
            </a:r>
            <a:r>
              <a:rPr b="1" i="1" lang="ru-RU" sz="28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 объект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ма</a:t>
            </a: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ғ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 ярашлы </a:t>
            </a: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әҙәбиәт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,а</a:t>
            </a: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ҡһаҡалдар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мен</a:t>
            </a: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ә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0" lang="be-BY" sz="2400" spc="-1" strike="noStrike">
                <a:solidFill>
                  <a:srgbClr val="2f1311"/>
                </a:solidFill>
                <a:latin typeface="Arial"/>
              </a:rPr>
              <a:t> әңгәмә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Йола </a:t>
            </a:r>
            <a:r>
              <a:rPr b="0" lang="ba-RU" sz="4000" spc="-1" strike="noStrike">
                <a:solidFill>
                  <a:srgbClr val="f7d47d"/>
                </a:solidFill>
                <a:latin typeface="Arial"/>
              </a:rPr>
              <a:t>һ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үҙе нимәне аңлата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63520" y="1428840"/>
            <a:ext cx="73864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Йола  - халыҡтың йәшәйешенә борондан кереп урынлашҡан тормош – көнкүреш тәртиптәрен йәки дини ҡанундарҙы үтәүгә бәйләнешле эш – хәл, ғөрөф – гәҙә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84" name="Picture 15" descr="костюм"/>
          <p:cNvPicPr/>
          <p:nvPr/>
        </p:nvPicPr>
        <p:blipFill>
          <a:blip r:embed="rId2"/>
          <a:stretch/>
        </p:blipFill>
        <p:spPr>
          <a:xfrm>
            <a:off x="1714680" y="3429000"/>
            <a:ext cx="4319280" cy="30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643120" y="3127680"/>
            <a:ext cx="3500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6" name="Рисунок 4" descr="DSC02322.JPG"/>
          <p:cNvPicPr/>
          <p:nvPr/>
        </p:nvPicPr>
        <p:blipFill>
          <a:blip r:embed="rId1"/>
          <a:stretch/>
        </p:blipFill>
        <p:spPr>
          <a:xfrm>
            <a:off x="1143000" y="357120"/>
            <a:ext cx="6516720" cy="488808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785960" y="55720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Әбейем менән һөйләшеп ултырырға яратам</a:t>
            </a:r>
            <a:r>
              <a:rPr b="0" lang="be-BY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c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Ҡаҙ өмәһе көз аҙағы, ҡыш башында уҙғары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Ҡаҙ йолҡорға ҡыҙҙар саҡыры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Йолҡонған ҡаҙҙарҙы һыу буйына йыуырға төшәлә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Ҡаҙ майы менән ҡоймаҡ бешерелә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Ҡаҙ өмәһе киске уйын менән тамамла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WordArt 14"/>
          <p:cNvSpPr txBox="1"/>
          <p:nvPr/>
        </p:nvSpPr>
        <p:spPr>
          <a:xfrm>
            <a:off x="1403280" y="0"/>
            <a:ext cx="60501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Ҡаҙ өмәһе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29040" y="4936680"/>
            <a:ext cx="714240" cy="16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2" name="Рисунок 4" descr="DSC02316.JPG"/>
          <p:cNvPicPr/>
          <p:nvPr/>
        </p:nvPicPr>
        <p:blipFill>
          <a:blip r:embed="rId1"/>
          <a:srcRect l="7812" t="0" r="0" b="0"/>
          <a:stretch/>
        </p:blipFill>
        <p:spPr>
          <a:xfrm>
            <a:off x="1785960" y="642960"/>
            <a:ext cx="5786280" cy="4357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ba-RU" sz="2000" spc="-1" strike="noStrike">
                <a:solidFill>
                  <a:srgbClr val="ffffff"/>
                </a:solidFill>
                <a:latin typeface="Tahoma"/>
              </a:rPr>
              <a:t>Ҡарға бутҡаһы</a:t>
            </a:r>
            <a:r>
              <a:rPr b="0" lang="be-BY" sz="2000" spc="-1" strike="noStrike">
                <a:solidFill>
                  <a:srgbClr val="ffffff"/>
                </a:solidFill>
                <a:latin typeface="Tahoma"/>
              </a:rPr>
              <a:t>» бешереүҙәре тураһында әбейем бик яратып һөйлә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5" name="Picture 7" descr="карга боткасы"/>
          <p:cNvPicPr/>
          <p:nvPr/>
        </p:nvPicPr>
        <p:blipFill>
          <a:blip r:embed="rId1"/>
          <a:stretch/>
        </p:blipFill>
        <p:spPr>
          <a:xfrm>
            <a:off x="0" y="0"/>
            <a:ext cx="9144000" cy="400536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55280" y="4221000"/>
            <a:ext cx="8007480" cy="20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Яҙ көнө ҡара ҡарғалар килгәс уҙғары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Балалар йорт буйлап таҡмак әйтеп ашамлыҡтар йыял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Болонда был ашамлыҡтарҙан бутҡа бешерәлә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Бутҡанан барлыҡ ауыл халҡы ауыҙ итә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Усаҡ янында бейеп-йырлап күңел асал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Ҡалған бутҡаны ҡарғаларға һибәлә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WordArt 10"/>
          <p:cNvSpPr txBox="1"/>
          <p:nvPr/>
        </p:nvSpPr>
        <p:spPr>
          <a:xfrm>
            <a:off x="0" y="1916280"/>
            <a:ext cx="8352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Ҡарға бутҡаһы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9" name="Picture 17" descr="Айсберг"/>
          <p:cNvPicPr/>
          <p:nvPr/>
        </p:nvPicPr>
        <p:blipFill>
          <a:blip r:embed="rId1"/>
          <a:stretch/>
        </p:blipFill>
        <p:spPr>
          <a:xfrm>
            <a:off x="0" y="0"/>
            <a:ext cx="9144000" cy="389736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Яҙ башында боҙҙар киткәндә уҙғары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2.Барлыҡ ауыл халҡы йылға буйына төшә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3.Һыу буйында егет- ҡыҙҙар күңел асҡанд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WordArt 20"/>
          <p:cNvSpPr txBox="1"/>
          <p:nvPr/>
        </p:nvSpPr>
        <p:spPr>
          <a:xfrm>
            <a:off x="611280" y="0"/>
            <a:ext cx="820728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оҙ оҙатыу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3:41:27Z</dcterms:created>
  <dc:creator>*</dc:creator>
  <dc:description/>
  <dc:language>en-US</dc:language>
  <cp:lastModifiedBy>Rino</cp:lastModifiedBy>
  <dcterms:modified xsi:type="dcterms:W3CDTF">2015-10-22T19:16:57Z</dcterms:modified>
  <cp:revision>47</cp:revision>
  <dc:subject/>
  <dc:title>Татар халкының милли йолалары.</dc:title>
</cp:coreProperties>
</file>