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362-D4F1-4533-A901-ED1DCCF4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905-DE1C-4178-BFEE-57A4ACA0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1974A-232B-408B-A1DD-29268E3C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62FF8-CDD6-4A9C-995D-EE923717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5F981-0B03-4F58-A463-85EF45F5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A0E92-F4D3-452D-96CC-8323CFFD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A624D-0991-470B-A186-9DD9D65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F5AFD-EBE0-48C2-9DB0-1E88549B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A65EA-C2DD-4968-8FE8-6BD5A64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B1DEB-4086-4F7F-B3CC-D1A25635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0EFF9-0EAC-41FD-BBF9-2C954CDF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90F4D-451B-4B8D-9224-7EFB1793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219-5197-44BA-9BC6-21EA3366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497B6-BFFD-4C4B-AB6D-CAD31B7D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71538-0225-4550-A9AD-2BB602EF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7601A-33EC-49E7-8C4D-7095B93C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26570-9ECD-48C0-BB4B-04911A6B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3C12F-E67A-4451-AA88-8E1F9483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D3081-292B-425E-9E23-F9A3099A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B28B1-3BF2-46D7-A353-D78C1485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A039F-906E-4E37-BBFE-2FE77463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8A2E7-1BD1-4198-97FC-BA73EFAD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1C8DD-3D88-4FA4-99EC-C45B2B28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6B0-1EB6-4A2B-9881-0459D4E9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52C1A-2E51-44E0-822F-46507A7A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A6F5-2157-47A2-9273-C23D7B2E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18DC-59F1-41CB-ADC8-CCA21BB7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FAD4-539A-46B1-85F9-3FCB946C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8779-E4A1-4619-9E2A-7E7223D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9D44-3D1F-499E-AE24-0CA94BE8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9C60-28AE-4D5C-A9B3-653ADEC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25A2-EE37-46AC-8B1E-98519625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E79-FFA3-4E05-A00C-FB0AC9D8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D515-B6CB-4BB0-A026-25AA7AA6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3A4-99B0-4E19-B33B-A51D5F5D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0A19-0010-48E1-AC7F-6DB87001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5397-B1ED-4CB6-87C6-69842A98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4516-AF57-4E6C-AE8C-2235353A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6106-62A4-4C9C-AADE-FB3C43E8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5DE8-4711-4CB7-8FA9-F65D5145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8999-8EEB-44BD-B5AF-73C79D18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3F3D-D6CC-442A-8622-AC50B533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D40A-A031-4C46-A55B-845EA670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362-C1EA-4CD2-9D2A-2EB34A2E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E4922-A104-4A8A-B368-DBB8FF1F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7BDB-80D6-47CC-870A-0F2B827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6B4B-7B5E-46C6-9490-73BE150F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D242-EA5E-4A57-B84B-CBE4239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6ED0-F038-4D2C-9A7C-D5BCE006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F76D-D740-4B3D-9110-2C085E81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1968-CADD-48D5-94EB-820B1D92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B766-8613-4D79-B645-FFB06362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283D-3EB9-4836-8ACD-2F38798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61F3E-44CA-410B-81E5-EB16A238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BC8-536E-4C53-8539-294A2127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450C-CDC2-4A09-BF2C-E5BB4672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77DDF-3EDB-4F95-8B6F-61B77018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D5B93-FEEC-4FDA-8E8B-1E67E547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1AD8-9372-4055-8421-4E71881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6A87-6F12-4121-989C-E9F6790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D8DF-ADBF-402B-BF20-E11D918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9B7C-2A94-4107-ADAD-3810F12E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96EA-B9EC-4C90-8C1B-3E22F2B4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5A17A-2FB2-463F-BB0C-42F46606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89A5B-949F-486C-B3CD-369306D8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7FB-17B1-46D1-A0D8-613A7281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E731-1AE9-4D16-8D2D-F6319A36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7CA0-5622-4817-9CA4-E58F8204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30BE-0C29-4EA3-8F88-22D18C98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F2A2-3391-463F-B39D-007DCF70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E3B5-86F2-42ED-8D95-DBD99687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1A15-7491-496E-9302-F071C5AF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276B-A593-42D6-90F8-EE466EB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6A4B0-ED3E-4CE0-9C6B-D3F800D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E3F8F-E8D2-4DA7-8BB3-F691A9F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59D9-4C51-4D2E-92B5-FDF31F8E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F1D-21B9-4B87-9D73-044A4A65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C6ED3-BBC0-4D92-A52E-4338421C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90EBC-589D-47EA-840A-6F6F2DA8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12212-A1BF-419F-8F48-99CBC014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26DFA-30F9-48CF-927E-CBCDEB00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B3495-3C0A-4641-B885-C3FC7170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DF885-D6BE-4523-918E-11BC8C74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7F00F-A8B4-4071-8AA0-057F15FC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D4567-2C9C-4232-8DFB-902CC1CA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54D4E-4E13-497F-B20A-113E7BE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A4AC7-7BBC-43CF-A03C-20A8886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E4A-125A-430F-A7C6-AC667A34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F520B-CB6A-4BE2-998A-B579783A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A9B6C-73FF-4EA2-9621-8D4BAA11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32029-57B5-4551-98AF-60D0D0A2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AAC12-AEA5-44BF-8C6D-1061ED17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9867C-7351-4F23-8A0D-BE970CB2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CDE1-0E71-4866-BD8A-A256B6E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1A64B-FB12-4244-9ECE-12817B30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2D5B8-4B66-4782-80F1-C20B2777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A9E98-1FAE-492C-A678-CFFF8567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7CBB0-57F6-43D7-9800-285428A3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715-32DC-442D-BD3C-D486810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5E0D6-840A-4326-82C6-C96B3DBB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42ABC-7F2C-4E6A-9BF3-65D5F966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163C9-7E2C-443F-AE7E-342A81FB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A0C5E-2DC1-4A36-8B81-16C58D67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93C0-9AAE-43DE-BDDB-A43738E4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E3BBD-6375-48F4-A11D-01DE4CAD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A0255-0A38-461A-8A24-2AA75AFA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02CD0-4B97-4286-99B2-00DB2C3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CAC66-538E-4E8E-9066-1E9E7277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149BC-CC38-4007-A42E-F4D5A7FE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B80-2B1F-4312-B27E-EE70AAD7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C0249-84C8-43B9-8F63-B7BD7AD2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53DD-03F7-4633-AAA1-49C2DDB5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1F5A1-AE63-434E-9CC1-C7F0CCA6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37E21-DA12-4218-908C-9AA24424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E0F8D-9C35-45A8-AB99-887B1DDA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B622B-6D5A-480B-923D-36343B9D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C08E2-C482-4410-AC3C-C0AE8CCA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8B888-4B80-4703-B574-2B99AFEF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05D9E-EC6F-47B3-A20E-43DC9682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C1682-35E0-4824-94F1-DC55E967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7DDE-7BC7-434E-BE93-4F5CCAC7A7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9041-94F6-4CDA-87FA-49B985952C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9ABF-266A-43B7-AE2A-D6D1EDDDC11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6ED2-B17C-4D10-A48D-A4B9423C2A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3767-DA6F-4264-BBB8-88F852DF357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B16E-2D73-47EF-A725-CAAB9261EB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C478-C0FA-4059-A2A3-668DB33EC0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A6BF-7465-4195-9EB7-DD88ACE2051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F40E-2510-404D-9DBA-7F48F830AD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91B1-C47B-4292-A3DD-13A6B3EF56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повалова Лилия Алекс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СОШ с. Чапаево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Кабинет физики</cp:lastModifiedBy>
  <dcterms:modified xsi:type="dcterms:W3CDTF">2014-11-28T00:41:51Z</dcterms:modified>
  <cp:revision>23</cp:revision>
  <dc:subject/>
  <dc:title>Физика в профессии водителя</dc:title>
</cp:coreProperties>
</file>