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8EE-83AF-4D83-B9AD-F6907669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00C-70D0-451B-96E5-7555D72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BAC-F1F8-4F3A-BFBE-D1028480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DF2-AE90-4FE2-A18E-C56DD54A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A6-5399-4387-8555-CE94CCD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DED-1137-48BC-A535-DA530E2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008-BEEB-416C-8615-F6D57D34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416-8776-4A12-A66C-D567E6F4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E38-A6E3-406E-ABD3-923D8DF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0CF-E6CC-49AF-AD3C-ECFC2643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E3C-3811-48C4-913B-68B0EBF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C4C-F0A6-46B4-ACD2-472B470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9A81-32ED-47A2-973B-327F013B40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дготовила Никонор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311D-DA3C-44C9-8111-524DC69AF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Типология и структура современного уро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5"/>
          <p:cNvSpPr/>
          <p:nvPr/>
        </p:nvSpPr>
        <p:spPr>
          <a:xfrm>
            <a:off x="1258920" y="4869000"/>
            <a:ext cx="64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Подготовила: учитель начальных классов МОУ «СШ №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Шихайло В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труктура урока повтор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чала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образовательных, воспитательных, развивающих задач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, направленного на повторение основных понятий, умозаключений, основополагающих знаний, умений, способов деятельности (практической и мыслительной). На предыдущем уроке, зная о предстоящем повторении, нужно подобрать соответствующее домашнее зада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повторения, провер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 учебной работы на урок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чала урока. Здесь необходимо создать спокойную, деловую обстановку. Дети не должны бояться проверочных и контрольных работ или чрезмерно волноваться, так как учитель проверяет готовность детей к дальнейшему изучению материала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задач урока. Учитель сообщает ученикам, какой материал он будет проверять или контролировать. Просит, чтобы дети вспомнили соответствующие правила и пользовались ими в работе. Напоминает, чтобы учащиеся обязательно сами проверили работы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 содержания контрольной или проверочной работы (задачи, примеры, диктант, сочинение или ответы на вопросы и т. п.). Задания по объему или степени трудности должны соответствовать программе и быть посильными для каждого ученика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урока. Учитель выбирает хорошие работы учащихся, анализирует допущенные ошибки в других работах и организует работу над ошибками (иногда на это уходит следующий урок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ипичных ошибок и пробелов в знаниях и умениях, а также путей устранения их и совершенствования знаний и умен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Структура урока проверки зна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чала урока (психологический настрой учащихс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урока и его задач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ых знаний, необходимых для формирования ум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, закрепление первичных умений и применение их в стандартных ситуациях – по аналог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в применении знаний и умений в измененных услов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применение знаний и ум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о отработке навы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урока с оценкой проделанной учащимися рабо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труктура урока </a:t>
            </a:r>
            <a:br>
              <a:rPr sz="3600"/>
            </a:b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применения знаний, умений и навык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ельное слово учителя, в котором он подчеркивает значение материала изученной темы или тем, сообщает цель и план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чащимися индивидуально и коллективно различного рода устных и письменных заданий обобщающего и систематизирующего характера, вырабатывающих обобщенные умения, формирующих обобщенно-понятийные знания, на основе обобщения фактов, явл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работ, корректировка (при необходимост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выводов по изученному материал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 (не всегд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труктура </a:t>
            </a:r>
            <a:br>
              <a:rPr sz="3600"/>
            </a:b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повторительно-обобщающего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чала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машнего задания, постановка цели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ащихся к восприятию нового учебного материала, т. е. Актуализация знаний и практических и умственных ум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нового материала, в том числе и объясне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изученного материала на данном уроке и ранее пройденного, связанного с новы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и умений, связь новых с ранее полученными и сформированны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и результатов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(предварительная работа), необходимая учащимся для изучения новой темы (не всегд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Структур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комбинированного уро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н, как правило, имеет две или несколько дидактических целей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ff0066"/>
                </a:solidFill>
                <a:uFillTx/>
                <a:latin typeface="Arial"/>
              </a:rPr>
              <a:t>Использование здоровьесберегающих технологий в структуре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971640" y="33336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 на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масс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: пальчиковая, дыхательная, дл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минутка, динамическая пау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на видов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, игровые мом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упражнения по коррекции ВП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ый темп веде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ча материала наиболее доступным рациональным способ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090440" y="712800"/>
            <a:ext cx="7321680" cy="38782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«Урок — это зеркало общей и педагогической культуры учителя,  мерило его интеллектуального богатства, показател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кругозора, эрудиции»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В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А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BD05969_"/>
          <p:cNvPicPr/>
          <p:nvPr/>
        </p:nvPicPr>
        <p:blipFill>
          <a:blip r:embed="rId1"/>
          <a:stretch/>
        </p:blipFill>
        <p:spPr>
          <a:xfrm>
            <a:off x="6948360" y="2781360"/>
            <a:ext cx="1893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знаки современ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619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я деятельность учителя и ученика должна осуществляться с учетом новейших достижений психологической науки и передовой педагогической прак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ка и решение познавательных, воспитательных и развивающих задач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изация познавательной деятельности учащихся, развитие их инициативы и 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ный подход к организации учебного проце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ршенная структура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инство формирования знаний, умений и навыков учащихся (практических, умственных, специальных и общих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, но посильный темп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моциональный подъем на уро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 благоприятного психологического микроклим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J0079054"/>
          <p:cNvPicPr/>
          <p:nvPr/>
        </p:nvPicPr>
        <p:blipFill>
          <a:blip r:embed="rId1"/>
          <a:stretch/>
        </p:blipFill>
        <p:spPr>
          <a:xfrm>
            <a:off x="6659640" y="3429000"/>
            <a:ext cx="22669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Типы уро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классические тип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рок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788000" y="1341360"/>
            <a:ext cx="3456000" cy="1440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рок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воения нов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95280" y="3068640"/>
            <a:ext cx="3600360" cy="1224000"/>
          </a:xfrm>
          <a:prstGeom prst="vertic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рок повто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общения получ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5148360" y="2781360"/>
            <a:ext cx="3384360" cy="17272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рок закрепления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ки ум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50920" y="4941720"/>
            <a:ext cx="273672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трольный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6156360" y="4797360"/>
            <a:ext cx="2448000" cy="158436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рок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3276720" y="4365720"/>
            <a:ext cx="2447640" cy="14414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рок с Т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539640" y="1484280"/>
            <a:ext cx="2808360" cy="129528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бин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традиционные типы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фантаз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дис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– путеше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 КВ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–спектак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 конферен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турн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 соревн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–творчества и т.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j0233018"/>
          <p:cNvPicPr/>
          <p:nvPr/>
        </p:nvPicPr>
        <p:blipFill>
          <a:blip r:embed="rId1"/>
          <a:stretch/>
        </p:blipFill>
        <p:spPr>
          <a:xfrm>
            <a:off x="5219640" y="2565360"/>
            <a:ext cx="29480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Структур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труктура урок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различных вариантов взаимодействий между элементами урока, возникающая в процессе обучения и обеспечивающая его целенаправленную действи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труктура урока </a:t>
            </a:r>
            <a:br>
              <a:rPr sz="4400"/>
            </a:b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зучения нового материал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ое введение материала с учетом закономерностей процесса познания при высокой мыслительной актив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ания на то, что учащиеся должны запомни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запоминания и длительного сохранения в памя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 либо актуализация техники запоминания (работа с опорными для памяти материалами, смысловая группировка и т. п.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ое закрепление под руководством учителя посредством прямого повторения, частичных вывод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результатов первичного запомин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рное систематизирующее повторение через короткие, а затем более длительные промежутки времени в сочетании с различными требованиями к воспроизведению, в том числе и с дифференцированными заданиям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ее повторение и постоянное применение полученных знаний и навыков для приобретения новых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ое включение опорного материала для запоминания и приме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учащимся цели предстоящей работ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едение учащимися знаний, умений и навыков, которые потребуются для выполнения предложенных знани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чащимися различных заданий, задач, упражнени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ных рабо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допущенных ошибок и их коррекция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 (если это необходимо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труктура урока </a:t>
            </a:r>
            <a:br>
              <a:rPr sz="4400"/>
            </a:b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закрепления и развития знаний, умений, навык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труктура урока </a:t>
            </a:r>
            <a:br>
              <a:rPr sz="3600"/>
            </a:b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формирования умений навык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цели уро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ение сформированных умений и навыков, являющихся опор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проверочных упражнений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накомление с новыми умениями, показ образца формир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на их осво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на их закрепл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ровочные упражнения по образцу, алгоритму, инстру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на перенос в сходн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творческого характер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ог урока; задание на 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7:16:15Z</dcterms:created>
  <dc:creator>Шихайло</dc:creator>
  <dc:description/>
  <dc:language>en-US</dc:language>
  <cp:lastModifiedBy>Владелец</cp:lastModifiedBy>
  <dcterms:modified xsi:type="dcterms:W3CDTF">2018-01-25T16:29:49Z</dcterms:modified>
  <cp:revision>50</cp:revision>
  <dc:subject/>
  <dc:title>Типология и структура современного урока.</dc:title>
</cp:coreProperties>
</file>