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A64-2FB9-41F7-A850-359E8590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355-480E-4AFD-8A52-7A55839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B79-BBD3-46C1-AA06-F1F254EF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B5F-3584-44B0-A590-CDFF5303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B41-167F-4E47-9CBF-AA578D23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5E4C-57A2-4616-9B17-F9AFEB3F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F206-4109-4AB8-943D-2B515E5E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0016-092E-4217-9858-8C882A35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FE77-EC26-4A43-A490-AD3ED22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BE75-6A19-48EE-926D-EFC2A68A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282B-1FA8-4231-954E-F17503C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35A-695B-4EE0-90FA-C7C5310E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D4A-F1A8-4972-82D9-959DFE1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2C8-5491-48D9-B86E-60E6BF87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7765-7A93-41E6-B05B-22E7E3E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F3B8-6B5F-41E9-9251-77969B18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DCC3-FE22-4F80-A8DF-1D586182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9C46-6F6C-46D8-B75C-227383B2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E722-6A61-4114-8C9A-09E754B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2F22-121C-4AE0-B81C-01C539F0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7E77-4F21-4E8B-9306-A12C20AB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669B-98A6-407D-9FDC-CA2CD656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413-2687-4A77-96D1-E90903CD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3D5A-9A2E-4EE9-BAEB-63E7B2FB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9D09-D5D1-441C-9A4E-F9A47D4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232E-F5CE-4131-AB90-502875FE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FAC6-1A14-45CC-ACA0-72E4DDE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D0B0-E1BE-4D58-B177-23176243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143E-DA4D-4EAD-A61F-B6787514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4A0C-57A6-437E-9707-ABF73A71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FBA5-D712-4E7F-BE1B-F17FA19F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3AFD-CB3B-4E9B-A2CF-00B4F948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3DF9-FAD8-45A3-AC7F-B95833F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FAC-AFC5-454D-9630-786A8DBA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D960-EE75-41EB-91F5-60EF669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7F5B-EB6F-4CAC-BDE6-9D906F4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ABAE-64A9-4BA2-94AA-9AA3CE6A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7297-ED91-4FEC-A362-A66352FE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94E1-372F-40A1-83FE-E13C7FB0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DF50-01C4-4544-A97F-AAEDA3C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FD6D-51D7-4C39-921F-A9C7D0B4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D415-0F9B-43D6-8ED4-341DE4E8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01F9-DE39-4EB2-B1A8-D380C8ED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59E-9672-44DB-9D68-99E0D51A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F3A-02A6-41DB-93AE-6EE08C24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CF1-250D-4A4F-9F0A-6D30533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638-657A-4A3B-BAF6-A5C30E4D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436-A758-4A09-BAA4-1412585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85dc2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a72a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E1C1-9F43-47C2-BA7F-BE21DBFE4862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2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85dc2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a72a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2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олилиния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85dc2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илиния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a72a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2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3" name="Полилиния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14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Полилиния 18"/>
            <p:cNvGrpSpPr/>
            <p:nvPr/>
          </p:nvGrpSpPr>
          <p:grpSpPr>
            <a:xfrm>
              <a:off x="-10800" y="248040"/>
              <a:ext cx="9172800" cy="561600"/>
              <a:chOff x="-10800" y="248040"/>
              <a:chExt cx="9172800" cy="561600"/>
            </a:xfrm>
          </p:grpSpPr>
          <p:pic>
            <p:nvPicPr>
              <p:cNvPr id="66" name="Полилиния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5040" y="248040"/>
                <a:ext cx="915696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17"/>
              <p:cNvSpPr/>
              <p:nvPr/>
            </p:nvSpPr>
            <p:spPr>
              <a:xfrm rot="21435600">
                <a:off x="-104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A032-64CF-46A8-A387-04C495CC2CF7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85dc2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a72a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Text Box 12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Полилиния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85dc2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a72a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22" name="Полилиния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4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Полилиния 18"/>
            <p:cNvGrpSpPr/>
            <p:nvPr/>
          </p:nvGrpSpPr>
          <p:grpSpPr>
            <a:xfrm>
              <a:off x="-10800" y="248040"/>
              <a:ext cx="9172800" cy="561600"/>
              <a:chOff x="-10800" y="248040"/>
              <a:chExt cx="9172800" cy="561600"/>
            </a:xfrm>
          </p:grpSpPr>
          <p:pic>
            <p:nvPicPr>
              <p:cNvPr id="125" name="Полилиния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5040" y="248040"/>
                <a:ext cx="915696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17"/>
              <p:cNvSpPr/>
              <p:nvPr/>
            </p:nvSpPr>
            <p:spPr>
              <a:xfrm rot="21435600">
                <a:off x="-104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0493-83D4-4EAE-B3A8-A78ABBFFED57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85dc2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a72a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7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12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85dc2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a72a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C225-FA2D-4A7E-A0E7-8D311D80AC0D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1042920" y="1292400"/>
            <a:ext cx="7851960" cy="1950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стахова  Инна Александров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БДОУ №8 «Огонек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. Поронайс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На какие группы делятся растения по виду листвы?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03652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2786040" y="2071800"/>
            <a:ext cx="3571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4"/>
          <p:cNvSpPr/>
          <p:nvPr/>
        </p:nvSpPr>
        <p:spPr>
          <a:xfrm>
            <a:off x="777960" y="4589640"/>
            <a:ext cx="3071880" cy="1214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Листв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5"/>
          <p:cNvSpPr/>
          <p:nvPr/>
        </p:nvSpPr>
        <p:spPr>
          <a:xfrm>
            <a:off x="5294160" y="4589640"/>
            <a:ext cx="3071880" cy="1214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7"/>
          <p:cNvCxnSpPr/>
          <p:nvPr/>
        </p:nvCxnSpPr>
        <p:spPr>
          <a:xfrm flipH="1">
            <a:off x="1978920" y="2928600"/>
            <a:ext cx="2377080" cy="1661400"/>
          </a:xfrm>
          <a:prstGeom prst="straightConnector1">
            <a:avLst/>
          </a:prstGeom>
          <a:ln w="57240">
            <a:solidFill>
              <a:srgbClr val="365d8b"/>
            </a:solidFill>
            <a:miter/>
            <a:tailEnd len="med" type="arrow" w="med"/>
          </a:ln>
        </p:spPr>
      </p:cxnSp>
      <p:cxnSp>
        <p:nvCxnSpPr>
          <p:cNvPr id="230" name="Прямая со стрелкой 9"/>
          <p:cNvCxnSpPr>
            <a:stCxn id="226" idx="2"/>
            <a:endCxn id="228" idx="0"/>
          </p:cNvCxnSpPr>
          <p:nvPr/>
        </p:nvCxnSpPr>
        <p:spPr>
          <a:xfrm>
            <a:off x="4571640" y="2928600"/>
            <a:ext cx="2258280" cy="1661400"/>
          </a:xfrm>
          <a:prstGeom prst="straightConnector1">
            <a:avLst/>
          </a:prstGeom>
          <a:ln w="57240">
            <a:solidFill>
              <a:srgbClr val="365d8b"/>
            </a:solidFill>
            <a:miter/>
            <a:tailEnd len="med" type="arrow" w="med"/>
          </a:ln>
        </p:spPr>
      </p:cxn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64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На какие группы делятся растени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5568840" cy="4176720"/>
          </a:xfrm>
          <a:prstGeom prst="rect">
            <a:avLst/>
          </a:prstGeom>
          <a:ln w="57240">
            <a:solidFill>
              <a:srgbClr val="00b05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3" name="TextBox 4"/>
          <p:cNvSpPr/>
          <p:nvPr/>
        </p:nvSpPr>
        <p:spPr>
          <a:xfrm>
            <a:off x="6696000" y="3068640"/>
            <a:ext cx="24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Oval 4"/>
          <p:cNvSpPr/>
          <p:nvPr/>
        </p:nvSpPr>
        <p:spPr>
          <a:xfrm>
            <a:off x="2951280" y="851040"/>
            <a:ext cx="367344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3205080" y="981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Дикорасту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224000" y="3860640"/>
            <a:ext cx="71294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стения, которые  никто не сажает, они растут сами по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х можно встретить везде: и в лесу, и на лугу, и около водоё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755640" y="704880"/>
            <a:ext cx="36259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Колосится в поле рожь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Там во ржи цветок найдеш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Ярко-синий и пушистый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Только жаль, что не душисты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1055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C:\Documents and Settings\Игорь\Мои документы\Мои рисунки\растения\растения0005.tif"/>
          <p:cNvPicPr/>
          <p:nvPr/>
        </p:nvPicPr>
        <p:blipFill>
          <a:blip r:embed="rId1"/>
          <a:stretch/>
        </p:blipFill>
        <p:spPr>
          <a:xfrm>
            <a:off x="4381560" y="836640"/>
            <a:ext cx="4572000" cy="572616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46080"/>
            <a:ext cx="3971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Василек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11280" y="975960"/>
            <a:ext cx="4038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сильки называют сорняк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ни не приносят пользы человеку и мешают расти хлеб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все-таки они любимы в народ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и цветы прелестные, синие, как небо, многие собирают, плетут из них вен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 василек народом придумано много песен и леген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C:\Documents and Settings\Игорь\Мои документы\Мои рисунки\василек.tif"/>
          <p:cNvPicPr/>
          <p:nvPr/>
        </p:nvPicPr>
        <p:blipFill>
          <a:blip r:embed="rId1"/>
          <a:stretch/>
        </p:blipFill>
        <p:spPr>
          <a:xfrm>
            <a:off x="7286760" y="4883040"/>
            <a:ext cx="214200" cy="4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>
            <a:lum contrast="30000"/>
          </a:blip>
          <a:srcRect l="-10607" t="-8068" r="-4099" b="0"/>
          <a:stretch/>
        </p:blipFill>
        <p:spPr>
          <a:xfrm>
            <a:off x="4462560" y="874800"/>
            <a:ext cx="4214880" cy="510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6"/>
          <p:cNvSpPr/>
          <p:nvPr/>
        </p:nvSpPr>
        <p:spPr>
          <a:xfrm>
            <a:off x="1511280" y="4005360"/>
            <a:ext cx="6121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а обычно бывает высотой до 40 метров, корневая система очень мощная. Плод — сплюснутый чечевицеобразный орешек, несущий на вершине два засохших столбика и окружённый тонкокожим, перепончатым крылышком, семена очень легкие поэтому легко разносятся ветром.  Многие виды берёзы — широко распространённые и важнейшие лесообразующие породы, во многом определяющие облик и видовой состав лиственных лесов Евр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" descr="ce8c3be70c2e.png"/>
          <p:cNvPicPr/>
          <p:nvPr/>
        </p:nvPicPr>
        <p:blipFill>
          <a:blip r:embed="rId1"/>
          <a:stretch/>
        </p:blipFill>
        <p:spPr>
          <a:xfrm>
            <a:off x="971640" y="333360"/>
            <a:ext cx="7200720" cy="63356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8" descr=""/>
          <p:cNvPicPr/>
          <p:nvPr/>
        </p:nvPicPr>
        <p:blipFill>
          <a:blip r:embed="rId2"/>
          <a:stretch/>
        </p:blipFill>
        <p:spPr>
          <a:xfrm>
            <a:off x="2808360" y="836640"/>
            <a:ext cx="35272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6" descr=""/>
          <p:cNvPicPr/>
          <p:nvPr/>
        </p:nvPicPr>
        <p:blipFill>
          <a:blip r:embed="rId1"/>
          <a:stretch/>
        </p:blipFill>
        <p:spPr>
          <a:xfrm>
            <a:off x="3790800" y="182520"/>
            <a:ext cx="1251000" cy="646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9808"/>
          <p:cNvPicPr/>
          <p:nvPr/>
        </p:nvPicPr>
        <p:blipFill>
          <a:blip r:embed="rId2"/>
          <a:stretch/>
        </p:blipFill>
        <p:spPr>
          <a:xfrm>
            <a:off x="2682720" y="938160"/>
            <a:ext cx="3468960" cy="38163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0"/>
          <p:cNvSpPr/>
          <p:nvPr/>
        </p:nvSpPr>
        <p:spPr>
          <a:xfrm>
            <a:off x="395280" y="485784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 хорошо узнаваем благодаря своим плодам – жёлудям. Разные виды дуба распространены в умеренных и тёплых странах. В России значительно распространён только один вид — дуб черешчатый. Жёлуди дубов, произрастающих в России, идут только на приготовление желудёвого кофе. Дубовая кора содержит много дубильной кислоты, а потому идёт на дубление ко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3" descr=""/>
          <p:cNvPicPr/>
          <p:nvPr/>
        </p:nvPicPr>
        <p:blipFill>
          <a:blip r:embed="rId1"/>
          <a:stretch/>
        </p:blipFill>
        <p:spPr>
          <a:xfrm>
            <a:off x="469800" y="1347840"/>
            <a:ext cx="8302680" cy="3693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4:26:33Z</dcterms:created>
  <dc:creator>Игорь</dc:creator>
  <dc:description/>
  <dc:language>en-US</dc:language>
  <cp:lastModifiedBy>HOME</cp:lastModifiedBy>
  <dcterms:modified xsi:type="dcterms:W3CDTF">2018-01-25T02:14:32Z</dcterms:modified>
  <cp:revision>53</cp:revision>
  <dc:subject/>
  <dc:title>Дикорастущие и культурные расте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27000000000001023620</vt:lpwstr>
  </property>
</Properties>
</file>