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F04-72CD-430C-BF88-228B04E0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6FC-B6FF-442E-B869-A5FE471A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406-A8F3-4D78-8CD6-06A45CCA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FD9-A1ED-4C47-B92B-006F9895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C21-8601-41C0-907A-AD8D5BE0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C9C-A45E-4334-B87C-04AD0E5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924-ED59-4C78-86CA-47138018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553-0DC5-4EB7-A6B4-8EA6FE7C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CAA-3D7C-46B2-B9AC-907D03D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9B3-1405-4A00-B527-A3915E3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443-48E0-404B-BE44-5CAEABFA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57B-9F81-4E1E-A043-3A0F142B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2B65-8305-4A8E-AF23-BEFB0E63B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s.1september.ru/2005/02/20.gif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3ff"/>
                </a:solidFill>
                <a:latin typeface="Arial"/>
              </a:rPr>
              <a:t>Муниципальное бюджетное</a:t>
            </a:r>
            <a:br>
              <a:rPr sz="2400"/>
            </a:br>
            <a:r>
              <a:rPr b="1" lang="ru-RU" sz="2400" spc="-1" strike="noStrike">
                <a:solidFill>
                  <a:srgbClr val="fff3ff"/>
                </a:solidFill>
                <a:latin typeface="Arial"/>
              </a:rPr>
              <a:t> образовательное учреждение </a:t>
            </a:r>
            <a:br>
              <a:rPr sz="2400"/>
            </a:br>
            <a:r>
              <a:rPr b="1" lang="ru-RU" sz="2400" spc="-1" strike="noStrike">
                <a:solidFill>
                  <a:srgbClr val="fff3ff"/>
                </a:solidFill>
                <a:latin typeface="Arial"/>
              </a:rPr>
              <a:t>«Охтеурская общеобразовательная средняя школ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76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спользование современных педагогических технологий на уроке математике. Опыт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762120" y="4191120"/>
            <a:ext cx="76197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Охтеурская ОСШ Нижневартовского района ХМАО-Югр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ззатуллина Гулькай Яумба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1981080" y="5943600"/>
            <a:ext cx="472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одержимое 4"/>
          <p:cNvSpPr/>
          <p:nvPr/>
        </p:nvSpPr>
        <p:spPr>
          <a:xfrm>
            <a:off x="380880" y="16765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www.myjulia.ru/data/cache/2011/02/21/680138_1210-0x600.jpg"/>
          <p:cNvPicPr/>
          <p:nvPr/>
        </p:nvPicPr>
        <p:blipFill>
          <a:blip r:embed="rId1"/>
          <a:stretch/>
        </p:blipFill>
        <p:spPr>
          <a:xfrm>
            <a:off x="304920" y="457200"/>
            <a:ext cx="3902040" cy="3965400"/>
          </a:xfrm>
          <a:prstGeom prst="rect">
            <a:avLst/>
          </a:prstGeom>
          <a:ln w="0">
            <a:noFill/>
          </a:ln>
        </p:spPr>
      </p:pic>
      <p:sp>
        <p:nvSpPr>
          <p:cNvPr id="114" name="Oval 2"/>
          <p:cNvSpPr/>
          <p:nvPr/>
        </p:nvSpPr>
        <p:spPr>
          <a:xfrm>
            <a:off x="457200" y="609480"/>
            <a:ext cx="3733920" cy="3733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 rot="20397000">
            <a:off x="1390680" y="759960"/>
            <a:ext cx="1920960" cy="890640"/>
          </a:xfrm>
          <a:prstGeom prst="rightArrow">
            <a:avLst>
              <a:gd name="adj1" fmla="val 50000"/>
              <a:gd name="adj2" fmla="val 88939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2"/>
          <p:cNvSpPr/>
          <p:nvPr/>
        </p:nvSpPr>
        <p:spPr>
          <a:xfrm flipV="1">
            <a:off x="457200" y="2439720"/>
            <a:ext cx="3749760" cy="3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 rot="18376200">
            <a:off x="1555560" y="3038040"/>
            <a:ext cx="2436840" cy="747360"/>
          </a:xfrm>
          <a:prstGeom prst="rightArrow">
            <a:avLst>
              <a:gd name="adj1" fmla="val 50000"/>
              <a:gd name="adj2" fmla="val 88866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Users\Валентина Ивановна\Desktop\4118_08pr[1].jpg"/>
          <p:cNvPicPr/>
          <p:nvPr/>
        </p:nvPicPr>
        <p:blipFill>
          <a:blip r:embed="rId2"/>
          <a:stretch/>
        </p:blipFill>
        <p:spPr>
          <a:xfrm>
            <a:off x="4572000" y="609480"/>
            <a:ext cx="3352680" cy="4470480"/>
          </a:xfrm>
          <a:prstGeom prst="rect">
            <a:avLst/>
          </a:prstGeom>
          <a:ln w="0">
            <a:noFill/>
          </a:ln>
        </p:spPr>
      </p:pic>
      <p:sp>
        <p:nvSpPr>
          <p:cNvPr id="119" name="Овал 18"/>
          <p:cNvSpPr/>
          <p:nvPr/>
        </p:nvSpPr>
        <p:spPr>
          <a:xfrm>
            <a:off x="5181480" y="1143000"/>
            <a:ext cx="228600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 flipV="1" rot="13629000">
            <a:off x="6452280" y="2022840"/>
            <a:ext cx="2416320" cy="989280"/>
          </a:xfrm>
          <a:prstGeom prst="rightArrow">
            <a:avLst>
              <a:gd name="adj1" fmla="val 50000"/>
              <a:gd name="adj2" fmla="val 8885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 rot="19375800">
            <a:off x="3865320" y="1801440"/>
            <a:ext cx="2436840" cy="747720"/>
          </a:xfrm>
          <a:prstGeom prst="rightArrow">
            <a:avLst>
              <a:gd name="adj1" fmla="val 50000"/>
              <a:gd name="adj2" fmla="val 8882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22"/>
          <p:cNvSpPr/>
          <p:nvPr/>
        </p:nvSpPr>
        <p:spPr>
          <a:xfrm>
            <a:off x="5181480" y="1371600"/>
            <a:ext cx="2286000" cy="38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28600" y="5029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 Вычислите отнош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066680" y="5715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43828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Измерь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щью н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2819520" y="57150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352680" y="5715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838080" y="1447920"/>
          <a:ext cx="7543800" cy="476244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219320"/>
                <a:gridCol w="1218960"/>
                <a:gridCol w="1219320"/>
                <a:gridCol w="1066680"/>
              </a:tblGrid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</a:t>
                      </a:r>
                      <a:r>
                        <a:rPr b="1" lang="en-US" sz="6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82080" y="228600"/>
            <a:ext cx="88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Занесите результаты в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45720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Какие выводы можно с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438280" y="1143000"/>
          <a:ext cx="1219320" cy="36504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657600" y="1143000"/>
          <a:ext cx="1219320" cy="36504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76920" y="1143000"/>
          <a:ext cx="1218960" cy="36504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095880" y="1143000"/>
          <a:ext cx="1219320" cy="36504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238880" y="1143000"/>
          <a:ext cx="1219320" cy="36504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 №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Картинка 1 из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70600" y="3352680"/>
            <a:ext cx="3173400" cy="29955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-228600" y="990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37160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447920" y="9907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3,14159265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3589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238880" y="91440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l-G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352680" y="2057400"/>
            <a:ext cx="3657600" cy="1099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l-G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286000" y="35812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971800" y="38098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352680" y="38098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3,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83808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лите до со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62520" y="4952880"/>
            <a:ext cx="150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724280" y="5181480"/>
            <a:ext cx="96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матемк"/>
          <p:cNvPicPr/>
          <p:nvPr/>
        </p:nvPicPr>
        <p:blipFill>
          <a:blip r:embed="rId3"/>
          <a:stretch/>
        </p:blipFill>
        <p:spPr>
          <a:xfrm>
            <a:off x="457200" y="2259000"/>
            <a:ext cx="1981080" cy="2863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0" y="5181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онард Эй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"/>
              <p:cNvSpPr txBox="1"/>
              <p:nvPr/>
            </p:nvSpPr>
            <p:spPr>
              <a:xfrm>
                <a:off x="5334120" y="4876920"/>
                <a:ext cx="9144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11"/>
          <p:cNvSpPr/>
          <p:nvPr/>
        </p:nvSpPr>
        <p:spPr>
          <a:xfrm>
            <a:off x="5867280" y="6172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1"/>
          <p:cNvSpPr/>
          <p:nvPr/>
        </p:nvSpPr>
        <p:spPr>
          <a:xfrm>
            <a:off x="1600200" y="12952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590920" y="15238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200400" y="15238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3,14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68580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20968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733920" y="32004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41008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781680" y="320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19320" y="4876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666880" y="4876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343400" y="48769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867280" y="48006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7391520" y="4876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762120" y="380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Как запомни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990720" y="5715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бъяс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низ 29"/>
          <p:cNvSpPr/>
          <p:nvPr/>
        </p:nvSpPr>
        <p:spPr>
          <a:xfrm>
            <a:off x="1447920" y="3809880"/>
            <a:ext cx="2286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низ 30"/>
          <p:cNvSpPr/>
          <p:nvPr/>
        </p:nvSpPr>
        <p:spPr>
          <a:xfrm>
            <a:off x="2819520" y="3809880"/>
            <a:ext cx="2286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низ 31"/>
          <p:cNvSpPr/>
          <p:nvPr/>
        </p:nvSpPr>
        <p:spPr>
          <a:xfrm>
            <a:off x="4572000" y="3809880"/>
            <a:ext cx="2286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низ 34"/>
          <p:cNvSpPr/>
          <p:nvPr/>
        </p:nvSpPr>
        <p:spPr>
          <a:xfrm>
            <a:off x="6019920" y="3809880"/>
            <a:ext cx="2286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низ 35"/>
          <p:cNvSpPr/>
          <p:nvPr/>
        </p:nvSpPr>
        <p:spPr>
          <a:xfrm>
            <a:off x="7620120" y="3886200"/>
            <a:ext cx="2286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38088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304920" y="533520"/>
            <a:ext cx="8305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Самообучающие тест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омашние задания опережающего характер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Творческие домашние зада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Опорные конспекты. УД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Нетрадиционные формы тематического контрол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Игры и задания занимательного характер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7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wer Point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 уроке математ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304920" y="838080"/>
            <a:ext cx="838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5335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. Самообучающ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85800" y="99072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учающие тесты – особая форма проведения урока, которая развивает исследовательские умения и навыки. Учащимся предоставляется возможность самостоятельно изучить тему. Учащиеся класса получают бланки с вопросами теста и после самостоятельного изучения темы работают с те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304920" y="762120"/>
            <a:ext cx="83818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такого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учащихся умение пользовать­ся учебной литератур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выделять главное из потока информа­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мение пользоваться полученной информацией при выполнении конкретны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«опережающего» домашнего задания заключается в следующем: с помощью путеводителя, составленного учителем, учащиеся дома самостоятельно изучают новый материал и выполняют практическое задание по данному материа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1905120" y="0"/>
            <a:ext cx="4876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049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Домашние задания опережающе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228600" y="1447920"/>
            <a:ext cx="86104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85800" y="22860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7160" indent="-85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Домашнее задание по теме</a:t>
            </a:r>
            <a:br>
              <a:rPr sz="2800"/>
            </a:b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«Деление положительных и отрицательных чисе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80880" y="1447920"/>
            <a:ext cx="84582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читайте текст на странице 2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ишите в тетрадь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еление отрицательного числа на отрицатель­ное чи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еление чисел, имеющих разные 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дите ошибки и исправьте 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-23 : (-2) = -11,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0 503 : (-290) = -7,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-348 : 120 = -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2807 : (-14) = 2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полните № 113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собые случаи делени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-х = 0;     0-х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;     0 •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ли решение каждое из уравнений, если нет, то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ожно ли делить на ну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304920" y="22860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7160" indent="-85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33520" y="68580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. Творческие домашн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57200" y="990720"/>
            <a:ext cx="83059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презентацию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рекламу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домашн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чайнвор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заниматель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прорные конспекты 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133720" y="1219320"/>
            <a:ext cx="220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505320" y="129528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1828800" y="190512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3733920" y="1905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457200" y="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914400" y="259092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1676520" y="3124080"/>
            <a:ext cx="220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3505320" y="312408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1905120" y="380988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3809880" y="380988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838080" y="457200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3429000" y="510552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752480" y="5562720"/>
            <a:ext cx="221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666960" cy="4876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3"/>
          <p:cNvSpPr/>
          <p:nvPr/>
        </p:nvSpPr>
        <p:spPr>
          <a:xfrm>
            <a:off x="4343400" y="1166760"/>
            <a:ext cx="449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работают индивидуально или в груп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итайте текст и предложите к нему опоры (рисунки, схемы, символы — минимум сл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ировать лучше по абзацам, получая несколько о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ментарий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заслушать всех, предоставив возможность каждому продемонстрировать св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ы и проговорить тему по опорному конспекту урока, а можно разместить «опоры» на доске в произвольном порядке и попросить нескольких учеников собрать их в консп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опоры ученики могут делать дома, а потом использовать их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152280" y="259092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228600" y="411480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2209680" y="838080"/>
            <a:ext cx="60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4343400" y="1828800"/>
            <a:ext cx="609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3048120" y="30481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048120" y="5257800"/>
            <a:ext cx="99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962520" y="6094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962520" y="52578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533520" y="380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5. Нетрадиционные формы тематического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762120" y="1295280"/>
            <a:ext cx="77724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чет «Танграм» (7 - 11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абораторные работ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йский  математический марафон (МММ) (6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роекты»  (10,  11кл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2819520" y="304920"/>
            <a:ext cx="3886200" cy="1676160"/>
          </a:xfrm>
          <a:prstGeom prst="rect">
            <a:avLst/>
          </a:prstGeom>
          <a:solidFill>
            <a:srgbClr val="e1f2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2209680" y="762120"/>
            <a:ext cx="60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4343400" y="1828800"/>
            <a:ext cx="609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Таблица 11" descr=""/>
          <p:cNvPicPr/>
          <p:nvPr/>
        </p:nvPicPr>
        <p:blipFill>
          <a:blip r:embed="rId1"/>
          <a:stretch/>
        </p:blipFill>
        <p:spPr>
          <a:xfrm>
            <a:off x="463680" y="2951280"/>
            <a:ext cx="1895400" cy="931680"/>
          </a:xfrm>
          <a:prstGeom prst="rect">
            <a:avLst/>
          </a:prstGeom>
          <a:ln w="0">
            <a:noFill/>
          </a:ln>
        </p:spPr>
      </p:pic>
      <p:pic>
        <p:nvPicPr>
          <p:cNvPr id="93" name="Таблица 20" descr=""/>
          <p:cNvPicPr/>
          <p:nvPr/>
        </p:nvPicPr>
        <p:blipFill>
          <a:blip r:embed="rId2"/>
          <a:stretch/>
        </p:blipFill>
        <p:spPr>
          <a:xfrm>
            <a:off x="2212920" y="2951280"/>
            <a:ext cx="1901880" cy="931680"/>
          </a:xfrm>
          <a:prstGeom prst="rect">
            <a:avLst/>
          </a:prstGeom>
          <a:ln w="0">
            <a:noFill/>
          </a:ln>
        </p:spPr>
      </p:pic>
      <p:pic>
        <p:nvPicPr>
          <p:cNvPr id="94" name="Таблица 21" descr=""/>
          <p:cNvPicPr/>
          <p:nvPr/>
        </p:nvPicPr>
        <p:blipFill>
          <a:blip r:embed="rId3"/>
          <a:stretch/>
        </p:blipFill>
        <p:spPr>
          <a:xfrm>
            <a:off x="3968640" y="2932200"/>
            <a:ext cx="28893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Таблица 22" descr=""/>
          <p:cNvPicPr/>
          <p:nvPr/>
        </p:nvPicPr>
        <p:blipFill>
          <a:blip r:embed="rId4"/>
          <a:stretch/>
        </p:blipFill>
        <p:spPr>
          <a:xfrm>
            <a:off x="463680" y="3693960"/>
            <a:ext cx="1895400" cy="951120"/>
          </a:xfrm>
          <a:prstGeom prst="rect">
            <a:avLst/>
          </a:prstGeom>
          <a:ln w="0">
            <a:noFill/>
          </a:ln>
        </p:spPr>
      </p:pic>
      <p:pic>
        <p:nvPicPr>
          <p:cNvPr id="96" name="Таблица 23" descr=""/>
          <p:cNvPicPr/>
          <p:nvPr/>
        </p:nvPicPr>
        <p:blipFill>
          <a:blip r:embed="rId5"/>
          <a:stretch/>
        </p:blipFill>
        <p:spPr>
          <a:xfrm>
            <a:off x="2212920" y="3693960"/>
            <a:ext cx="1901880" cy="951120"/>
          </a:xfrm>
          <a:prstGeom prst="rect">
            <a:avLst/>
          </a:prstGeom>
          <a:ln w="0">
            <a:noFill/>
          </a:ln>
        </p:spPr>
      </p:pic>
      <p:pic>
        <p:nvPicPr>
          <p:cNvPr id="97" name="Таблица 24" descr=""/>
          <p:cNvPicPr/>
          <p:nvPr/>
        </p:nvPicPr>
        <p:blipFill>
          <a:blip r:embed="rId6"/>
          <a:stretch/>
        </p:blipFill>
        <p:spPr>
          <a:xfrm>
            <a:off x="3968640" y="3713040"/>
            <a:ext cx="2889360" cy="932040"/>
          </a:xfrm>
          <a:prstGeom prst="rect">
            <a:avLst/>
          </a:prstGeom>
          <a:ln w="0">
            <a:noFill/>
          </a:ln>
        </p:spPr>
      </p:pic>
      <p:pic>
        <p:nvPicPr>
          <p:cNvPr id="98" name="Таблица 25" descr=""/>
          <p:cNvPicPr/>
          <p:nvPr/>
        </p:nvPicPr>
        <p:blipFill>
          <a:blip r:embed="rId7"/>
          <a:stretch/>
        </p:blipFill>
        <p:spPr>
          <a:xfrm>
            <a:off x="3968640" y="3693960"/>
            <a:ext cx="2889360" cy="951120"/>
          </a:xfrm>
          <a:prstGeom prst="rect">
            <a:avLst/>
          </a:prstGeom>
          <a:ln w="0">
            <a:noFill/>
          </a:ln>
        </p:spPr>
      </p:pic>
      <p:pic>
        <p:nvPicPr>
          <p:cNvPr id="99" name="Таблица 26" descr=""/>
          <p:cNvPicPr/>
          <p:nvPr/>
        </p:nvPicPr>
        <p:blipFill>
          <a:blip r:embed="rId8"/>
          <a:stretch/>
        </p:blipFill>
        <p:spPr>
          <a:xfrm>
            <a:off x="463680" y="4456080"/>
            <a:ext cx="1895400" cy="951120"/>
          </a:xfrm>
          <a:prstGeom prst="rect">
            <a:avLst/>
          </a:prstGeom>
          <a:ln w="0">
            <a:noFill/>
          </a:ln>
        </p:spPr>
      </p:pic>
      <p:pic>
        <p:nvPicPr>
          <p:cNvPr id="100" name="Таблица 27" descr=""/>
          <p:cNvPicPr/>
          <p:nvPr/>
        </p:nvPicPr>
        <p:blipFill>
          <a:blip r:embed="rId9"/>
          <a:stretch/>
        </p:blipFill>
        <p:spPr>
          <a:xfrm>
            <a:off x="2212920" y="4475160"/>
            <a:ext cx="190188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Таблица 28" descr=""/>
          <p:cNvPicPr/>
          <p:nvPr/>
        </p:nvPicPr>
        <p:blipFill>
          <a:blip r:embed="rId10"/>
          <a:stretch/>
        </p:blipFill>
        <p:spPr>
          <a:xfrm>
            <a:off x="3968640" y="4456080"/>
            <a:ext cx="2889360" cy="951120"/>
          </a:xfrm>
          <a:prstGeom prst="rect">
            <a:avLst/>
          </a:prstGeom>
          <a:ln w="0">
            <a:noFill/>
          </a:ln>
        </p:spPr>
      </p:pic>
      <p:pic>
        <p:nvPicPr>
          <p:cNvPr id="102" name="Таблица 29" descr=""/>
          <p:cNvPicPr/>
          <p:nvPr/>
        </p:nvPicPr>
        <p:blipFill>
          <a:blip r:embed="rId11"/>
          <a:stretch/>
        </p:blipFill>
        <p:spPr>
          <a:xfrm>
            <a:off x="2212920" y="4456080"/>
            <a:ext cx="1901880" cy="951120"/>
          </a:xfrm>
          <a:prstGeom prst="rect">
            <a:avLst/>
          </a:prstGeom>
          <a:ln w="0">
            <a:noFill/>
          </a:ln>
        </p:spPr>
      </p:pic>
      <p:pic>
        <p:nvPicPr>
          <p:cNvPr id="103" name="Таблица 30" descr=""/>
          <p:cNvPicPr/>
          <p:nvPr/>
        </p:nvPicPr>
        <p:blipFill>
          <a:blip r:embed="rId12"/>
          <a:stretch/>
        </p:blipFill>
        <p:spPr>
          <a:xfrm>
            <a:off x="463680" y="5237280"/>
            <a:ext cx="1895400" cy="931680"/>
          </a:xfrm>
          <a:prstGeom prst="rect">
            <a:avLst/>
          </a:prstGeom>
          <a:ln w="0">
            <a:noFill/>
          </a:ln>
        </p:spPr>
      </p:pic>
      <p:pic>
        <p:nvPicPr>
          <p:cNvPr id="104" name="Таблица 31" descr=""/>
          <p:cNvPicPr/>
          <p:nvPr/>
        </p:nvPicPr>
        <p:blipFill>
          <a:blip r:embed="rId13"/>
          <a:stretch/>
        </p:blipFill>
        <p:spPr>
          <a:xfrm>
            <a:off x="2212920" y="5218200"/>
            <a:ext cx="1901880" cy="950760"/>
          </a:xfrm>
          <a:prstGeom prst="rect">
            <a:avLst/>
          </a:prstGeom>
          <a:ln w="0">
            <a:noFill/>
          </a:ln>
        </p:spPr>
      </p:pic>
      <p:pic>
        <p:nvPicPr>
          <p:cNvPr id="105" name="Таблица 32" descr=""/>
          <p:cNvPicPr/>
          <p:nvPr/>
        </p:nvPicPr>
        <p:blipFill>
          <a:blip r:embed="rId14"/>
          <a:stretch/>
        </p:blipFill>
        <p:spPr>
          <a:xfrm>
            <a:off x="3968640" y="5218200"/>
            <a:ext cx="2889360" cy="950760"/>
          </a:xfrm>
          <a:prstGeom prst="rect">
            <a:avLst/>
          </a:prstGeom>
          <a:ln w="0">
            <a:noFill/>
          </a:ln>
        </p:spPr>
      </p:pic>
      <p:pic>
        <p:nvPicPr>
          <p:cNvPr id="106" name="Таблица 33" descr=""/>
          <p:cNvPicPr/>
          <p:nvPr/>
        </p:nvPicPr>
        <p:blipFill>
          <a:blip r:embed="rId15"/>
          <a:stretch/>
        </p:blipFill>
        <p:spPr>
          <a:xfrm>
            <a:off x="463680" y="5218200"/>
            <a:ext cx="1895400" cy="95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533520" y="2590920"/>
          <a:ext cx="6248160" cy="517320"/>
        </p:xfrm>
        <a:graphic>
          <a:graphicData uri="http://schemas.openxmlformats.org/drawingml/2006/table">
            <a:tbl>
              <a:tblPr/>
              <a:tblGrid>
                <a:gridCol w="62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полните таблицу  (устн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86000" y="6172200"/>
          <a:ext cx="6248520" cy="51768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Проверка: клик мышкой по</a:t>
                      </a:r>
                      <a:r>
                        <a:rPr b="1" lang="ru-RU" sz="2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858000" y="3962520"/>
          <a:ext cx="2286000" cy="3715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ямая за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858000" y="4724280"/>
          <a:ext cx="2133720" cy="371520"/>
        </p:xfrm>
        <a:graphic>
          <a:graphicData uri="http://schemas.openxmlformats.org/drawingml/2006/table">
            <a:tbl>
              <a:tblPr/>
              <a:tblGrid>
                <a:gridCol w="2133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ратная за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81680" y="5486400"/>
          <a:ext cx="2362320" cy="37152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ратная за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ff"/>
                    </a:solidFill>
                  </a:tcPr>
                </a:tc>
              </a:tr>
            </a:tbl>
          </a:graphicData>
        </a:graphic>
      </p:graphicFrame>
      <p:sp>
        <p:nvSpPr>
          <p:cNvPr id="112" name="Заголовок 1"/>
          <p:cNvSpPr/>
          <p:nvPr/>
        </p:nvSpPr>
        <p:spPr>
          <a:xfrm>
            <a:off x="3886200" y="457200"/>
            <a:ext cx="190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∙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 Ивановна</dc:creator>
  <dc:description/>
  <dc:language>en-US</dc:language>
  <cp:lastModifiedBy>User</cp:lastModifiedBy>
  <dcterms:modified xsi:type="dcterms:W3CDTF">2016-11-24T11:22:46Z</dcterms:modified>
  <cp:revision>8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