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360" y="81252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1152E-FFFD-4A9D-BE3E-54E86B39D7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AC260-A71E-40D0-BE6F-7E3F9058FD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185C9-6CC8-408F-9F5D-B3A6B88F98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E048A-3275-49A3-A43B-0D595012F4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455D1-F6BA-47A2-AC0A-4448C812F8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0BB-58BB-413F-A850-F063363B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0F8-9F6F-432B-B301-C5D123BA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A8F-3ACB-486B-A904-4B75B34E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895-2F2D-44F6-9C1D-54576BE6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DCD4-28EC-41F9-83CC-266C8F1D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B6AA-A065-43B3-B0E6-6AA162BF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171D-B530-4A5A-9F7A-7FB33AFD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AF8D-EF07-49D0-99C7-9EE829FD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0EE9-09EF-4AA1-9A02-3A74062E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4EE2-6A7D-4ED7-AFE8-BF020F0F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E200-A937-42A5-A0C8-BDC6028A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25F-CC9A-42B5-9C87-7E0B8065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73C2-2AF7-49DA-A1DD-8FCB1EA0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AE90-0C15-4C71-B253-2746EDB8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DBDE-8AA4-4BD8-8436-52DF52DF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6479-E8E3-4937-ABDB-78FACA98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764B-7E28-4ACA-AC6A-F4F6B691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CCDD3-531D-4EAF-BCD7-C79F48EC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BB6B7-964F-4627-ABDE-D18DEF96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58CC7-2568-4B34-8040-401082C8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6B27-7359-43D9-B4A0-B97B31B4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F63E0-B95D-4F88-896F-B739403A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523-D636-4890-80CB-72BD243E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E8F9D-FD45-4D64-AA23-7444366F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0AEFF-16FA-4F60-9DCF-1C8F6EB0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62E11-9116-4760-AD60-10EA9DB9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EB9E3-952E-437A-87E9-E3C0473F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79B3-8798-4AC4-890C-A2C18EFF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92682-9486-4A18-B0B9-D01302CE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01383-EB11-443C-94E3-6A26FF16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9CFE8-0D47-49BF-AD87-F491678B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4D9DC-A817-41E0-9A52-236FE3F9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5CE5A-EAFB-4CEF-BCFE-0897B4B7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76C-2D6F-44ED-9773-2B908834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69475-81DE-4903-90D2-FF32D76E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2CA00-200C-4562-8F35-F5E3D23D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1DE70-CDB3-44E3-A691-5F4AB6C7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D55F5-6C62-4127-A42F-6DB2415A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143DD-40B1-4F5B-88B9-7620C393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37277-4A74-4CE9-A948-1B84923A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688CA-A24F-426A-AA3E-B991EEA4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16D67-EFE5-4419-B51D-880BF071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DA720-33AF-43AC-9403-E499B30D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1D2-43B8-4B55-80B2-5AF1D4F7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DDE-2AFE-403E-A3EE-1D825D1A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C221-1D8B-41AB-85D3-650B81DE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9BB-6AD3-424C-91E7-A82A18BC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88D4-E2AA-47F2-A360-A770430F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3F1015-77E2-4AB9-9B68-393DB5C950B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7480" cy="7562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0960" y="-284040"/>
            <a:ext cx="9064800" cy="26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0800" y="1869840"/>
            <a:ext cx="843264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66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628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roid Sans Fallback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0C0833-C75C-4F55-AC41-E63E729E93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76000" y="-1314360"/>
            <a:ext cx="53247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8866080" cy="817416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roid Sans Fallback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FD5084-4BB4-46FA-A317-A5F4F6DAE61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roid Sans Fallback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58E892-9933-4022-B744-71F3CA9073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0600" y="351000"/>
            <a:ext cx="3344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55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жанр, в котором написана эта картина?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автор этой карт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rcRect l="3003" t="1252" r="1921" b="7425"/>
          <a:stretch/>
        </p:blipFill>
        <p:spPr>
          <a:xfrm>
            <a:off x="4183200" y="208080"/>
            <a:ext cx="5572080" cy="71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0360" y="-2494440"/>
            <a:ext cx="9144000" cy="63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авьте пропущенн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152360"/>
            <a:ext cx="9936000" cy="879192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 объемны и трехмерны (у них есть …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и …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а их изображения плоски и двухмерны (у них лишь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и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пространства и объем предметов на картине, условны, иллюзорны благодаря особому способу изображения – 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несколько законов и правил линейной перспективы- изображение линии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, точки …, изображение нескольких …, ближе- б…, дальше — м…, б… — ниже, д…- вы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несколько правил воздушной перспектив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даленные от наблюдателя объекты выглядят …, …, … или … в зависимости от плотности воздуха между наблюдателем и объек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ветлые объекты вдали …, а темные — 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лижние предметы изображаются … и … цветами, дальние — плоско и … по т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 Контуры ближних объектов нужно делать …, а дальних — 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02920" y="351000"/>
            <a:ext cx="9069480" cy="69292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 объемны и трехмерны (у них ес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, высота и шир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а их изображения плоски и двухмерны (у них лиш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сота и шир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пространства и объем предметов на картине, условны, иллюзорны благодаря особому способу изображения 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несколько законов и правил линейной перспективы- изображение лини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ризонта, точки схода, изображение нескольких планов, ближе- больше, дальше — меньше, ближе — ниже, дальше- в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несколько правил воздушной перспективы: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ема урок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Правила линейной и воздушной перспектив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2920" y="194616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правил линейной и воздушной перспекти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и применить в практической работе правила линейной и воздушной  перспекти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33440" y="3220920"/>
            <a:ext cx="94140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флексия: продолжите фразу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годня я узнал…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ыло трудно…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научился…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смог…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ня удивило…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не захотелось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2920" y="208080"/>
            <a:ext cx="907092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 объемны и трехмерны (у них есть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, высота и шир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а их изображения плоски и двухмерны (у них лишь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сота и шир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пространства и объем предметов на картине, условны, иллюзорны благодаря особому способу изображения 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несколько законов и правил линейной перспективы- изображение линии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ризонта, точки схода, изображение нескольких планов, ближе- больше, дальше — меньше, ближе — ниже, дальше- вы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несколько правил воздушной перспектив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даленные от наблюдателя объекты выглядят голубыми, синими, фиолетовыми или беловатыми в зависимости от плотности воздуха между наблюдателем и объек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ветлые объекты вдали темнеют, а темные — светле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лижние предметы изображаются объемно и разными цветами, дальние — плоско и одинаковыми по т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 Контуры ближних объектов нужно делать резкими, а дальних — мягк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2:18:23Z</dcterms:created>
  <dc:creator/>
  <dc:description/>
  <dc:language>en-US</dc:language>
  <cp:lastModifiedBy>Admin</cp:lastModifiedBy>
  <dcterms:modified xsi:type="dcterms:W3CDTF">2014-02-26T10:25:54Z</dcterms:modified>
  <cp:revision>5</cp:revision>
  <dc:subject/>
  <dc:title>Тема урока  «Правила линейной и воздушной перспективы»</dc:title>
</cp:coreProperties>
</file>