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70CD-2F15-4120-BBCE-CDDD04F74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2402-5C8B-4163-9A36-88E101E78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E110-524E-46D8-90EF-6F7111883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4E4E-BDA3-481E-A87F-50853A1AB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3FD76-25C4-4374-ABE7-FE349A8CF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08E1F-498B-4E34-A6AC-58E12D0F7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595EF-36C1-421E-969A-9AD5825DE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F0A76-7B91-46B7-9B54-E49CC76F4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295DF-68B6-4E0A-96A5-CA43F5768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3C08D-DC66-46B7-B5FE-9A074EA8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FB802-ADA1-4487-B245-B552B0BB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DD99-50B8-4773-937B-74E216C3E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56FC4-82E1-44F9-AAA3-D1A773A0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2395B-D275-4A71-9A18-9ABBC1A9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0E291-D41E-4A00-9E32-73452FD7D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723DE-BF0F-4CFE-BE41-CA82C9588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4F952-5B6D-4D73-91CD-37430B28F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91F9-C34B-4632-86C5-632380B5F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ED76-FC7D-456F-9960-FF9B2B245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23AE-61D5-4BBA-A6FD-9BFB28A40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40E4-FB86-48CB-9D08-7F30D1546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D653-5E32-4836-85B0-58EA887F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2D3B-D2E1-4D68-AC1D-15032D75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3BE4-F65C-475A-AD32-D2A774ED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D5C6E-55F1-4295-A3C5-12BC5EBEEF8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37C07-0EE5-42AC-979C-7C24F0E27C9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19280" y="1004760"/>
            <a:ext cx="5159160" cy="32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Кукла-оберег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Веснянка.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419640" y="5229000"/>
            <a:ext cx="546552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Проект ученицы 5 класса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Мочалкиной Екатерины.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Руководитель: Гвоздева Ирина Борисовна.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71640" y="476280"/>
            <a:ext cx="2743200" cy="18478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95280" y="2781360"/>
            <a:ext cx="2435400" cy="324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Кукла-оберег  Веснянка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Цель проекта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собрать материал о куклах Веснянках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Задачи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узнать историю возникновения этой куклы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узнать для чего она служил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148360" y="2349360"/>
            <a:ext cx="316692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Назначение куклы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 глубокой древности у кукол было другое предназначение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она была человеку защитой от болезней, несчастий, злых духов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кукла берегла человека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кукла была помощнице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 быту наших предк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724360" y="4292640"/>
            <a:ext cx="2911680" cy="218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оявление Веснянки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В древности славяне встречали Новый год в первый весенний день – 1 марта, который по новому стилю приходится на 14 март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После принятия христианства этот праздник стал отмечаться, как день преподобной мученицы Евдокии, которая взяла на себя образ Весны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076720" y="2205000"/>
            <a:ext cx="324036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Изготовление Веснянок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39640" y="2492280"/>
            <a:ext cx="2202120" cy="3311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132000" y="2637000"/>
            <a:ext cx="2700360" cy="3600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372360" y="2852640"/>
            <a:ext cx="223524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140360" y="3357720"/>
            <a:ext cx="4673520" cy="33066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11280" y="476280"/>
            <a:ext cx="4325760" cy="3244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476360" y="3933720"/>
            <a:ext cx="1604880" cy="26877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6012000" y="620640"/>
            <a:ext cx="1895400" cy="2527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6T19:24:42Z</dcterms:created>
  <dc:creator>V</dc:creator>
  <dc:description/>
  <dc:language>en-US</dc:language>
  <cp:lastModifiedBy>V</cp:lastModifiedBy>
  <dcterms:modified xsi:type="dcterms:W3CDTF">2014-05-26T19:38:19Z</dcterms:modified>
  <cp:revision>2</cp:revision>
  <dc:subject/>
  <dc:title>Кукла-оберег Веснянка.</dc:title>
</cp:coreProperties>
</file>