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DE95B-0AF5-4202-A55E-090AC809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BC141-B19D-413D-940F-F4157A72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76DE3-DC20-4A46-A0A8-2AAD54A9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7AF51-D630-4871-9020-454C4642C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0DC2-FAE8-4FB1-ADF7-CCAB83ED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284B-BE52-4F9D-AC80-E6A62BE5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7618-7635-402B-AC5C-51FCAC42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965B-1756-4976-8861-3C0E7B97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1B5C-8A43-4733-A124-E455A52C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A2C4-68DA-4144-BDAA-F195648D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8490-5694-45F2-935F-5B5B24DD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D93BE-3051-44C0-A870-D9683417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4F7A-D639-4AD3-A17B-7D30EFE3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1A04-7D5E-4662-B6C6-E114613F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1279-9F3B-4D8B-9D5B-D9419AE3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5A71-696D-4609-B4F9-7B71A948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032C-D5D3-4479-8DE7-8211A297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2CBA8-2DFC-4CCD-A886-34D8C4B8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CDADC-F06C-4574-9529-3FBB81F3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FC831-013F-4C07-B426-976CF9DD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F05C8-E14B-4F1F-B1D9-2D4E7251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08AAA-D964-42E7-9E05-FCEA8D94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3DAA8-1F4C-462C-A504-0782869E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264F3-5D82-4BA4-861B-4A062ACC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9979-01A6-4B1E-9FE9-4DAC5F2BC1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1C77-D319-4F2D-BED8-6512F875F0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5e5ff"/>
                </a:solidFill>
                <a:latin typeface="Garamond"/>
              </a:rPr>
              <a:t>Масленица.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276720" y="4723920"/>
            <a:ext cx="5400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ект ученицы 5 класс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Яровицыной Валентин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уководитель: Гвоздева Ирина Борисовн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9640" y="3068640"/>
            <a:ext cx="2933640" cy="2200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24360" y="2276640"/>
            <a:ext cx="226548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Масленица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Цель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знакомство с традициями русского народа.</a:t>
            </a:r>
            <a:br>
              <a:rPr sz="3200"/>
            </a:b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Задачи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было решено выяснить: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Когда отмечают этот праздник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 Чему он посвящён?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Почему так называется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. Чем интересен этот праздник?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516720" y="333360"/>
            <a:ext cx="22654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Когда отмечают праздник Масленица, чему он посвящен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оводился в конце зим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асленица - последний зимний праздник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н посвящён прощанию с зимой и встрече весны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284720" y="3933720"/>
            <a:ext cx="3024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чему он так называется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.В основе появления слова «масленица» лежит традиция выпекания блинов. Люди пытались привлечь милость солнышка, уговорить его побольше греть замерзшую землю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. Название «Масленица» возникло потому, что на этой неделе по православному обычаю мясо уже исключается из пищи, а молочные продукты еще можно употреблять — вот и пекут блины маслены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716360" y="1557360"/>
            <a:ext cx="380844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 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549000"/>
            <a:ext cx="783432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3" marL="1568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Выводы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Масленица - последний зимний праздник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Посвящён прощанию с зимой и встрече весны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. Праздник назван так потому, что всю неделю пекут блины на масле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. Масленицу празднуют всю неделю, причём каждый день имеет своё название, которое говорит, что в этот день полагается дела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20000" y="260280"/>
            <a:ext cx="17971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Масленица в деревне Иванково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708360" y="148428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16000" y="386064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867280" y="42210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611280" y="170028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6443640" y="141300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3492360" y="472428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18:56:20Z</dcterms:created>
  <dc:creator>V</dc:creator>
  <dc:description/>
  <dc:language>en-US</dc:language>
  <cp:lastModifiedBy>V</cp:lastModifiedBy>
  <dcterms:modified xsi:type="dcterms:W3CDTF">2014-05-26T20:36:13Z</dcterms:modified>
  <cp:revision>3</cp:revision>
  <dc:subject/>
  <dc:title>Масленица.</dc:title>
</cp:coreProperties>
</file>