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FD3-42C7-4468-8A2C-1B5923CD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535-6727-49EB-B0E1-EF8A70A4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4EAA-EC75-4043-B7C5-705401C3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4EEE-CE5F-4791-983E-0920D95A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680D-8319-4FF8-9DC4-085F4E42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182A-42BB-49FA-9855-1197814F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8934-A7B9-40F0-A457-097DF2E0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9DFB-162B-4CC7-A069-800FDD25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94EF-DBAC-4F72-85D6-9879EE57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AECF-589A-47DF-8086-C5E6D378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F232-0107-4944-8C58-FC4E14E7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AEA2-FBD5-4A6E-ACE5-C0E3ADAF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4C8C-70FC-4F28-956A-83AE6588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FED5-BC63-4868-B83C-2A78A52E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13DB-0F7E-4838-8D71-8B62175E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7576-83B9-4740-9122-196407F3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A2F3-CB5D-47BA-A2C9-01C15527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AAF9-58A8-49F3-80A8-F04FA958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7583-93DB-4375-95E8-86A95E3B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D35-67E1-4A43-912C-662C8E76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555F-4169-4915-9EB4-2FC5C644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2B05-4C63-4296-A51E-4095ECF2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135-B7BF-43C9-A3F2-23CD0FF1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00D7-1803-4548-B171-173CFFA9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CB3E-7000-4367-A620-88EE73D914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6227-6587-46E5-80D0-D573989E69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Массивы в 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ascal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мерные масс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Пример 3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Дан массив целых чисел.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Записать его наоборот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14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massiv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c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 a:array[1..10] of integer;{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ани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ив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,n: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rsc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andomize; {генератор случайных чисел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rite('Введите число элементов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(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i:=1 to n do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[i]:=random(10); {заполнение массива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(a[i]:4); {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ив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riteln;{переход на след. строку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 i:=n downto 1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write(a[i]:4);   {вывод массива наоборот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ead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02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Пример 4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пределить, сколько пар одинаковых соседних элементов содержится в массиве.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78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massi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c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 a:array[1..10] of integer;{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исан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и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,n,s: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clrsc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randomize; {генератор случайных чисел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rite('Введите число элементов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read(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i:=1 to n do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[i]:=random(10); {заполнение массива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(a[i]:4); {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и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riteln;{переход на след. строку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or i:=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f a[i]=a[i+1] then s:=s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write('s=',s);   {вывод массива наоборот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read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Пример 5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В одномерном массиве заменить все нулевые элементы на 10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89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1983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massiv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3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c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3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 a:array[1..10] of integer;{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ани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ив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3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,n,s: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3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3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lrsc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3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andomize; {генератор случайных чисел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3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rite('Введите число элементов');   read(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3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i:=1 to n do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3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[i]:=random(10); {заполнение массива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3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(a[i]:4); {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ив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3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end;      writeln;{переход на след. строку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3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 i:=1 to n do 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3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f a[i]=0 then a[i]:=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3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write(a[i]:4);   {вывод массива наоборот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3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3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ead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3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амостоятельно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дномерном массиве найти разность наибольшего и наименьшего элем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н одномерный массив. Вывести на экран числа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дномерном массиве найти произведение ненулевых элем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амостоятельная работа. Генератор случайных чисе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79280" y="1719360"/>
            <a:ext cx="43164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ть и напечатать одномерный массив случайными числами от 0 до 15 и вывести на экран те из них, которые больше 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ть и напечатать одномерный массив случайными числами от 0 до 10 и вывести на экран те из них, которые больше последнего элемента масс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ть и напечатать одномерный массив случайными числами от 0 до 9. Если есть в нем элементы, равные 3, то заменить их последующими чис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48320" y="1719360"/>
            <a:ext cx="43164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ть и напечатать одномерный массив случайными числами от 0 до 12 и вывести на экран те из них, которые меньше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ть и напечатать одномерный массив случайными числами от 0 до 15 и вывести на экран те из них, которые больше первого элемента масс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ть и напечатать одномерный массив случайными числами от 0 до 9. Если есть в нем элементы, равные 8, то заменить их первыми чис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ешение задач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й уровень сл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 одномерный массив целых чис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ести все нечетные элементы масс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сумму нечетных элементов этого масс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количество нечетных элементов масс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номер наименьшего элемента в масси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ой уровень сл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 одномерный массив целых чисел. Найти сумму четных элементов массива, имеющих нечетные индек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 одномерный массив размерностью N, заполненный случайными числами. Каждый третий элемент массива возвести в квадрат, если элемент отрицательный. Измененный массив вывести на э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9"/>
          <p:cNvSpPr/>
          <p:nvPr/>
        </p:nvSpPr>
        <p:spPr>
          <a:xfrm>
            <a:off x="1170000" y="5718240"/>
            <a:ext cx="6804000" cy="642600"/>
          </a:xfrm>
          <a:prstGeom prst="rect">
            <a:avLst/>
          </a:prstGeom>
          <a:gradFill rotWithShape="0">
            <a:gsLst>
              <a:gs pos="0">
                <a:srgbClr val="447676"/>
              </a:gs>
              <a:gs pos="100000">
                <a:srgbClr val="5a9d9d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Элементы, заданные, например, на интервале [-19, 26],  описываются так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[i]:= random(46)-1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умерные масс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Массивы в 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ascal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ассивы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вумерные массив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вумерный массив (матрица) – это прямоугольная таблица, состоящая из нескольких строк и столбц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1   3   -2   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4   0    5   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9  -8    3   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635280" y="3429000"/>
            <a:ext cx="5184720" cy="20646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ение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[i,j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 стро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 столб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68360" y="5661000"/>
            <a:ext cx="5256000" cy="82548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a:array[1..n</a:t>
            </a: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, 1..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m] of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Задание элементов двумерного масси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27280" y="1719360"/>
            <a:ext cx="6059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iz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(‘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дите число стро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ln(‘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дите число столбц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ln(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:=1 to n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:=1 to m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[i,j]:=random(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:=1 to n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:=1 to m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(a[i,j]: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l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419640" y="475920"/>
            <a:ext cx="5867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uveli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c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:array[1..10,1..10] of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n,m,i,j: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clrsc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randomi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writeln('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ите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');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ead(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riteln('Введите число столбцов')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:=1 to n do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[i,2]:=a[i,2]*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:=1 to n do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j:=1 to m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(a[i,j]: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rite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adkey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395280" y="981000"/>
            <a:ext cx="2448000" cy="215712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вумерном массиве увеличить элементы 2 столбца в 2 раза и напечатать полученный масс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 rot="10800000">
            <a:off x="1258560" y="4076640"/>
            <a:ext cx="1800360" cy="1224000"/>
          </a:xfrm>
          <a:prstGeom prst="wedgeRoundRectCallout">
            <a:avLst>
              <a:gd name="adj1" fmla="val -87217"/>
              <a:gd name="adj2" fmla="val 103175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ткрываем только по стро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ассив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ин из самых распространенных способов организации данных – табличны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блицы могут состоять из 1 строки (линейная)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3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из нескольких строк и столбцов (прямоугольная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12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13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22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23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32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33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3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Масси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совокупность данных одного тип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276360" y="549360"/>
            <a:ext cx="6491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c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:array[1..10,1..10] of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n,m,i,j,s: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clrscr;     randomi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writeln('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ите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');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ead(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riteln('Введите число столбцов'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:=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j:=1 to m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[i,j]:=random(1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:=1 to n do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j:=1 to m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(a[i,j]: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;       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:=1 to n do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j:=1 to m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[i,j]&gt;a[1,1] then s:=s+a[i,j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;     writeln;     write('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',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ead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95280" y="981000"/>
            <a:ext cx="2448000" cy="215712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сумму всех элементов двумерного массива, больших первого элемента этого масс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Главная и побочная диагонал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трица, у которой число строк равно числу столбцов, называется </a:t>
            </a: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квадратн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и у нее имеются главная и побочная диагона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3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3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4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4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4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44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09480" y="3886200"/>
            <a:ext cx="3048120" cy="19051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4114800" y="4952880"/>
            <a:ext cx="1828800" cy="685800"/>
          </a:xfrm>
          <a:prstGeom prst="wedgeRoundRectCallout">
            <a:avLst>
              <a:gd name="adj1" fmla="val -61370"/>
              <a:gd name="adj2" fmla="val 68750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диагон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4038480" y="3086280"/>
            <a:ext cx="1828800" cy="685800"/>
          </a:xfrm>
          <a:prstGeom prst="wedgeRoundRectCallout">
            <a:avLst>
              <a:gd name="adj1" fmla="val -56944"/>
              <a:gd name="adj2" fmla="val 77314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о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гон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 flipH="1">
            <a:off x="533520" y="3886200"/>
            <a:ext cx="3200400" cy="1828800"/>
          </a:xfrm>
          <a:prstGeom prst="line">
            <a:avLst/>
          </a:prstGeom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6172200" y="5105520"/>
            <a:ext cx="16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3657600" y="6248520"/>
            <a:ext cx="33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вадратная матриц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80880" y="2125800"/>
            <a:ext cx="3733920" cy="28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3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3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4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4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4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4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4038480" y="3733920"/>
            <a:ext cx="1828800" cy="685800"/>
          </a:xfrm>
          <a:prstGeom prst="wedgeRoundRectCallout">
            <a:avLst>
              <a:gd name="adj1" fmla="val -61370"/>
              <a:gd name="adj2" fmla="val 68750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диагон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962520" y="1447920"/>
            <a:ext cx="1828800" cy="685800"/>
          </a:xfrm>
          <a:prstGeom prst="wedgeRoundRectCallout">
            <a:avLst>
              <a:gd name="adj1" fmla="val -56944"/>
              <a:gd name="adj2" fmla="val 77314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о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гон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6"/>
          <p:cNvSpPr/>
          <p:nvPr/>
        </p:nvSpPr>
        <p:spPr>
          <a:xfrm flipH="1">
            <a:off x="609480" y="2362320"/>
            <a:ext cx="2895840" cy="2209680"/>
          </a:xfrm>
          <a:prstGeom prst="line">
            <a:avLst/>
          </a:prstGeom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533520" y="2324160"/>
            <a:ext cx="3047760" cy="2247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6248520" y="1447920"/>
            <a:ext cx="2514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= n-j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&gt; n-j+1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 ди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-j+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 ди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6248520" y="3733920"/>
            <a:ext cx="2514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&gt; 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 ди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 ди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3851280" y="304920"/>
            <a:ext cx="4572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zadacha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:array[1..4,1..4] of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,j,n,s: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:=4;s: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i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:=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j:=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[i,j]:=random(1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:=1 to n-1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j:=1 to n-i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:=s*a[i,j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:=1 to n do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j:=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(a[i,j]: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('s=',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95280" y="981000"/>
            <a:ext cx="2952720" cy="18828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произведение элементов, расположенных над побочной диагональю квадратной матр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означаются массивы латинскими буквами, строки нумеруются сверху вниз, столбцы слева направо. Элемент, расположенных на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том месте линейной таблицы обозначается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 i 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 flipH="1" rot="10800000">
            <a:off x="5580000" y="4220640"/>
            <a:ext cx="1656000" cy="863640"/>
          </a:xfrm>
          <a:prstGeom prst="wedgeEllipseCallout">
            <a:avLst>
              <a:gd name="adj1" fmla="val -45111"/>
              <a:gd name="adj2" fmla="val 7003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3563640" y="4220640"/>
            <a:ext cx="1655640" cy="863640"/>
            <a:chOff x="3563640" y="4220640"/>
            <a:chExt cx="1655640" cy="863640"/>
          </a:xfrm>
        </p:grpSpPr>
        <p:sp>
          <p:nvSpPr>
            <p:cNvPr id="156" name="AutoShape 4"/>
            <p:cNvSpPr/>
            <p:nvPr/>
          </p:nvSpPr>
          <p:spPr>
            <a:xfrm rot="10800000">
              <a:off x="3563640" y="4220640"/>
              <a:ext cx="1655640" cy="863640"/>
            </a:xfrm>
            <a:prstGeom prst="wedgeEllipseCallout">
              <a:avLst>
                <a:gd name="adj1" fmla="val -45208"/>
                <a:gd name="adj2" fmla="val 70032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"/>
            <p:cNvSpPr/>
            <p:nvPr/>
          </p:nvSpPr>
          <p:spPr>
            <a:xfrm>
              <a:off x="3780000" y="4292640"/>
              <a:ext cx="12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звание масси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7"/>
          <p:cNvSpPr/>
          <p:nvPr/>
        </p:nvSpPr>
        <p:spPr>
          <a:xfrm>
            <a:off x="5867280" y="429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ер эле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ассивы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дномерные массив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жде чем использовать массив в программе необходимо зарезервировать в памяти место под него. Для этого используется зарезервированное слово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array </a:t>
            </a: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сси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a:array[1..n] of integer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 rot="10800000">
            <a:off x="178920" y="5229000"/>
            <a:ext cx="3311640" cy="863640"/>
          </a:xfrm>
          <a:prstGeom prst="wedgeEllipseCallout">
            <a:avLst>
              <a:gd name="adj1" fmla="val -45449"/>
              <a:gd name="adj2" fmla="val 7003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79280" y="544500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элементов  масс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ассивы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дномерные массив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лгоритм решения задач с использованием массивов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исание масси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олнение масси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вод массива (распечатк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полнение условий 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вод результ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особы задания 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лементов массив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вод с клавиатур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(‘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ведите число элементо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(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i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(a[i]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l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i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(a[i]:4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3203640" y="3429000"/>
            <a:ext cx="216000" cy="936720"/>
          </a:xfrm>
          <a:custGeom>
            <a:avLst/>
            <a:gdLst>
              <a:gd name="textAreaLeft" fmla="*/ 0 w 216000"/>
              <a:gd name="textAreaRight" fmla="*/ 7812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3203640" y="5084640"/>
            <a:ext cx="216000" cy="936720"/>
          </a:xfrm>
          <a:custGeom>
            <a:avLst/>
            <a:gdLst>
              <a:gd name="textAreaLeft" fmla="*/ 0 w 216000"/>
              <a:gd name="textAreaRight" fmla="*/ 7812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3635280" y="3213000"/>
            <a:ext cx="3097440" cy="576360"/>
          </a:xfrm>
          <a:prstGeom prst="wedgeEllipseCallout">
            <a:avLst>
              <a:gd name="adj1" fmla="val -58148"/>
              <a:gd name="adj2" fmla="val 8333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3851280" y="4941720"/>
            <a:ext cx="3025800" cy="576360"/>
          </a:xfrm>
          <a:prstGeom prst="wedgeEllipseCallout">
            <a:avLst>
              <a:gd name="adj1" fmla="val -64740"/>
              <a:gd name="adj2" fmla="val 670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851280" y="32446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од элементов масс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995640" y="5013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 элементов масс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особы задания 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лементов массив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С помощью генератора случайных чисе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iz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(‘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ведите число элементо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(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i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[i]:=random(10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(a[i]:4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588000" y="2997360"/>
            <a:ext cx="358920" cy="1873080"/>
          </a:xfrm>
          <a:custGeom>
            <a:avLst/>
            <a:gdLst>
              <a:gd name="textAreaLeft" fmla="*/ 0 w 358920"/>
              <a:gd name="textAreaRight" fmla="*/ 129600 w 35892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3203640" y="5084640"/>
            <a:ext cx="216000" cy="432000"/>
          </a:xfrm>
          <a:custGeom>
            <a:avLst/>
            <a:gdLst>
              <a:gd name="textAreaLeft" fmla="*/ 0 w 216000"/>
              <a:gd name="textAreaRight" fmla="*/ 78120 w 21600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7308720" y="2781360"/>
            <a:ext cx="1511280" cy="1800000"/>
          </a:xfrm>
          <a:prstGeom prst="wedgeEllipseCallout">
            <a:avLst>
              <a:gd name="adj1" fmla="val -78046"/>
              <a:gd name="adj2" fmla="val 23546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3851280" y="4941720"/>
            <a:ext cx="3025800" cy="576360"/>
          </a:xfrm>
          <a:prstGeom prst="wedgeEllipseCallout">
            <a:avLst>
              <a:gd name="adj1" fmla="val -63638"/>
              <a:gd name="adj2" fmla="val 1556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7524720" y="2997360"/>
            <a:ext cx="2879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3995640" y="5013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 элементов масс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Пример 1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В одномерном массиве посчитать сумму положительных элементов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62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rogram su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uses c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 a:array[1..10] of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,n,s: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lrsc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rite('Введите число элементов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(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i:=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(a[i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i:=1 to n do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(a[i]: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f a[i]&gt;0 then s:=s+a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otoxy(5,1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rite('s= ',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eadke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Пример 2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В одномерном массиве вычислить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минимальный элемент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340000" y="1341000"/>
            <a:ext cx="62755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minimu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c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 a:array[1..10] of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,n,min: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lrscr;    write('Введите число элементов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(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i:=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(a[i])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write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i:=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(a[i]: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in:=a[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 i:=2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f a[i]&lt;min then min:=a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rite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rite('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Мин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элемент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= ',mi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eadke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8:00:53Z</dcterms:created>
  <dc:creator>Оля</dc:creator>
  <dc:description/>
  <dc:language>en-US</dc:language>
  <cp:lastModifiedBy>user</cp:lastModifiedBy>
  <dcterms:modified xsi:type="dcterms:W3CDTF">2017-03-31T17:55:16Z</dcterms:modified>
  <cp:revision>24</cp:revision>
  <dc:subject/>
  <dc:title>Массивы</dc:title>
</cp:coreProperties>
</file>