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B75-3776-4E05-8A58-A176980D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F8E-B280-44D1-A7FE-79C8FD86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CEF-4AAD-48F9-B8F4-470B3E25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D6A-59B1-4D61-AFD9-FB4DB2EC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9033-BA70-40AC-AAF6-77086C20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06D5-D0F4-4ACD-BFD8-B6B4AF78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C4F6-4A27-4BC5-BB44-5BC64B96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A706-8DEB-475A-A70A-38974C35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6541-A16E-442F-B5F5-AE3EAA7A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5CFD-0F4E-480D-A1B0-3513F394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D37D-CE26-4C8B-9C24-0CBEB92D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8CA-74E3-49EF-B6B2-FEEE3A8D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0C53-7A37-4001-BAC8-AAE2E8C7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6393-ECF9-4277-B241-901D46C1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CB3D-E9AD-426B-8095-EC8E1568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2700-7A79-4ACA-B4C8-1F976ABB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AA91-24E6-4B00-A388-903C25BB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99C-A854-4326-A91A-2CB0B5FA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EE1-B411-4614-B33C-3BB03700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2A9-E795-410A-896A-7FBEBBFC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AFB-36E8-4B32-B7B6-44BE26C7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EC2-07FF-4A95-876D-E1E0D39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95C-D207-486E-ABEF-BF8F4E9B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A30-A6D6-4DF5-8183-3D5A3B68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08AA-211C-4115-AFAA-345C102BC6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35C8-9475-4DB5-99D6-8EC137398C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b2b2b2"/>
                </a:solidFill>
                <a:latin typeface="Arial"/>
              </a:rPr>
              <a:t>Моя семья!</a:t>
            </a:r>
            <a:endParaRPr b="0" lang="en-US" sz="117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4967280" cy="4176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Я ОЧЕНЬ ЛЮБЛЮ СВОЮ</a:t>
            </a:r>
            <a:br>
              <a:rPr sz="6000"/>
            </a:b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СЕМЬЮ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77080" y="4148280"/>
            <a:ext cx="1758960" cy="17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Древо моей семь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692280"/>
            <a:ext cx="1800000" cy="129672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едуш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ысенко Ив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Матве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692280"/>
            <a:ext cx="1800360" cy="129672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Бабуш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ысенко Татья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авл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692280"/>
            <a:ext cx="1800000" cy="129672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едуш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айков Никола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рхип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59640" y="692280"/>
            <a:ext cx="1800000" cy="129672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Бабуш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айкова Тама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Станислав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21000"/>
            <a:ext cx="1800360" cy="129708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очь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ысенко Еле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ван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2421000"/>
            <a:ext cx="1800000" cy="129708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Сын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ысенко Серг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ван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21000"/>
            <a:ext cx="1800360" cy="129708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Сын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ысенко Олег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ван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43640" y="2421000"/>
            <a:ext cx="1800360" cy="129708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очь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айкова Натал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2421000"/>
            <a:ext cx="1800000" cy="1297080"/>
          </a:xfrm>
          <a:prstGeom prst="verticalScrol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Сын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айков Оле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икола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4437000"/>
            <a:ext cx="1800360" cy="129708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очь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ысенко Юл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Серге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27640" y="4437000"/>
            <a:ext cx="1800360" cy="129708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Сын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ысенко Иван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Серге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1341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341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133720"/>
            <a:ext cx="309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989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2133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2133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2133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56360" y="1341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6720" y="134136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213372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133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01080" y="2133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4005360"/>
            <a:ext cx="547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0108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4005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20000" y="4005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-360" y="4365360"/>
            <a:ext cx="889308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я Семья состоит из 4 челове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1)Па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2)М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3)Я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4)Б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47880" y="549360"/>
            <a:ext cx="364824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ой папа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гей Иванович родился 28.05.197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моего папы есть любимое дело-охота. Охотой он занимается больше 15 лет, ему это очень нравится! Ещё папа очень любит рыбалку! Он очень удачлив в этом деле! Мой папа самый лучший, дорогой для меня. И я очень люблю и уважаю своего папу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5280" y="5805360"/>
            <a:ext cx="1152360" cy="50328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оя мама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талья Николаевна родилась 09.12.1974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я мама на данный момент ни где не работает, она домохозяйка. Моя мама любит выращивать комнатные цветы, её самые любимые - фиалки. Самым любимым увлечение моей мамы это дизайн нашей квартиры, у неё это здорово получается. Маму я очень люблю и уважаю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19640" y="1557360"/>
            <a:ext cx="3398760" cy="4530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00" y="5950080"/>
            <a:ext cx="1152360" cy="50328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па и Мама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672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и родители вмести живут 16 лет. Они любят и уважают друг друга…А так же воспитывают меня и брата…У нас очень дружная и крепкая семья!!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Я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Юлия Сергеевна родилась 08.05.1993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учусь в школе №12, в 10 «Б» классе. Я увлекаюсь спортом как уже 1 год и 4 месяца. В спорте я делаю для себя большие успехи… Например: мне нет равных в прыжках в высоту, мой личный рекорд 1 метр 45 санти-ов, хотя мой рост 1,55санти-ов. Я думаю, как и в спорте, так и в будущем ещё всё в вперед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6093000"/>
            <a:ext cx="1152360" cy="50292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67320 h 502920"/>
              <a:gd name="textAreaBottom" fmla="*/ 43560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ой бра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ван Сергеевич родился 06.02.2002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й братик ходит пока в детский сад…В следующем году пойдёт в 1-ый класс. А также он занимается спортом- плаванием. У моего брата ещё только началась жизнь, так-то у него всё ещё в впереди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5950080"/>
            <a:ext cx="1152360" cy="50328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 Семьёй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ы каждый год ездим отдыхать на море… В том году мы были в городе Севастополе. Мы там провели 2 недели нам очень понравилась!!! Планируем ездить туда каждый год. Ещё мы ездим в лес, на пляж одним словом отдыхать…Отдых в нашей семье стоит на первом мест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2351160"/>
            <a:ext cx="324036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0:19:48Z</dcterms:created>
  <dc:creator>ЮлИ к</dc:creator>
  <dc:description/>
  <dc:language>en-US</dc:language>
  <cp:lastModifiedBy>ЮлИ к</cp:lastModifiedBy>
  <dcterms:modified xsi:type="dcterms:W3CDTF">2008-10-27T18:05:11Z</dcterms:modified>
  <cp:revision>20</cp:revision>
  <dc:subject/>
  <dc:title>Моя семья! Моя семья</dc:title>
</cp:coreProperties>
</file>