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067-E901-4145-9161-FCBF2F00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11B-0434-4A24-8B5B-97637786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BA5-57DD-4ADB-A9EB-A0CDAE20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EC8-ACEA-48C4-9C11-941885DC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B72B-EC7D-4F59-AFDE-CA693410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27C-3B1A-4508-9093-012C2A7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3549-76C8-4602-B288-E2EE381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097-8E60-472C-9DAD-48934B2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F38F-B52D-481E-98EC-CE9349FE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4293-EAF6-4E6A-91AD-C94E8378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314B-3E15-4937-BC34-B69E793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90B-1686-4DB2-8E26-737D7691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D1EB-0B72-42AC-9CD0-0E9D2AB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456-C8C9-4401-B1C6-F5C2C57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800-755B-4BDC-8104-996EA191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2D5D-AF9E-47A5-B767-47E0F5F4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0FD-E9C9-49F2-B873-63929848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93A-CC59-48AC-8FF9-20E45D2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1A1-7237-4366-BE3E-B1065D4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CBE-A717-4E3A-8D51-1D57FFE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456-A1C1-41D2-A30E-99FC5521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047-C07C-438E-84E0-2BCF807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F19-6E67-4320-BD9D-46595C6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B87-C029-468E-9925-4D54A5E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0FF-0EE4-44AF-B4A3-0858DBAF0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FA0-0809-44FA-AF78-61DD6D745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etskie_pesni_-_goluboy_vagon Minusovki.MpTri.Net.mp3" descr=""/>
          <p:cNvPicPr/>
          <p:nvPr/>
        </p:nvPicPr>
        <p:blipFill>
          <a:blip r:embed="rId1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00"/>
                </a:solidFill>
                <a:latin typeface="Times New Roman"/>
              </a:rPr>
              <a:t>Муниципальное дошкольное образовательное учреждение Дмитриевский детский сад Галичского муниципального района Костромской област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5" descr="5"/>
          <p:cNvPicPr/>
          <p:nvPr/>
        </p:nvPicPr>
        <p:blipFill>
          <a:blip r:embed="rId2"/>
          <a:stretch/>
        </p:blipFill>
        <p:spPr>
          <a:xfrm>
            <a:off x="3203640" y="1071720"/>
            <a:ext cx="3139920" cy="4159080"/>
          </a:xfrm>
          <a:prstGeom prst="rect">
            <a:avLst/>
          </a:prstGeom>
          <a:ln w="31680">
            <a:solidFill>
              <a:srgbClr val="3366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755640" y="5661000"/>
            <a:ext cx="7920000" cy="1008000"/>
          </a:xfrm>
          <a:prstGeom prst="rect">
            <a:avLst/>
          </a:prstGeom>
          <a:solidFill>
            <a:srgbClr val="ccec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«Я о правилах движения всем на свете расскажу!»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60836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родителям так важно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ила движенья знат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ыть примером для детишек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ила не наруш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2195640" y="1754280"/>
            <a:ext cx="6735600" cy="48258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 advTm="10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417672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мы тоже постаралис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делали газет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родителям «спасибо»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ворим за эт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4427640" y="836640"/>
            <a:ext cx="4537080" cy="503064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 advTm="10000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4292640"/>
            <a:ext cx="352908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разные по возрасту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росту и по голосу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эти обстоятельств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могут помеша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любимом детском садике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любимым воспитателем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правилах движ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больше нам узн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7" descr="Захваченный кадр 93"/>
          <p:cNvPicPr/>
          <p:nvPr/>
        </p:nvPicPr>
        <p:blipFill>
          <a:blip r:embed="rId1"/>
          <a:stretch/>
        </p:blipFill>
        <p:spPr>
          <a:xfrm>
            <a:off x="1476360" y="189000"/>
            <a:ext cx="7416720" cy="41702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10"/>
          <p:cNvPicPr/>
          <p:nvPr/>
        </p:nvPicPr>
        <p:blipFill>
          <a:blip r:embed="rId1"/>
          <a:stretch/>
        </p:blipFill>
        <p:spPr>
          <a:xfrm>
            <a:off x="4427640" y="476280"/>
            <a:ext cx="4406760" cy="564048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6443640" y="150012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11280" y="2997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 садика пойдем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школу мы учиться.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ё, чему учили нас,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чень пригодится!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Захваченный кадр 100"/>
          <p:cNvPicPr/>
          <p:nvPr/>
        </p:nvPicPr>
        <p:blipFill>
          <a:blip r:embed="rId1"/>
          <a:stretch/>
        </p:blipFill>
        <p:spPr>
          <a:xfrm>
            <a:off x="1476360" y="2687760"/>
            <a:ext cx="6981840" cy="39272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3996000" cy="22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большой наш детский са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немного в нём ребят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чень разных, самых дружных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детский сад ходить нам нужн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я того, чтоб здесь играт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, конечно же, узнать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ё о правилах движень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жных, нужных - без сомнения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287964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 играем в уголк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Изображение 021"/>
          <p:cNvPicPr/>
          <p:nvPr/>
        </p:nvPicPr>
        <p:blipFill>
          <a:blip r:embed="rId1"/>
          <a:stretch/>
        </p:blipFill>
        <p:spPr>
          <a:xfrm>
            <a:off x="4427640" y="260280"/>
            <a:ext cx="4371840" cy="327672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175" name="Picture 7" descr="DSC00504"/>
          <p:cNvPicPr/>
          <p:nvPr/>
        </p:nvPicPr>
        <p:blipFill>
          <a:blip r:embed="rId2"/>
          <a:stretch/>
        </p:blipFill>
        <p:spPr>
          <a:xfrm>
            <a:off x="826920" y="2924280"/>
            <a:ext cx="4608720" cy="34560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 advTm="10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DSC00602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57540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43280" y="907920"/>
            <a:ext cx="3600360" cy="21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десь у нас - дорога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машины едут в ряд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не очень много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водители должн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ыть всегда внимательны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шеходов пропустить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жно обязательн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4797000"/>
            <a:ext cx="417672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десь мы знаки изучаем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уже неплохо знае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ем быстро их назват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ё о знаках рассказ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" descr="Захваченный кадр 94"/>
          <p:cNvPicPr/>
          <p:nvPr/>
        </p:nvPicPr>
        <p:blipFill>
          <a:blip r:embed="rId1"/>
          <a:stretch/>
        </p:blipFill>
        <p:spPr>
          <a:xfrm>
            <a:off x="1403280" y="476280"/>
            <a:ext cx="7274160" cy="4383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439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-то раз решили в садик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нести велосипед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строить здесь катанье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ести соревновань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SDC10713"/>
          <p:cNvPicPr/>
          <p:nvPr/>
        </p:nvPicPr>
        <p:blipFill>
          <a:blip r:embed="rId1"/>
          <a:stretch/>
        </p:blipFill>
        <p:spPr>
          <a:xfrm>
            <a:off x="2411280" y="1736640"/>
            <a:ext cx="6553440" cy="492624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 advTm="10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5373360"/>
            <a:ext cx="460836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ы нам придти к победе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жно на велосипеде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ного выполнить заданий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азать свое стар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SDC10717"/>
          <p:cNvPicPr/>
          <p:nvPr/>
        </p:nvPicPr>
        <p:blipFill>
          <a:blip r:embed="rId1"/>
          <a:stretch/>
        </p:blipFill>
        <p:spPr>
          <a:xfrm>
            <a:off x="1979640" y="189000"/>
            <a:ext cx="6985080" cy="497664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 advTm="10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DSC00568"/>
          <p:cNvPicPr/>
          <p:nvPr/>
        </p:nvPicPr>
        <p:blipFill>
          <a:blip r:embed="rId1"/>
          <a:stretch/>
        </p:blipFill>
        <p:spPr>
          <a:xfrm>
            <a:off x="2987640" y="260280"/>
            <a:ext cx="5870520" cy="59025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35640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бедителям – награды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и постараться над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стоять на пьедестал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медали получи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, поверьте – это сложн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нужно заслужить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960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п мы в гости пригласили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сегодня попросил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месте с нами поиграт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дороге рассказ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фото (35)"/>
          <p:cNvPicPr/>
          <p:nvPr/>
        </p:nvPicPr>
        <p:blipFill>
          <a:blip r:embed="rId1"/>
          <a:stretch/>
        </p:blipFill>
        <p:spPr>
          <a:xfrm>
            <a:off x="1000080" y="1714680"/>
            <a:ext cx="6624720" cy="496548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sp>
        <p:nvSpPr>
          <p:cNvPr id="189" name="Rectangle 5"/>
          <p:cNvSpPr/>
          <p:nvPr/>
        </p:nvSpPr>
        <p:spPr>
          <a:xfrm>
            <a:off x="4572000" y="404640"/>
            <a:ext cx="388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пы ездят на машине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ила все знают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, конечно, никогда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не нарушают.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21:45Z</dcterms:created>
  <dc:creator>Admin</dc:creator>
  <dc:description/>
  <dc:language>en-US</dc:language>
  <cp:lastModifiedBy>Customer</cp:lastModifiedBy>
  <dcterms:modified xsi:type="dcterms:W3CDTF">2018-01-25T18:44:34Z</dcterms:modified>
  <cp:revision>28</cp:revision>
  <dc:subject/>
  <dc:title>Слайд 1</dc:title>
</cp:coreProperties>
</file>