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19A-FB22-4327-8B87-D06A1AAA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39B-5120-47FB-940C-C7A18E3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83F-271F-4732-943F-E03DE7D3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635-9E34-411C-BFC9-3613876D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B06-EDD3-4DE3-B305-8007BDE5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433-AFC3-4BD3-83CF-1A19FE8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2E2-9570-4F31-9598-564B488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20A-505D-4623-8101-843074C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6AC-0924-4DF7-9F3D-E97533BB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CE4-2E30-4944-BCDF-E84932F5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4FE-FE31-4110-9DA6-3153E99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3ED-9AFA-4A94-9342-56D46CB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6970-3C3A-4B03-B0DC-B7BC0560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рок окружающего мира в 3 класс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14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лезнева В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айди лишнее и объясни сво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 а п о р о т н и к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 в о й н ы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 р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 в е т к о в ы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 д о р о с л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9549 1.45236E-006 L 0.37882 -0.26434 E">
                                      <p:cBhvr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корень и какую роль он играет в жизни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обе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ист называют органом питания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бывают лис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способ размножения называют вегетатив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йди ошибки в таб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гетативное раз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53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множение сем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енд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ы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ьтурные растения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сравнивать культурные и дикорастущие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имать их роль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одить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362320"/>
            <a:ext cx="3733560" cy="1295280"/>
          </a:xfrm>
          <a:custGeom>
            <a:avLst/>
            <a:gdLst>
              <a:gd name="textAreaLeft" fmla="*/ 83880 w 3733560"/>
              <a:gd name="textAreaRight" fmla="*/ 3649680 w 37335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62249" h="21600">
                <a:moveTo>
                  <a:pt x="0" y="0"/>
                </a:moveTo>
                <a:lnTo>
                  <a:pt x="62249" y="0"/>
                </a:lnTo>
                <a:lnTo>
                  <a:pt x="62249" y="21600"/>
                </a:lnTo>
                <a:lnTo>
                  <a:pt x="0" y="21600"/>
                </a:lnTo>
                <a:close/>
              </a:path>
              <a:path fill="lightenLess" w="62249" h="21600">
                <a:moveTo>
                  <a:pt x="0" y="0"/>
                </a:moveTo>
                <a:lnTo>
                  <a:pt x="62249" y="0"/>
                </a:lnTo>
                <a:lnTo>
                  <a:pt x="60849" y="1400"/>
                </a:lnTo>
                <a:lnTo>
                  <a:pt x="1400" y="1400"/>
                </a:lnTo>
                <a:close/>
              </a:path>
              <a:path fill="darken" w="62249" h="21600">
                <a:moveTo>
                  <a:pt x="62249" y="0"/>
                </a:moveTo>
                <a:lnTo>
                  <a:pt x="62249" y="21600"/>
                </a:lnTo>
                <a:lnTo>
                  <a:pt x="60849" y="20200"/>
                </a:lnTo>
                <a:lnTo>
                  <a:pt x="60849" y="1400"/>
                </a:lnTo>
                <a:close/>
              </a:path>
              <a:path fill="darkenLess" w="62249" h="21600">
                <a:moveTo>
                  <a:pt x="6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49" y="20200"/>
                </a:lnTo>
                <a:close/>
              </a:path>
              <a:path fill="lighten" w="6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ЕМЛЕДЕ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3886200"/>
            <a:ext cx="685800" cy="8380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19160" y="3886200"/>
            <a:ext cx="609480" cy="7621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819160" y="1447560"/>
            <a:ext cx="685800" cy="6858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334120" y="1371240"/>
            <a:ext cx="609480" cy="7621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914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6483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ГОРО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7242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УГО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2T11:44:09Z</dcterms:created>
  <dc:creator>Samsung</dc:creator>
  <dc:description/>
  <dc:language>en-US</dc:language>
  <cp:lastModifiedBy>Samsung</cp:lastModifiedBy>
  <dcterms:modified xsi:type="dcterms:W3CDTF">2016-11-12T14:06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