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781-F547-4F88-A1E7-E8429459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A97-D1A9-4AB2-9B52-77D2D464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2C1-06AE-44A4-9BFB-420FE873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3D1-0142-4F38-A181-A55458DE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834-363D-4CC7-9181-1398C818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1C0-25DC-4DA1-A58C-59C49D0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34C-2D29-4F5C-99D1-7F98B661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288-978B-4F40-B61C-12C68F32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22B-3EA5-47DA-9F63-9B4FEC1B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B1B-C22B-4889-83D1-46C3E3AF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E14-B55C-47B1-9E98-A12F03E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609-A382-4D44-B21D-550D7B1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malves\AppData\Local\Microsoft\Windows\Temporary Internet Files\Content.IE5\54I5HWCN\MCj04415980000[1].png"/>
          <p:cNvPicPr/>
          <p:nvPr/>
        </p:nvPicPr>
        <p:blipFill>
          <a:blip r:embed="rId2"/>
          <a:srcRect l="0" t="0" r="1234" b="0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237-1844-4BA5-8C3F-9CCAE9DFE33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 юридическа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042920" y="260280"/>
            <a:ext cx="59040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933480" y="1030320"/>
            <a:ext cx="6759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ково твое деяние,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аково и воздаяни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группа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 смысл понятия «юридическая ответственность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группа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ть определение термина «юридическая ответственность». В чем она выражаетс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иды юридической ответственност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олов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дминистратив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сциплинар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ериальна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ажданск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 каких видах юридической ответственности идет речь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вид ответственности был установлен судом. Иного порядка ее установления, кроме судебного, законом не предусмотрен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 за данный проступок была установлена органами ГАИ, наложившими на нарушителя штраф в размере трех минимальных окладов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 каких видах юридической ответственности идет речь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вид ответственности всегда имеет имущественных характер. На этот раз суд потребовал возмещения нанесенного материального и морального ущерба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 за данное правонарушение состояла в увольнении работника, его совершившего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сятиклассник Сидоров завязал драку в коридоре школы, в ходе которой было разбито большое окно, и один из его одноклассников поранил лицо осколками стекл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Как вы думаете, что может грозить Сидорову за это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зминка. Вставьте в афоризмы подходящие по смыслу слова и объясните их значе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1. “Настоящая … бывает только личной. Человек краснеет один.” </a:t>
            </a:r>
            <a:r>
              <a:rPr b="0" i="1" lang="ru-RU" sz="2400" spc="-1" strike="noStrike">
                <a:solidFill>
                  <a:srgbClr val="262626"/>
                </a:solidFill>
                <a:latin typeface="Calibri"/>
              </a:rPr>
              <a:t>Ф. Исканде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2. “Мы с удовольствием слушаем тех, кто говорит нам о наших …, но не любим, чтобы нам напоминали о наших … .” </a:t>
            </a:r>
            <a:r>
              <a:rPr b="0" i="1" lang="ru-RU" sz="2400" spc="-1" strike="noStrike">
                <a:solidFill>
                  <a:srgbClr val="262626"/>
                </a:solidFill>
                <a:latin typeface="Calibri"/>
              </a:rPr>
              <a:t>Э.Бор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3. “Истинное равенство граждан состоит в том, чтобы все одинаково были подчинены …”</a:t>
            </a:r>
            <a:r>
              <a:rPr b="0" i="1" lang="ru-RU" sz="2400" spc="-1" strike="noStrike">
                <a:solidFill>
                  <a:srgbClr val="262626"/>
                </a:solidFill>
                <a:latin typeface="Calibri"/>
              </a:rPr>
              <a:t>Ж.Деламбе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4. “Корень слова “…” объясняет его смысл – способность отвечать, отзываться, действовать.”</a:t>
            </a:r>
            <a:r>
              <a:rPr b="0" i="1" lang="ru-RU" sz="2400" spc="-1" strike="noStrike">
                <a:solidFill>
                  <a:srgbClr val="262626"/>
                </a:solidFill>
                <a:latin typeface="Calibri"/>
              </a:rPr>
              <a:t>П.Коэль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libri"/>
              </a:rPr>
              <a:t>Слова-подсказки: права, обязанности, ответственность, зако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читайте отрывок из сказки Леонида Филатова «про Федота –стрельца удалого молодца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морох-потешник: Зовет царь стрельца, удалого молодца. Еще не дал задание, а уже сердит заранее. Руками стучит, ногами стучит, очами вращает- в общем , стращает. Уж так ему и охота извести Федота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арь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обудь к утру ковер-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тый золотом  узор!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ое дело,-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бись, а будь добер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 на нем была видна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 карте, вся стран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найдешь чаво хочу,-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башку укорочу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дам тебя с рассветом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 в лапы палач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убъекты (участники) правоотношен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ин Иванов, 2. фонд помощи бездомным животным, 3. иностранный турист, 4. лицо без гражданства, 5.общеобразовательная школа, 6 контора по продаже недвижимо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е лица            Юридические лиц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ы________            __________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ссмотрим случай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сятиклассник Сидоров завязал драку в коридоре школы, в ходе которой было разбито большое окно, и один из его одноклассников поранил лицо осколками стекл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Как вы думаете, что может грозить Сидорову за это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онарушения и юридическая ответственность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ывать виды правонаруш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ывать отличительные признаки преступл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ывать возраст частичной и полной уголовной ответствен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ывать виды юридической ответственно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ризнаки правонаруш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противоправнос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дея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) причинение вре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) наличие вин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ВИН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сторожность             Умысе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6" name="Прямая со стрелкой 3"/>
          <p:cNvCxnSpPr/>
          <p:nvPr/>
        </p:nvCxnSpPr>
        <p:spPr>
          <a:xfrm flipH="1">
            <a:off x="1571040" y="4285080"/>
            <a:ext cx="21438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5"/>
          <p:cNvCxnSpPr/>
          <p:nvPr/>
        </p:nvCxnSpPr>
        <p:spPr>
          <a:xfrm>
            <a:off x="3786120" y="4286160"/>
            <a:ext cx="2286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ределите, какое из нижеприведенных понятий не является  признаком правонарушения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) опасное повед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) опасные мыс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) нарушение норм пра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) причинение вре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авонарушен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 виновно совершенное антиобщественное  противоправное деяни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зовите вид правонарушения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жа денег из бан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реждение дере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вета на челове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ийство челове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грабление прохожего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техники безопасност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 попытался угнать самолет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 совершил прогул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вушка похитила чужого ребен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жное сообщение об акте терроризм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итие  спиртных напитков в общественном мест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ход дороги на красный свет светофор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2:41:23Z</dcterms:created>
  <dc:creator>1</dc:creator>
  <dc:description/>
  <dc:language>en-US</dc:language>
  <cp:lastModifiedBy>Customer</cp:lastModifiedBy>
  <dcterms:modified xsi:type="dcterms:W3CDTF">2013-12-08T15:56:48Z</dcterms:modified>
  <cp:revision>23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2491049</vt:lpwstr>
  </property>
</Properties>
</file>