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B112-08FC-4888-889A-C7799864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003-51C8-499B-814B-61E1FD8C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98B-65D0-43F2-8BD7-DA17F422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650-2DBA-4EC9-8F63-CF6329F2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EA09-B152-4E20-A7D5-69638F4C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DFA9-2215-459E-95B6-C02028D8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C860-0554-480A-8715-2A852D6E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F666-7BB6-4052-B769-3535F002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857-1E80-42DB-AFC4-E93146C7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3620-C485-46DC-8E14-F7D73A74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E115-4E09-407B-A9EE-9F955C9D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D3C7-1F8C-4CB2-AE1E-1674CD53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0F99-DF6F-410D-9B32-EA95E690EC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photosfine.files.wordpress.com/2012/04/shutterstock-of-natural-shares-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ый 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71680" y="1000080"/>
          <a:ext cx="8072280" cy="5432400"/>
        </p:xfrm>
        <a:graphic>
          <a:graphicData uri="http://schemas.openxmlformats.org/drawingml/2006/table">
            <a:tbl>
              <a:tblPr/>
              <a:tblGrid>
                <a:gridCol w="2000160"/>
                <a:gridCol w="6072120"/>
              </a:tblGrid>
              <a:tr h="28116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свидания, лет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«Мой любимый дождик» -рисование пальч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альчиковая игра «Дожди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амомассаж рук грецким орехом.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Игры с семеч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й дом, мой город, моя стр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альчиковая игра» Моя сем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Игра с фасол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гра «В городах людей не мал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«Домик для мишки»-рисуем на ман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ж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алчиковая гимнастика «Квасим капуст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Морковка-раскрась по образц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пр. «Помоги Золушке-рассортируй фасол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Игра «Что растет в огороде»-чудесный мешоче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ки ос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альч. игра «Вышла осень погулять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амомассаж с помощью шише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.Аппликация из пластилина «Гроздья рябин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168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й 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Упр. «Маленький конструктор» -выкладывание животных из геометр. фигу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Упр. «Коготки и лапки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пр. «Домашние животные» - найти в сухом бассейне фигурки животных на ощуп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Игра с массажным мячиком «Бежит ежик по дорожке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photosfine.files.wordpress.com/2012/04/shutterstock-of-natural-shares-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357120" y="817560"/>
          <a:ext cx="8429760" cy="6134040"/>
        </p:xfrm>
        <a:graphic>
          <a:graphicData uri="http://schemas.openxmlformats.org/drawingml/2006/table">
            <a:tbl>
              <a:tblPr/>
              <a:tblGrid>
                <a:gridCol w="1497240"/>
                <a:gridCol w="6932520"/>
              </a:tblGrid>
              <a:tr h="981000"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альч. игра «У меня есть голов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Выкладывание человека с помощью гороха на пластилиновой основ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амомассаж гранеными карандаш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Игра «Это ручка-правая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одная культура и тради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«Собери бусы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«Птичьи следы» рисование на ман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«Украсим платье Марусе»- раскрашивание платья карандашами, вырисовывание уз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Самомассаж косточками фрук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ш бы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Игра «Собери сервиз» - чудесный мешоче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Пальчиковая гимн. «Посуд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пр. «Ловкие ручки» -подобрать крышечки к баноч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«Конфеты к чаю» -из бумаги сжимаем комочки и складываем в вазочку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ж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альч. игра «Я здороваюсь везд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Аппликация из крученных салфеток «Цветок для друг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Игры со шнуров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Подбор ленточек разной длины, ширины по цвет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Упр. «Транспорт»-выложить рисунок сцетными палоч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Упр.»Чей кораблик»-лабирин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амомассаж мячиками (ежикам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Игра с пуговиц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ей-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Упр. «Топой-хлопа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амомассаж бусин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Игры с застеж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Игры с фасоль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Прямоугольник 7"/>
          <p:cNvSpPr/>
          <p:nvPr/>
        </p:nvSpPr>
        <p:spPr>
          <a:xfrm>
            <a:off x="1357200" y="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ый 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photosfine.files.wordpress.com/2012/04/shutterstock-of-natural-shares-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1357200" y="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ый 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785880"/>
          <a:ext cx="8286840" cy="5397480"/>
        </p:xfrm>
        <a:graphic>
          <a:graphicData uri="http://schemas.openxmlformats.org/drawingml/2006/table">
            <a:tbl>
              <a:tblPr/>
              <a:tblGrid>
                <a:gridCol w="2468520"/>
                <a:gridCol w="5818320"/>
              </a:tblGrid>
              <a:tr h="12243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как готовится к зи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Оригами «Птички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П/и  «Зай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пр.»Ежики на прогулке»-делаем колючки для ежиков (прищеп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Аппликация «Угостим белочку орешками»-техника обрывания бумаг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ствуй, зимушка-зи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альч. игра «Снег ложится на дом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Пальч. гимн. «Снежный ко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«Собери снежинку»- выкладывание узора счетными палоч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«Снегопад»-рисование пластилин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3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 масте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Упр. «Ткань на новое платье» -работа с лоскутками разной факту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Аппликация «Снеговик» -способом обры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«Мы строители»- строим из строительного материала гараж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Игры с конструктор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3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калейдоско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«Украсим елочку бусами»-рисование пальчи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.Пальчиковая гимнастика «Елоч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Игра «Чудесный мешочек»-определить на ощупь резиновые игруш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Самомассаж еловой веточк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калейдоско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«Наряжаем елку» -рисуем пластилином елочные игруш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«В лесу родилась елочка» - обводка трафарета елки, штрихов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«Выложи по образцу» - выкладывание фигу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Пальч. игра «Здравствуй, Дедушка Мороз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s://photosfine.files.wordpress.com/2012/04/shutterstock-of-natural-shares-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285840" y="1071720"/>
          <a:ext cx="8572320" cy="4662360"/>
        </p:xfrm>
        <a:graphic>
          <a:graphicData uri="http://schemas.openxmlformats.org/drawingml/2006/table">
            <a:tbl>
              <a:tblPr/>
              <a:tblGrid>
                <a:gridCol w="2554200"/>
                <a:gridCol w="6018120"/>
              </a:tblGrid>
              <a:tr h="98100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стях у сказ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альчик. театр «Колоб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Аппликация «Колобок»- способом обры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Игра со шнуровк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Рисование на ман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ик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альч. игра «Здравствуй, солнце золото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Аппликация «Красивая салфет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амомоссаж мяч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Упр. «Погуляем»-ходить 2 пальцами по столу в разном темп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я сем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альч. игра «Моя сем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П/и «Строим дом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«Собери красивый букет»-шнуров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Самомассаж граненным карандаш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бука безопас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/и «Это звери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Лабиринт «Какая лампа включен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Раскрась рисунок, не выходя за контур «Утюг», «Телевизор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Игры с мозаикой «Дорога для машин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ши защи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альч. гимн. «Бойцы-молодц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Фигурки из счетных палочек «Танк», «Звезды», Флажок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пр.»Орешки» с грецкими орех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Прямоугольник 4"/>
          <p:cNvSpPr/>
          <p:nvPr/>
        </p:nvSpPr>
        <p:spPr>
          <a:xfrm>
            <a:off x="1357200" y="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ый 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photosfine.files.wordpress.com/2012/04/shutterstock-of-natural-shares-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1357200" y="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ый 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71680" y="857160"/>
          <a:ext cx="8143560" cy="5153040"/>
        </p:xfrm>
        <a:graphic>
          <a:graphicData uri="http://schemas.openxmlformats.org/drawingml/2006/table">
            <a:tbl>
              <a:tblPr/>
              <a:tblGrid>
                <a:gridCol w="2425680"/>
                <a:gridCol w="5717880"/>
              </a:tblGrid>
              <a:tr h="1227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енькие исследов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Игра «Чудесный мешочек»- разделение предметов на мягкие и тверд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Игра с магнитным конструктор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Д/и «Домик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Игра «Цветная водичка» - работа с пипеткой. Смешивание крас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/и «Подарок мам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«Бусы для мамы» -нанизывание бус  на лент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Пальч. игра «Мамочка хорошая ,мамочка любимая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Самомассаж косточками фруктов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ом правит добр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Рисование пальчиками «Платочек для друг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Упр. «Солнечный денек» -делаем солнышко с помощью прищеп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Рисование на манке «Домик для Мишутки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Упр.»Похлопаем» -хлопаем тихо, громко, в разном темп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ь здоровыми хот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амомассаж камуш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Игра-массаж «Вот игра у нас ка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пр. «Арбуз» -нарисовать побольше черных зернышек –семя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Лепка «Овощи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на шагает по план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альч. игра «К нам весна шагае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Д/и «Собери буке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«Заштрихуй тучку по образцу»-штрихов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Пальч. игра «Букет цвето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s://photosfine.files.wordpress.com/2012/04/shutterstock-of-natural-shares-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1357200" y="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ый 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28800" y="1220760"/>
          <a:ext cx="7643880" cy="4172040"/>
        </p:xfrm>
        <a:graphic>
          <a:graphicData uri="http://schemas.openxmlformats.org/drawingml/2006/table">
            <a:tbl>
              <a:tblPr/>
              <a:tblGrid>
                <a:gridCol w="2276280"/>
                <a:gridCol w="5367600"/>
              </a:tblGrid>
              <a:tr h="73656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речаем пт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Лепка «Птич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Пальч. гимн. «Птич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Пальч. игра «Только снег растает, птицы прилетаю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р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Игры с прищепками «Разноцветный заборчи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Упр. «Веселые зверят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пр. «Животные хотят пить»-наливаем воду из стакана в тарелку ложк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Рисуем мячи на ман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м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«Ракета в космосе»-выкладывание из гороха на пластилиновой основ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«Звездное небо»-рисование на ман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«Звезда» -выкладывание из счетных палоче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Массаж рук с помощью грецкого оре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шебница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Упр.»Что тонет, что не тонет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Упр. Веселая пипетка»- работа с водой и пипетк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пр «Соберем кораблик»-разрезная картин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Пальч. гимн. «Весенний дожди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photosfine.files.wordpress.com/2012/04/shutterstock-of-natural-shares-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1357200" y="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ый 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42960" y="1285920"/>
          <a:ext cx="8072280" cy="4314960"/>
        </p:xfrm>
        <a:graphic>
          <a:graphicData uri="http://schemas.openxmlformats.org/drawingml/2006/table">
            <a:tbl>
              <a:tblPr/>
              <a:tblGrid>
                <a:gridCol w="2405160"/>
                <a:gridCol w="5667120"/>
              </a:tblGrid>
              <a:tr h="128268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весны и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Упр. «Весенняя полянка»-с помощью прищепок выкладывать : солнце, траву, первые цветы, деревь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«Весенний букет» аппликация с ориг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пр. «Веселые ладошки»-завязывание узелков, бант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«Чудесный мешочек»-найди цветок на ощуп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Поб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«Салют»-рисование пальчик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гры с конструктор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«Самолет летит»-игра с мозаик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Пальч. гимн. «Бравые солдаты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 прир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альч. гимн. «Пчела», «Червячки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Упр. «Цветочный лужок»- с помощью мозаики сделать цве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пр. «Насекомые на листочке»-шнуров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Массаж «Шла купаться черепах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36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т какие мы стали больш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Игра с пальчиками «Мы пошли гулять на луг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Рисование на манке «Это 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Д/и «Открути и закру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Игры с застеж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s://botan.cc/prepod/_bloks/pic/ygxxdoz-001.jpg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285560" y="1500120"/>
            <a:ext cx="6329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9:15:57Z</dcterms:created>
  <dc:creator>User</dc:creator>
  <dc:description/>
  <dc:language>en-US</dc:language>
  <cp:lastModifiedBy>User</cp:lastModifiedBy>
  <dcterms:modified xsi:type="dcterms:W3CDTF">2018-01-25T16:00:06Z</dcterms:modified>
  <cp:revision>35</cp:revision>
  <dc:subject/>
  <dc:title>Слайд 1</dc:title>
</cp:coreProperties>
</file>