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7B6-BC08-4E41-9430-2D80DD87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7AF-F98C-404E-B130-4496B98C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8D9-862F-47A8-A22B-C4C4E169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549-CF41-4866-BD89-6508F1D0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A0E-81A6-4048-8FE5-2E20EA1A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721-2E55-43EF-B205-3EAD73D4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A1C-B79C-4309-8640-B9472D3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F03-B9C9-4097-AE29-E902B986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5C5-787E-4124-9534-E1737346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5AD-992F-4560-AE0F-99644015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6BF-FCAB-4ECC-9979-EEE1D48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7CA-632E-4E70-967F-1963D56E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1602-8819-457A-AA2C-38C083057C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otohomka.ru/images/Jan/09/89ec4926bed997673ae63eb03b3c8732/mini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униципальное казенное дошкольное образовательное учреждение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 Детский сад №37» г.Бакал  </a:t>
            </a:r>
            <a:br>
              <a:rPr sz="4000"/>
            </a:br>
            <a:br>
              <a:rPr sz="4000"/>
            </a:b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Проект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«Веселые пальчик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2960" y="3500280"/>
            <a:ext cx="650088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(развитие мелкой моторики рук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 младшая групп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анилова Людмила Никола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nevseoboi.com.ua/uploads/posts/2010-01/1264692535_slgg_2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гимнастики с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м песенок, потешек, стихов, народных сказ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User\Desktop\Детский сад\режимные моменты  2 младш.гр\PA190005.JPG"/>
          <p:cNvPicPr/>
          <p:nvPr/>
        </p:nvPicPr>
        <p:blipFill>
          <a:blip r:embed="rId2"/>
          <a:stretch/>
        </p:blipFill>
        <p:spPr>
          <a:xfrm>
            <a:off x="4071960" y="3000240"/>
            <a:ext cx="507204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User\Desktop\Детский сад\PC180027.JPG"/>
          <p:cNvPicPr/>
          <p:nvPr/>
        </p:nvPicPr>
        <p:blipFill>
          <a:blip r:embed="rId3"/>
          <a:stretch/>
        </p:blipFill>
        <p:spPr>
          <a:xfrm>
            <a:off x="142920" y="185724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xn----8sbyahcudaxrfs.xn--p1ai/images/detskiy-sad/45.jpg"/>
          <p:cNvPicPr/>
          <p:nvPr/>
        </p:nvPicPr>
        <p:blipFill>
          <a:blip r:embed="rId1"/>
          <a:stretch/>
        </p:blipFill>
        <p:spPr>
          <a:xfrm>
            <a:off x="0" y="57240"/>
            <a:ext cx="9175680" cy="6800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User\Desktop\Детский сад\PC180023.JPG"/>
          <p:cNvPicPr/>
          <p:nvPr/>
        </p:nvPicPr>
        <p:blipFill>
          <a:blip r:embed="rId2"/>
          <a:stretch/>
        </p:blipFill>
        <p:spPr>
          <a:xfrm>
            <a:off x="4214880" y="316080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 кистей ру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User\Desktop\Детский сад\PC180019.JPG"/>
          <p:cNvPicPr/>
          <p:nvPr/>
        </p:nvPicPr>
        <p:blipFill>
          <a:blip r:embed="rId3"/>
          <a:stretch/>
        </p:blipFill>
        <p:spPr>
          <a:xfrm>
            <a:off x="142920" y="857160"/>
            <a:ext cx="44290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resp.photolandiya.ru/img-q5y5x5n4g4041406a4j4f4q52406p4c4m404n4u4/fon/sinij-fon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:\Users\User\Desktop\Детский сад\дет сад\P2150318.JPG"/>
          <p:cNvPicPr/>
          <p:nvPr/>
        </p:nvPicPr>
        <p:blipFill>
          <a:blip r:embed="rId2"/>
          <a:stretch/>
        </p:blipFill>
        <p:spPr>
          <a:xfrm>
            <a:off x="214200" y="1143000"/>
            <a:ext cx="4327560" cy="378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C:\Users\User\Desktop\Детский сад\дет сад\P2150296.JPG"/>
          <p:cNvPicPr/>
          <p:nvPr/>
        </p:nvPicPr>
        <p:blipFill>
          <a:blip r:embed="rId3"/>
          <a:stretch/>
        </p:blipFill>
        <p:spPr>
          <a:xfrm>
            <a:off x="4572000" y="2643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myslide.ru/documents_2/e334711b35b1e5213b62e289f48e9245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конструкто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User\Desktop\Детский сад\PC180054.JPG"/>
          <p:cNvPicPr/>
          <p:nvPr/>
        </p:nvPicPr>
        <p:blipFill>
          <a:blip r:embed="rId2"/>
          <a:stretch/>
        </p:blipFill>
        <p:spPr>
          <a:xfrm>
            <a:off x="214200" y="1571760"/>
            <a:ext cx="4857840" cy="336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pp.userapi.com/c841434/v841434806/29998/QOxdtvDBm8M.jpg"/>
          <p:cNvPicPr/>
          <p:nvPr/>
        </p:nvPicPr>
        <p:blipFill>
          <a:blip r:embed="rId3"/>
          <a:stretch/>
        </p:blipFill>
        <p:spPr>
          <a:xfrm>
            <a:off x="5286240" y="157176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img1.liveinternet.ru/images/attach/c/0/113/332/113332883_large_YYYYSS.jpg"/>
          <p:cNvPicPr/>
          <p:nvPr/>
        </p:nvPicPr>
        <p:blipFill>
          <a:blip r:embed="rId1"/>
          <a:stretch/>
        </p:blipFill>
        <p:spPr>
          <a:xfrm>
            <a:off x="42840" y="-19080"/>
            <a:ext cx="910116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мозай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User\Desktop\Детский сад\дет сад\P2150290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s://st.depositphotos.com/2549765/2879/v/950/depositphotos_28793049-stock-illustration-background-with-butterfli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прищеп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User\Desktop\Детский сад\дет сад\P2150315.JPG"/>
          <p:cNvPicPr/>
          <p:nvPr/>
        </p:nvPicPr>
        <p:blipFill>
          <a:blip r:embed="rId2"/>
          <a:stretch/>
        </p:blipFill>
        <p:spPr>
          <a:xfrm>
            <a:off x="0" y="1071720"/>
            <a:ext cx="4686480" cy="328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User\Desktop\Детский сад\PC180033.JPG"/>
          <p:cNvPicPr/>
          <p:nvPr/>
        </p:nvPicPr>
        <p:blipFill>
          <a:blip r:embed="rId3"/>
          <a:stretch/>
        </p:blipFill>
        <p:spPr>
          <a:xfrm>
            <a:off x="4476600" y="2071800"/>
            <a:ext cx="46674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kartinka.com/image/cache/data/117/1393701941/13937019429-max-953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 шнуровками, застеж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C:\Users\User\Desktop\Детский сад\дет сад\P2150314.JPG"/>
          <p:cNvPicPr/>
          <p:nvPr/>
        </p:nvPicPr>
        <p:blipFill>
          <a:blip r:embed="rId2"/>
          <a:stretch/>
        </p:blipFill>
        <p:spPr>
          <a:xfrm>
            <a:off x="357120" y="1285920"/>
            <a:ext cx="4071960" cy="510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C:\Users\User\Desktop\Детский сад\PC180070.JPG"/>
          <p:cNvPicPr/>
          <p:nvPr/>
        </p:nvPicPr>
        <p:blipFill>
          <a:blip r:embed="rId3"/>
          <a:stretch/>
        </p:blipFill>
        <p:spPr>
          <a:xfrm>
            <a:off x="4583160" y="1285920"/>
            <a:ext cx="4417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s://im0-tub-ru.yandex.net/i?id=39e0ec32c8f846557c0585564b664744-l&amp;n=13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User\Desktop\Детский сад\PC180065.JPG"/>
          <p:cNvPicPr/>
          <p:nvPr/>
        </p:nvPicPr>
        <p:blipFill>
          <a:blip r:embed="rId2"/>
          <a:stretch/>
        </p:blipFill>
        <p:spPr>
          <a:xfrm>
            <a:off x="4500720" y="3429000"/>
            <a:ext cx="436536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бу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C:\Users\User\Desktop\Детский сад\PC180040.JPG"/>
          <p:cNvPicPr/>
          <p:nvPr/>
        </p:nvPicPr>
        <p:blipFill>
          <a:blip r:embed="rId3"/>
          <a:stretch/>
        </p:blipFill>
        <p:spPr>
          <a:xfrm>
            <a:off x="285840" y="1071720"/>
            <a:ext cx="471492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s://im0-tub-ru.yandex.net/i?id=830cec291120c198be9fb3d6ea1c09fb-l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 счетными палоч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User\Desktop\Детский сад\PC180058.JPG"/>
          <p:cNvPicPr/>
          <p:nvPr/>
        </p:nvPicPr>
        <p:blipFill>
          <a:blip r:embed="rId2"/>
          <a:stretch/>
        </p:blipFill>
        <p:spPr>
          <a:xfrm>
            <a:off x="3929040" y="3071880"/>
            <a:ext cx="507204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Users\User\Desktop\Детский сад\PC180055.JPG"/>
          <p:cNvPicPr/>
          <p:nvPr/>
        </p:nvPicPr>
        <p:blipFill>
          <a:blip r:embed="rId3"/>
          <a:stretch/>
        </p:blipFill>
        <p:spPr>
          <a:xfrm>
            <a:off x="142920" y="1428840"/>
            <a:ext cx="4214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s://im0-tub-ru.yandex.net/i?id=43e131b6736ee104c98768e85d5d2949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214560" y="428400"/>
            <a:ext cx="79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а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User\Desktop\Детский сад\PC180004.JPG"/>
          <p:cNvPicPr/>
          <p:nvPr/>
        </p:nvPicPr>
        <p:blipFill>
          <a:blip r:embed="rId2"/>
          <a:stretch/>
        </p:blipFill>
        <p:spPr>
          <a:xfrm>
            <a:off x="1643040" y="1714680"/>
            <a:ext cx="53578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ds04.infourok.ru/uploads/ex/008d/00051d24-c502b569/3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связь общей и речевой моторики изучена и подтверждена исследованиями многих крупнейших ученых,таких,как: А.А.Леонтьев, А.А. Лурия, И.П. Пав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выше двигательная активность рук ребенка, тем лучше развивается его 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движений происходит при участии речи. Обычно ребенок ,имеющий высокий уровень развития мелкой моторики ,умеет логически мыслить ,у него достаточно развиты память,внимание,связная 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s://im0-tub-ru.yandex.net/i?id=9cbcf25bde46a8e955f3abf9ea1f3cfe&amp;n=13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8640" y="28548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круп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C:\Users\User\Desktop\Детский сад\PC180031.JPG"/>
          <p:cNvPicPr/>
          <p:nvPr/>
        </p:nvPicPr>
        <p:blipFill>
          <a:blip r:embed="rId2"/>
          <a:stretch/>
        </p:blipFill>
        <p:spPr>
          <a:xfrm>
            <a:off x="1714680" y="1285920"/>
            <a:ext cx="6375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www.zastavki.com/pictures/1920x1200/2009/Drawn_wallpapers_Sunflower_018587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85840" y="-3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на ман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C:\Users\User\Desktop\Детский сад\PC180011.JPG"/>
          <p:cNvPicPr/>
          <p:nvPr/>
        </p:nvPicPr>
        <p:blipFill>
          <a:blip r:embed="rId2"/>
          <a:stretch/>
        </p:blipFill>
        <p:spPr>
          <a:xfrm>
            <a:off x="285840" y="1214280"/>
            <a:ext cx="685800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www.tvoyrebenok.ru/images/presentation/kid/b/08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User\Desktop\Детский сад\PC180079.JPG"/>
          <p:cNvPicPr/>
          <p:nvPr/>
        </p:nvPicPr>
        <p:blipFill>
          <a:blip r:embed="rId2"/>
          <a:stretch/>
        </p:blipFill>
        <p:spPr>
          <a:xfrm>
            <a:off x="4046400" y="3357720"/>
            <a:ext cx="5097600" cy="3500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ластилин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" descr="C:\Users\User\Desktop\Детский сад\PC180045.JPG"/>
          <p:cNvPicPr/>
          <p:nvPr/>
        </p:nvPicPr>
        <p:blipFill>
          <a:blip r:embed="rId3"/>
          <a:stretch/>
        </p:blipFill>
        <p:spPr>
          <a:xfrm>
            <a:off x="0" y="785880"/>
            <a:ext cx="4857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s://photosfine.files.wordpress.com/2012/04/shutterstock-of-natural-shares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28760" y="1428840"/>
            <a:ext cx="8501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«ум на кончиках пальцев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материалов для развития мелкой мотор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изготовление с детьми «дорожек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«Развитие мелкой моторики в продукти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х деятельност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«Пальчиковые игр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«Развитие мелкой мотори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«В чем заключается влияние пальчиковой гимна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и дете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горитмика для малышей». Открытое за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s://photosfine.files.wordpress.com/2012/04/shutterstock-of-natural-shares-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я кистей и пальцев рук у детей стали более разви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ы умения делать самомассаж кистей р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развиты навыки ручной уме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лось качество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лся словарный запас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03a4/0005203b-121ef247/hello_html_m47576a8c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стоящее время, исследователи наблюдают общее моторное отставание у большинства современных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абую руку дошкольника нужно и необходимо разви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ая за своими воспитанниками,я так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лкнулась с этой проблем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okartinkah.ru/img/detskie-kartinki-dlya-fona-1809/detskie-kartinki-dlya-fona-48.png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елые пальчи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д  проекта: игровой,творче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астники: дети,воспитатели,родит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ект долгосрочный –расчитан на 1 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ds02.infourok.ru/uploads/ex/10c3/0007503a-482b64f7/hello_html_m4583d93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55436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имулирование  речевой и мыслительной деятельность ребенка через развитие мелкой мотори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million-wallpapers.com/wallpapers/3/82/472186109732041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умение выполнять движения кистями и пальцами рук по подражанию действиям педагога с речевым сопровожд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ть умение делать самомассаж кистей рук при помощи карандаша, шишек, массажных мяч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ть и совершенствовать мелкую моторику пальцев рук, двигательные умения и навыки, координацию дви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навыки ручной умел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речь, активизировать словарный запа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развитию творческих способ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avtcrtd.ucoz.ru/images/0_4a35f_a50c7ff1_or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жидаемый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мелкой моторики у детей младшего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речевых навыков у детей младше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уальное развитие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олнение предметно –развивающей сре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гащение родительского опыта в воспитании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ds03.infourok.ru/uploads/ex/11dc/00014a5b-d80e1a68/img0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ализация проекта осуществлялас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ежимных  мом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амостоятельной деятельности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вместной работе с семь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phunudep.com/wp-content/uploads/2016/01/tuyen-tap-cac-mau-hinh-nen-powerpoint-de-thuong-nhat-hinh-anh-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 по развитию мелкой мотор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15:57Z</dcterms:created>
  <dc:creator>User</dc:creator>
  <dc:description/>
  <dc:language>en-US</dc:language>
  <cp:lastModifiedBy>User</cp:lastModifiedBy>
  <dcterms:modified xsi:type="dcterms:W3CDTF">2018-01-25T15:58:07Z</dcterms:modified>
  <cp:revision>38</cp:revision>
  <dc:subject/>
  <dc:title>Слайд 1</dc:title>
</cp:coreProperties>
</file>