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D90-BF7E-4052-A860-E47F2B56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761-08F9-44D0-9D90-4BB0AB2C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A61-ABC6-430D-9478-105E5064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5CF-C09B-49CD-B46F-40B3D0B7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EC6-0907-456E-853A-CCF3D3B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39F-66C7-4A82-B528-84D8AB4E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369-6A89-4AAB-BCB1-FA8932D4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1BB-2E73-4A45-AB0F-E4C172BB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AE6-5B39-4998-A18B-8EC23AC2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DC5-D01A-40AE-AA00-E62A44E8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227-0AC9-46F9-A218-065DD526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52E-28E5-4DE6-ACA2-DD641C2D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E58F-B09B-4CA2-85C0-C40AEB50E0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3"/>
          <p:cNvSpPr/>
          <p:nvPr/>
        </p:nvSpPr>
        <p:spPr>
          <a:xfrm>
            <a:off x="571680" y="642960"/>
            <a:ext cx="692928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 и их функц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бществознания в 7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714240" y="2786040"/>
            <a:ext cx="67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976320" y="357120"/>
            <a:ext cx="4057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 острова Я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929040" y="1143000"/>
            <a:ext cx="20718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трова Яп — острова в Тихом океане. Входят в состав штата Яп Федеративных Штатов Микронез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340320" y="407880"/>
            <a:ext cx="2541600" cy="2122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42920" y="4717080"/>
            <a:ext cx="342900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тели острова Яп использовали в качестве денег огромные каменные диски диаметром до 4-х мет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E:\МОИ ДОКУМЕНТЫ (УРОКИ, ПЛАНИРОВАНИЕ, Т. Д\планы уроков по обществознанию 7 класс\на портал\Новая папка\Рисунок6.jpg"/>
          <p:cNvPicPr/>
          <p:nvPr/>
        </p:nvPicPr>
        <p:blipFill>
          <a:blip r:embed="rId2"/>
          <a:stretch/>
        </p:blipFill>
        <p:spPr>
          <a:xfrm>
            <a:off x="142920" y="1285920"/>
            <a:ext cx="3511440" cy="27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E:\МОИ ДОКУМЕНТЫ (УРОКИ, ПЛАНИРОВАНИЕ, Т. Д\планы уроков по обществознанию 7 класс\на портал\Новая папка\Рисунок7.png"/>
          <p:cNvPicPr/>
          <p:nvPr/>
        </p:nvPicPr>
        <p:blipFill>
          <a:blip r:embed="rId3"/>
          <a:stretch/>
        </p:blipFill>
        <p:spPr>
          <a:xfrm>
            <a:off x="4357800" y="3571920"/>
            <a:ext cx="3700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928800" y="1285920"/>
            <a:ext cx="32144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испанские конкистадоры завоевали Мексику, индейцы использовали для платежей какао-бобы и маленькие медные топ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732320" y="214200"/>
            <a:ext cx="3551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 индей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E:\МОИ ДОКУМЕНТЫ (УРОКИ, ПЛАНИРОВАНИЕ, Т. Д\планы уроков по обществознанию 7 класс\на портал\Новая папка\Рисунок12.jpg"/>
          <p:cNvPicPr/>
          <p:nvPr/>
        </p:nvPicPr>
        <p:blipFill>
          <a:blip r:embed="rId1"/>
          <a:stretch/>
        </p:blipFill>
        <p:spPr>
          <a:xfrm>
            <a:off x="4286160" y="1643040"/>
            <a:ext cx="4572000" cy="483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E:\МОИ ДОКУМЕНТЫ (УРОКИ, ПЛАНИРОВАНИЕ, Т. Д\планы уроков по обществознанию 7 класс\на портал\Новая папка\Рисунок11.jpg"/>
          <p:cNvPicPr/>
          <p:nvPr/>
        </p:nvPicPr>
        <p:blipFill>
          <a:blip r:embed="rId2"/>
          <a:stretch/>
        </p:blipFill>
        <p:spPr>
          <a:xfrm>
            <a:off x="500040" y="3214800"/>
            <a:ext cx="3371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2"/>
          <p:cNvSpPr/>
          <p:nvPr/>
        </p:nvSpPr>
        <p:spPr>
          <a:xfrm>
            <a:off x="6143760" y="500040"/>
            <a:ext cx="242892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у раннему свидетельству об использовании раковин каури в качестве денег в Китае около 3500 лет. Раковины каури служили деньгами в 9-18 вв. в Индии, в 17 веке в Таиланде и в 19 веке в Афр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E:\МОИ ДОКУМЕНТЫ (УРОКИ, ПЛАНИРОВАНИЕ, Т. Д\планы уроков по обществознанию 7 класс\на портал\Новая папка\Рисунок13.jpg"/>
          <p:cNvPicPr/>
          <p:nvPr/>
        </p:nvPicPr>
        <p:blipFill>
          <a:blip r:embed="rId1"/>
          <a:stretch/>
        </p:blipFill>
        <p:spPr>
          <a:xfrm>
            <a:off x="357120" y="142920"/>
            <a:ext cx="5357880" cy="433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E:\МОИ ДОКУМЕНТЫ (УРОКИ, ПЛАНИРОВАНИЕ, Т. Д\планы уроков по обществознанию 7 класс\на портал\Новая папка\Рисунок14.jpg"/>
          <p:cNvPicPr/>
          <p:nvPr/>
        </p:nvPicPr>
        <p:blipFill>
          <a:blip r:embed="rId2"/>
          <a:stretch/>
        </p:blipFill>
        <p:spPr>
          <a:xfrm>
            <a:off x="4857840" y="3786120"/>
            <a:ext cx="3752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5500440" cy="37162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6143760" y="2071800"/>
            <a:ext cx="2714400" cy="36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 год. Изобретены "цифровые деньги" - DigiCash. На основе этой технологии чуть позже были созданы смарт-карты - карточки с компьютерным чипом, на который записывается информация о количестве денег на сч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с двумя скругленными противолежащими углами 1"/>
          <p:cNvSpPr/>
          <p:nvPr/>
        </p:nvSpPr>
        <p:spPr>
          <a:xfrm>
            <a:off x="357120" y="500040"/>
            <a:ext cx="8358120" cy="6072120"/>
          </a:xfrm>
          <a:custGeom>
            <a:avLst/>
            <a:gdLst/>
            <a:ahLst/>
            <a:rect l="l" t="t" r="r" b="b"/>
            <a:pathLst>
              <a:path w="8358187" h="6072187">
                <a:moveTo>
                  <a:pt x="1012051" y="0"/>
                </a:moveTo>
                <a:lnTo>
                  <a:pt x="8358187" y="0"/>
                </a:lnTo>
                <a:lnTo>
                  <a:pt x="8358187" y="0"/>
                </a:lnTo>
                <a:lnTo>
                  <a:pt x="8358187" y="5060136"/>
                </a:lnTo>
                <a:cubicBezTo>
                  <a:pt x="8358187" y="5619076"/>
                  <a:pt x="7905076" y="6072187"/>
                  <a:pt x="7346136" y="6072187"/>
                </a:cubicBezTo>
                <a:lnTo>
                  <a:pt x="0" y="6072187"/>
                </a:lnTo>
                <a:lnTo>
                  <a:pt x="0" y="6072187"/>
                </a:lnTo>
                <a:lnTo>
                  <a:pt x="0" y="1012051"/>
                </a:lnTo>
                <a:cubicBezTo>
                  <a:pt x="0" y="453111"/>
                  <a:pt x="453111" y="0"/>
                  <a:pt x="1012051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"/>
          <p:cNvSpPr/>
          <p:nvPr/>
        </p:nvSpPr>
        <p:spPr>
          <a:xfrm>
            <a:off x="3786120" y="2928960"/>
            <a:ext cx="221472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 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214280" y="1000080"/>
            <a:ext cx="20718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ера сто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3714840" y="1000080"/>
            <a:ext cx="20714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ство обра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215040" y="1000080"/>
            <a:ext cx="20718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ство плат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6357960" y="4786200"/>
            <a:ext cx="20718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ровые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1285920" y="4786200"/>
            <a:ext cx="20718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ство нако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низ 8"/>
          <p:cNvSpPr/>
          <p:nvPr/>
        </p:nvSpPr>
        <p:spPr>
          <a:xfrm rot="10800000">
            <a:off x="4571640" y="1857240"/>
            <a:ext cx="428760" cy="9288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низ 9"/>
          <p:cNvSpPr/>
          <p:nvPr/>
        </p:nvSpPr>
        <p:spPr>
          <a:xfrm rot="13489200">
            <a:off x="6568560" y="1650600"/>
            <a:ext cx="338400" cy="17510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10"/>
          <p:cNvSpPr/>
          <p:nvPr/>
        </p:nvSpPr>
        <p:spPr>
          <a:xfrm rot="7830000">
            <a:off x="2963880" y="1607760"/>
            <a:ext cx="338400" cy="17510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11"/>
          <p:cNvSpPr/>
          <p:nvPr/>
        </p:nvSpPr>
        <p:spPr>
          <a:xfrm rot="3361200">
            <a:off x="2765520" y="3230280"/>
            <a:ext cx="338040" cy="175104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12"/>
          <p:cNvSpPr/>
          <p:nvPr/>
        </p:nvSpPr>
        <p:spPr>
          <a:xfrm rot="18111000">
            <a:off x="6663960" y="3230640"/>
            <a:ext cx="339840" cy="175248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101"/>
          <p:cNvPicPr/>
          <p:nvPr/>
        </p:nvPicPr>
        <p:blipFill>
          <a:blip r:embed="rId1"/>
          <a:stretch/>
        </p:blipFill>
        <p:spPr>
          <a:xfrm>
            <a:off x="4214880" y="4357800"/>
            <a:ext cx="1600200" cy="128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134"/>
          <p:cNvPicPr/>
          <p:nvPr/>
        </p:nvPicPr>
        <p:blipFill>
          <a:blip r:embed="rId2"/>
          <a:stretch/>
        </p:blipFill>
        <p:spPr>
          <a:xfrm>
            <a:off x="1143000" y="2500200"/>
            <a:ext cx="1523880" cy="126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033"/>
          <p:cNvPicPr/>
          <p:nvPr/>
        </p:nvPicPr>
        <p:blipFill>
          <a:blip r:embed="rId3"/>
          <a:stretch/>
        </p:blipFill>
        <p:spPr>
          <a:xfrm>
            <a:off x="6786720" y="2786040"/>
            <a:ext cx="16128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571680" y="3011760"/>
            <a:ext cx="8286480" cy="253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умизматик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т лат. «nomisma» — монета) - вспомогательная историческая дисциплина, изучающая историю монетной чеканки и денежного обращения по мон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5153400" y="285840"/>
            <a:ext cx="327888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6" descr="182"/>
          <p:cNvPicPr/>
          <p:nvPr/>
        </p:nvPicPr>
        <p:blipFill>
          <a:blip r:embed="rId1"/>
          <a:stretch/>
        </p:blipFill>
        <p:spPr>
          <a:xfrm>
            <a:off x="1785960" y="1428840"/>
            <a:ext cx="13716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5" descr="E:\МОИ ДОКУМЕНТЫ (УРОКИ, ПЛАНИРОВАНИЕ, Т. Д\планы уроков по обществознанию 7 класс\на портал\Новая папка\Рисунок8.jpg"/>
          <p:cNvPicPr/>
          <p:nvPr/>
        </p:nvPicPr>
        <p:blipFill>
          <a:blip r:embed="rId1"/>
          <a:stretch/>
        </p:blipFill>
        <p:spPr>
          <a:xfrm>
            <a:off x="285840" y="285840"/>
            <a:ext cx="5429160" cy="26794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6000840" y="142920"/>
            <a:ext cx="292896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дорогой и редкой российской монетой большинство исследователей считают так называемый "константиновский рубль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14200" y="3085920"/>
            <a:ext cx="2643480" cy="308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ерс – лицевая сторона монеты, на которой указывают номи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5"/>
          <p:cNvCxnSpPr/>
          <p:nvPr/>
        </p:nvCxnSpPr>
        <p:spPr>
          <a:xfrm flipH="1" flipV="1">
            <a:off x="2142360" y="1999440"/>
            <a:ext cx="72360" cy="10724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08" name="Rectangle 4"/>
          <p:cNvSpPr/>
          <p:nvPr/>
        </p:nvSpPr>
        <p:spPr>
          <a:xfrm>
            <a:off x="3143160" y="3088440"/>
            <a:ext cx="2643120" cy="350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верс – оборотная сторона монеты, на которой помещают герб государства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8"/>
          <p:cNvCxnSpPr/>
          <p:nvPr/>
        </p:nvCxnSpPr>
        <p:spPr>
          <a:xfrm flipH="1" flipV="1">
            <a:off x="4714560" y="2071440"/>
            <a:ext cx="72000" cy="1000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10" name="Rectangle 5"/>
          <p:cNvSpPr/>
          <p:nvPr/>
        </p:nvSpPr>
        <p:spPr>
          <a:xfrm>
            <a:off x="5929200" y="1644840"/>
            <a:ext cx="3071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 – нарицательная стоимость мо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11"/>
          <p:cNvCxnSpPr>
            <a:stCxn id="110" idx="1"/>
          </p:cNvCxnSpPr>
          <p:nvPr/>
        </p:nvCxnSpPr>
        <p:spPr>
          <a:xfrm flipH="1">
            <a:off x="4928760" y="1965960"/>
            <a:ext cx="1000800" cy="53388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sp>
        <p:nvSpPr>
          <p:cNvPr id="112" name="Rectangle 6"/>
          <p:cNvSpPr/>
          <p:nvPr/>
        </p:nvSpPr>
        <p:spPr>
          <a:xfrm>
            <a:off x="6072120" y="2787840"/>
            <a:ext cx="2714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енда – надписи на мо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15"/>
          <p:cNvCxnSpPr/>
          <p:nvPr/>
        </p:nvCxnSpPr>
        <p:spPr>
          <a:xfrm flipH="1" flipV="1">
            <a:off x="3428640" y="1999800"/>
            <a:ext cx="2643840" cy="9295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14" name="Прямая со стрелкой 17"/>
          <p:cNvCxnSpPr/>
          <p:nvPr/>
        </p:nvCxnSpPr>
        <p:spPr>
          <a:xfrm flipH="1" flipV="1">
            <a:off x="2142720" y="571320"/>
            <a:ext cx="3858480" cy="26438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115" name="Rectangle 7"/>
          <p:cNvSpPr/>
          <p:nvPr/>
        </p:nvSpPr>
        <p:spPr>
          <a:xfrm>
            <a:off x="6000840" y="3645360"/>
            <a:ext cx="271440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урт – боковая поверхность мон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20"/>
          <p:cNvCxnSpPr/>
          <p:nvPr/>
        </p:nvCxnSpPr>
        <p:spPr>
          <a:xfrm flipH="1" flipV="1">
            <a:off x="2785320" y="2214000"/>
            <a:ext cx="3143880" cy="15721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517040" y="214200"/>
            <a:ext cx="7083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м пройден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500040" y="1821960"/>
            <a:ext cx="8501040" cy="3080520"/>
          </a:xfrm>
          <a:prstGeom prst="pie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чему у человека появилась потребность в деньг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 чем преимущества и недостатки барт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чему появились металлические день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аковы основные функции дене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акую информацию может дать изучение моне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57120" y="2439000"/>
            <a:ext cx="8215560" cy="2227320"/>
          </a:xfrm>
          <a:prstGeom prst="pie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15968"/>
                </a:solidFill>
                <a:uFillTx/>
                <a:latin typeface="Times New Roman"/>
                <a:ea typeface="Calibri"/>
              </a:rPr>
              <a:t>Деньг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универсальный посредник при обмене. Они могут служить средством измерения стоимости любых товаров и услуг. С их помощью можно накапливать состояние, осуществлять платежи внутри страны и между стр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5714280" y="285840"/>
            <a:ext cx="268920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4" descr="005"/>
          <p:cNvPicPr/>
          <p:nvPr/>
        </p:nvPicPr>
        <p:blipFill>
          <a:blip r:embed="rId1"/>
          <a:stretch/>
        </p:blipFill>
        <p:spPr>
          <a:xfrm>
            <a:off x="7000920" y="5214960"/>
            <a:ext cx="14479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136600" y="285840"/>
            <a:ext cx="53197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с двумя скругленными противолежащими углами 2"/>
          <p:cNvSpPr/>
          <p:nvPr/>
        </p:nvSpPr>
        <p:spPr>
          <a:xfrm>
            <a:off x="642960" y="1714680"/>
            <a:ext cx="807228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3 учебника до раздела «Человек в истории» (с. 135-1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1-3 из рубрики «В классе и дома» (с. 14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я на темы: «Деньги на Руси», «Денежная реформа С. Ю. Витте» (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1"/>
          <p:cNvSpPr/>
          <p:nvPr/>
        </p:nvSpPr>
        <p:spPr>
          <a:xfrm>
            <a:off x="785880" y="714240"/>
            <a:ext cx="7072200" cy="4143600"/>
          </a:xfrm>
          <a:custGeom>
            <a:avLst/>
            <a:gdLst/>
            <a:ahLst/>
            <a:rect l="l" t="t" r="r" b="b"/>
            <a:pathLst>
              <a:path w="7072312" h="4143375">
                <a:moveTo>
                  <a:pt x="690576" y="0"/>
                </a:moveTo>
                <a:lnTo>
                  <a:pt x="7072312" y="0"/>
                </a:lnTo>
                <a:lnTo>
                  <a:pt x="7072312" y="0"/>
                </a:lnTo>
                <a:lnTo>
                  <a:pt x="7072312" y="3452799"/>
                </a:lnTo>
                <a:cubicBezTo>
                  <a:pt x="7072312" y="3834194"/>
                  <a:pt x="6763131" y="4143375"/>
                  <a:pt x="6381736" y="4143375"/>
                </a:cubicBezTo>
                <a:lnTo>
                  <a:pt x="0" y="4143375"/>
                </a:lnTo>
                <a:lnTo>
                  <a:pt x="0" y="4143375"/>
                </a:lnTo>
                <a:lnTo>
                  <a:pt x="0" y="690576"/>
                </a:lnTo>
                <a:cubicBezTo>
                  <a:pt x="0" y="309181"/>
                  <a:pt x="309181" y="0"/>
                  <a:pt x="690576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4bac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1285920" y="1366920"/>
            <a:ext cx="600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огатства существуют, чтобы их тратить, а траты - чтобы делать добро и этим снискать че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энсис Бэ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572000" y="3286080"/>
            <a:ext cx="1357200" cy="243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э́нсис Бэ́кон (англ. Francis Bacon), (22 января 1561—9 апреля 1626) — английский философ, историк, политический дея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E:\МОИ ДОКУМЕНТЫ (УРОКИ, ПЛАНИРОВАНИЕ, Т. Д\планы уроков по обществознанию 7 класс\на портал\Новая папка\Рисунок1.jpg"/>
          <p:cNvPicPr/>
          <p:nvPr/>
        </p:nvPicPr>
        <p:blipFill>
          <a:blip r:embed="rId1"/>
          <a:stretch/>
        </p:blipFill>
        <p:spPr>
          <a:xfrm>
            <a:off x="6143760" y="3500280"/>
            <a:ext cx="24764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с двумя скругленными противолежащими углами 1"/>
          <p:cNvSpPr/>
          <p:nvPr/>
        </p:nvSpPr>
        <p:spPr>
          <a:xfrm>
            <a:off x="1143000" y="571680"/>
            <a:ext cx="7072200" cy="5357520"/>
          </a:xfrm>
          <a:prstGeom prst="pi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2649960" y="857160"/>
            <a:ext cx="43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лан работы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00120" y="1571760"/>
            <a:ext cx="6357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историей появления 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ими функциями обладают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ь, какую информацию может дать изучение мо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учиться четко формулировать свои мысли, грамотно отвечать устно, самостоятельно работать с текстом учеб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E:\МОИ ДОКУМЕНТЫ (УРОКИ, ПЛАНИРОВАНИЕ, Т. Д\планы уроков по обществознанию 7 класс\на портал\Новая папка\Рисунок1.jpg"/>
          <p:cNvPicPr/>
          <p:nvPr/>
        </p:nvPicPr>
        <p:blipFill>
          <a:blip r:embed="rId1"/>
          <a:stretch/>
        </p:blipFill>
        <p:spPr>
          <a:xfrm>
            <a:off x="22320" y="38160"/>
            <a:ext cx="9053280" cy="67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E:\МОИ ДОКУМЕНТЫ (УРОКИ, ПЛАНИРОВАНИЕ, Т. Д\планы уроков по обществознанию 7 класс\на портал\Новая папка\Рисунок2.jpg"/>
          <p:cNvPicPr/>
          <p:nvPr/>
        </p:nvPicPr>
        <p:blipFill>
          <a:blip r:embed="rId1"/>
          <a:stretch/>
        </p:blipFill>
        <p:spPr>
          <a:xfrm>
            <a:off x="285840" y="142920"/>
            <a:ext cx="5143320" cy="406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E:\МОИ ДОКУМЕНТЫ (УРОКИ, ПЛАНИРОВАНИЕ, Т. Д\планы уроков по обществознанию 7 класс\на портал\Новая папка\Рисунок3.jpg"/>
          <p:cNvPicPr/>
          <p:nvPr/>
        </p:nvPicPr>
        <p:blipFill>
          <a:blip r:embed="rId2"/>
          <a:stretch/>
        </p:blipFill>
        <p:spPr>
          <a:xfrm>
            <a:off x="4572000" y="3214800"/>
            <a:ext cx="2085840" cy="35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E:\МОИ ДОКУМЕНТЫ (УРОКИ, ПЛАНИРОВАНИЕ, Т. Д\планы уроков по обществознанию 7 класс\на портал\Новая папка\Рисунок2.jpg"/>
          <p:cNvPicPr/>
          <p:nvPr/>
        </p:nvPicPr>
        <p:blipFill>
          <a:blip r:embed="rId3"/>
          <a:stretch/>
        </p:blipFill>
        <p:spPr>
          <a:xfrm>
            <a:off x="6072120" y="571680"/>
            <a:ext cx="20862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500120" y="1571760"/>
            <a:ext cx="72867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ивалент – нечто равноценное, равнозначащее, равновесное, равносильное другому, полностью заменяющее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38520" y="357120"/>
            <a:ext cx="327888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Запишем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6" descr="182"/>
          <p:cNvPicPr/>
          <p:nvPr/>
        </p:nvPicPr>
        <p:blipFill>
          <a:blip r:embed="rId1"/>
          <a:stretch/>
        </p:blipFill>
        <p:spPr>
          <a:xfrm>
            <a:off x="6786720" y="214200"/>
            <a:ext cx="1371600" cy="1254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5291640" y="4572000"/>
            <a:ext cx="7873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:\МОИ ДОКУМЕНТЫ (УРОКИ, ПЛАНИРОВАНИЕ, Т. Д\планы уроков по обществознанию 7 класс\на портал\Новая папка\Рисунок4.jpg"/>
          <p:cNvPicPr/>
          <p:nvPr/>
        </p:nvPicPr>
        <p:blipFill>
          <a:blip r:embed="rId2"/>
          <a:stretch/>
        </p:blipFill>
        <p:spPr>
          <a:xfrm>
            <a:off x="3429000" y="4071960"/>
            <a:ext cx="1571760" cy="2617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E:\МОИ ДОКУМЕНТЫ (УРОКИ, ПЛАНИРОВАНИЕ, Т. Д\планы уроков по обществознанию 7 класс\на портал\Новая папка\Рисунок3.jpg"/>
          <p:cNvPicPr/>
          <p:nvPr/>
        </p:nvPicPr>
        <p:blipFill>
          <a:blip r:embed="rId3"/>
          <a:stretch/>
        </p:blipFill>
        <p:spPr>
          <a:xfrm>
            <a:off x="6286680" y="4214880"/>
            <a:ext cx="2442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8400" y="1500120"/>
          <a:ext cx="9004320" cy="5000760"/>
        </p:xfrm>
        <a:graphic>
          <a:graphicData uri="http://schemas.openxmlformats.org/drawingml/2006/table">
            <a:tbl>
              <a:tblPr/>
              <a:tblGrid>
                <a:gridCol w="1500120"/>
                <a:gridCol w="1501560"/>
                <a:gridCol w="1359000"/>
                <a:gridCol w="1641600"/>
                <a:gridCol w="1501560"/>
                <a:gridCol w="1500480"/>
              </a:tblGrid>
              <a:tr h="181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ы, выступающие в роли дене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ак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ве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ле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0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енные кол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0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ные мо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1" name="TextBox 2"/>
          <p:cNvSpPr/>
          <p:nvPr/>
        </p:nvSpPr>
        <p:spPr>
          <a:xfrm>
            <a:off x="362520" y="285840"/>
            <a:ext cx="42879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Зарисуем в тетрад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19320" y="142920"/>
            <a:ext cx="458064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мон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143160" y="3214800"/>
            <a:ext cx="4857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ийская монета VI века до н. э. (трите, одна треть стате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6286680" y="4071960"/>
            <a:ext cx="1714320" cy="179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китайские монеты (около 500 г. до н.э.) делали из бронзы в форме орудий труда и раковин каури, служивших ранее деньг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E:\МОИ ДОКУМЕНТЫ (УРОКИ, ПЛАНИРОВАНИЕ, Т. Д\планы уроков по обществознанию 7 класс\на портал\Новая папка\Рисунок6.jpg"/>
          <p:cNvPicPr/>
          <p:nvPr/>
        </p:nvPicPr>
        <p:blipFill>
          <a:blip r:embed="rId1"/>
          <a:stretch/>
        </p:blipFill>
        <p:spPr>
          <a:xfrm>
            <a:off x="571680" y="1071720"/>
            <a:ext cx="2076120" cy="39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E:\МОИ ДОКУМЕНТЫ (УРОКИ, ПЛАНИРОВАНИЕ, Т. Д\планы уроков по обществознанию 7 класс\на портал\Новая папка\Рисунок4.jpg"/>
          <p:cNvPicPr/>
          <p:nvPr/>
        </p:nvPicPr>
        <p:blipFill>
          <a:blip r:embed="rId2"/>
          <a:stretch/>
        </p:blipFill>
        <p:spPr>
          <a:xfrm>
            <a:off x="3214800" y="1000080"/>
            <a:ext cx="4943520" cy="2114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E:\МОИ ДОКУМЕНТЫ (УРОКИ, ПЛАНИРОВАНИЕ, Т. Д\планы уроков по обществознанию 7 класс\на портал\Новая папка\Рисунок5.png"/>
          <p:cNvPicPr/>
          <p:nvPr/>
        </p:nvPicPr>
        <p:blipFill>
          <a:blip r:embed="rId3"/>
          <a:stretch/>
        </p:blipFill>
        <p:spPr>
          <a:xfrm>
            <a:off x="3143160" y="4214880"/>
            <a:ext cx="3067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4286160" y="214200"/>
            <a:ext cx="221472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жные деньги появились в Китае в 8 в. н. э. Вначале это были расписки, которые выдавались под ценности, сдаваемые на хранение, либо свидетельства об уплаченных нал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E:\МОИ ДОКУМЕНТЫ (УРОКИ, ПЛАНИРОВАНИЕ, Т. Д\планы уроков по обществознанию 7 класс\на портал\Новая папка\Рисунок9.jpg"/>
          <p:cNvPicPr/>
          <p:nvPr/>
        </p:nvPicPr>
        <p:blipFill>
          <a:blip r:embed="rId1"/>
          <a:stretch/>
        </p:blipFill>
        <p:spPr>
          <a:xfrm>
            <a:off x="357120" y="214200"/>
            <a:ext cx="3500640" cy="5981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E:\МОИ ДОКУМЕНТЫ (УРОКИ, ПЛАНИРОВАНИЕ, Т. Д\планы уроков по обществознанию 7 класс\на портал\Новая папка\Рисунок10.jpg"/>
          <p:cNvPicPr/>
          <p:nvPr/>
        </p:nvPicPr>
        <p:blipFill>
          <a:blip r:embed="rId2"/>
          <a:stretch/>
        </p:blipFill>
        <p:spPr>
          <a:xfrm>
            <a:off x="4286160" y="3714840"/>
            <a:ext cx="44578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30:02Z</dcterms:created>
  <dc:creator>Юра</dc:creator>
  <dc:description/>
  <dc:language>en-US</dc:language>
  <cp:lastModifiedBy>Юля</cp:lastModifiedBy>
  <dcterms:modified xsi:type="dcterms:W3CDTF">2018-01-25T14:42:27Z</dcterms:modified>
  <cp:revision>28</cp:revision>
  <dc:subject/>
  <dc:title>Слайд 1</dc:title>
</cp:coreProperties>
</file>