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CE7-E5E2-46A3-BDCB-6875661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201-D31D-4147-8D4C-C820F495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DEB-12E6-4578-BDD1-63F514FC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7B3-0F9C-4C92-8DF6-F31F983F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3D69-7DEB-448E-BEAC-E0C38C94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88E-A0E5-4997-B9F1-F6F33BB9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90A5-B6B2-4130-8AFC-C770FB14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907-BED8-46B9-8804-4E7C3A7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909-C876-48AF-8E4F-CE974FA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29B1-78A2-49A4-9BF7-80D39A2F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496-52BB-447A-8406-DAFBE35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5FD-E109-4803-987B-BCD3673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E007-6780-41EE-806B-5DDEDD7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A04D-4AA4-4F8C-BCC4-872229E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B160-3E14-42DC-B2A5-CB2D8668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6426-C79B-4CB6-9140-DD957AF8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07A4-58AD-47CC-8058-86BD3B63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84C-432D-4FF7-B2B9-77B5D77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379-FB2D-458C-8CFA-596ED10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C6F-0FF0-4A60-B3BE-3653F81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C6F-182A-4BBA-A3DD-21A2A94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F46-4D4C-4DA1-AF64-404843E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21B-D923-4EF2-B2A6-7546720D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2C9-B7A9-4F91-8815-119FA96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5E4-F7AB-4F7D-9D77-75D9B54966D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FB1-9121-4BD2-A608-DA9E1506E1B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os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Как получить информацию о посещении и питании ребенка в школ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90" name="Стрелка вправо 6"/>
          <p:cNvSpPr/>
          <p:nvPr/>
        </p:nvSpPr>
        <p:spPr>
          <a:xfrm rot="12463800">
            <a:off x="2666880" y="617184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-609480" y="0"/>
            <a:ext cx="11658600" cy="731520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право 6"/>
          <p:cNvSpPr/>
          <p:nvPr/>
        </p:nvSpPr>
        <p:spPr>
          <a:xfrm rot="12463800">
            <a:off x="6781680" y="449532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4114800" y="3657600"/>
            <a:ext cx="9907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6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. Скачать на телефон мобильное приложение ГОСУСЛУГИ   Москв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3428640"/>
            <a:ext cx="80010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 Зайти на портал ГОСУСЛУГ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на компьютере, ноутбуке)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s://mos.ru/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-1857240" y="-506520"/>
            <a:ext cx="13011120" cy="7696440"/>
          </a:xfrm>
          <a:prstGeom prst="rect">
            <a:avLst/>
          </a:prstGeom>
          <a:ln w="0">
            <a:noFill/>
          </a:ln>
        </p:spPr>
      </p:pic>
      <p:sp>
        <p:nvSpPr>
          <p:cNvPr id="160" name="Line 11"/>
          <p:cNvSpPr/>
          <p:nvPr/>
        </p:nvSpPr>
        <p:spPr>
          <a:xfrm flipH="1" flipV="1">
            <a:off x="3809880" y="5943240"/>
            <a:ext cx="2286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Стрелка вправо 7"/>
          <p:cNvSpPr/>
          <p:nvPr/>
        </p:nvSpPr>
        <p:spPr>
          <a:xfrm rot="12102000">
            <a:off x="4667040" y="623268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Стрелка вправо 6"/>
          <p:cNvSpPr/>
          <p:nvPr/>
        </p:nvSpPr>
        <p:spPr>
          <a:xfrm rot="12102000">
            <a:off x="4667040" y="6246360"/>
            <a:ext cx="10666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Стрелка вправо 5"/>
          <p:cNvSpPr/>
          <p:nvPr/>
        </p:nvSpPr>
        <p:spPr>
          <a:xfrm rot="12102000">
            <a:off x="4667040" y="623268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-1905120" y="-609480"/>
            <a:ext cx="12039840" cy="8800920"/>
          </a:xfrm>
          <a:prstGeom prst="rect">
            <a:avLst/>
          </a:prstGeom>
          <a:ln w="0">
            <a:noFill/>
          </a:ln>
        </p:spPr>
      </p:pic>
      <p:sp>
        <p:nvSpPr>
          <p:cNvPr id="166" name="Стрелка вправо 3"/>
          <p:cNvSpPr/>
          <p:nvPr/>
        </p:nvSpPr>
        <p:spPr>
          <a:xfrm rot="12102000">
            <a:off x="6800760" y="559548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-762120" y="-152280"/>
            <a:ext cx="12115800" cy="713556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 вправо 7"/>
          <p:cNvSpPr/>
          <p:nvPr/>
        </p:nvSpPr>
        <p:spPr>
          <a:xfrm rot="10800000">
            <a:off x="3352680" y="1905120"/>
            <a:ext cx="1067040" cy="304560"/>
          </a:xfrm>
          <a:prstGeom prst="rightArrow">
            <a:avLst>
              <a:gd name="adj1" fmla="val 100000"/>
              <a:gd name="adj2" fmla="val 50055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-838080" y="-457200"/>
            <a:ext cx="12496680" cy="7145280"/>
          </a:xfrm>
          <a:prstGeom prst="rect">
            <a:avLst/>
          </a:prstGeom>
          <a:ln w="0">
            <a:noFill/>
          </a:ln>
        </p:spPr>
      </p:pic>
      <p:sp>
        <p:nvSpPr>
          <p:cNvPr id="171" name="Стрелка вправо 4"/>
          <p:cNvSpPr/>
          <p:nvPr/>
        </p:nvSpPr>
        <p:spPr>
          <a:xfrm rot="12102000">
            <a:off x="1618920" y="3766680"/>
            <a:ext cx="10666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Стрелка вправо 5"/>
          <p:cNvSpPr/>
          <p:nvPr/>
        </p:nvSpPr>
        <p:spPr>
          <a:xfrm rot="12102000">
            <a:off x="7257960" y="567180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733840" y="3581280"/>
            <a:ext cx="3286080" cy="1832040"/>
          </a:xfrm>
          <a:prstGeom prst="rect">
            <a:avLst/>
          </a:prstGeom>
          <a:solidFill>
            <a:srgbClr val="33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76"/>
                </a:solidFill>
                <a:latin typeface="Verdana"/>
              </a:rPr>
              <a:t>Проверить свой телефон, он должен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овпадать!!!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b76"/>
                </a:solidFill>
                <a:latin typeface="Verdana"/>
              </a:rPr>
              <a:t>с тем, который указан в заявлении в школ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Прямоугольник 2" descr=""/>
          <p:cNvPicPr/>
          <p:nvPr/>
        </p:nvPicPr>
        <p:blipFill>
          <a:blip r:embed="rId2"/>
          <a:stretch/>
        </p:blipFill>
        <p:spPr>
          <a:xfrm>
            <a:off x="1725480" y="2925720"/>
            <a:ext cx="1328760" cy="14572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8" descr=""/>
          <p:cNvPicPr/>
          <p:nvPr/>
        </p:nvPicPr>
        <p:blipFill>
          <a:blip r:embed="rId3"/>
          <a:stretch/>
        </p:blipFill>
        <p:spPr>
          <a:xfrm>
            <a:off x="7675560" y="4876920"/>
            <a:ext cx="132876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 flipH="1" flipV="1">
            <a:off x="3428640" y="24382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Стрелка вправо 6"/>
          <p:cNvSpPr/>
          <p:nvPr/>
        </p:nvSpPr>
        <p:spPr>
          <a:xfrm rot="12102000">
            <a:off x="3447720" y="2395080"/>
            <a:ext cx="10666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Стрелка вправо 6"/>
          <p:cNvSpPr/>
          <p:nvPr/>
        </p:nvSpPr>
        <p:spPr>
          <a:xfrm rot="12102000">
            <a:off x="3428640" y="236232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181" name="Стрелка вправо 4"/>
          <p:cNvSpPr/>
          <p:nvPr/>
        </p:nvSpPr>
        <p:spPr>
          <a:xfrm rot="12102000">
            <a:off x="3447720" y="5138280"/>
            <a:ext cx="1066680" cy="304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Стрелка вправо 5"/>
          <p:cNvSpPr/>
          <p:nvPr/>
        </p:nvSpPr>
        <p:spPr>
          <a:xfrm rot="12102000">
            <a:off x="4286160" y="612900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Стрелка вправо 4"/>
          <p:cNvSpPr/>
          <p:nvPr/>
        </p:nvSpPr>
        <p:spPr>
          <a:xfrm rot="12102000">
            <a:off x="3428640" y="510552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Стрелка вправо 4"/>
          <p:cNvSpPr/>
          <p:nvPr/>
        </p:nvSpPr>
        <p:spPr>
          <a:xfrm rot="12102000">
            <a:off x="3428640" y="510552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Стрелка вправо 5"/>
          <p:cNvSpPr/>
          <p:nvPr/>
        </p:nvSpPr>
        <p:spPr>
          <a:xfrm rot="12102000">
            <a:off x="4267080" y="6095520"/>
            <a:ext cx="1067040" cy="304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Стрелка вправо 4"/>
          <p:cNvSpPr/>
          <p:nvPr/>
        </p:nvSpPr>
        <p:spPr>
          <a:xfrm rot="12102000">
            <a:off x="3428640" y="5105520"/>
            <a:ext cx="1066680" cy="30456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0" i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Если ВЫ поменяли номер телефо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вить в известность администрацию шко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йти на портал ГОСУСЛУГ  в раздел № 3  « Мои данны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регистрационных данных редактировать телефо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ХРАН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8:25:21Z</dcterms:created>
  <dc:creator>user</dc:creator>
  <dc:description/>
  <dc:language>en-US</dc:language>
  <cp:lastModifiedBy>Софья</cp:lastModifiedBy>
  <dcterms:modified xsi:type="dcterms:W3CDTF">2017-11-28T10:12:3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