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29.jpeg" ContentType="image/jpeg"/>
  <Override PartName="/ppt/media/image12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13.jpeg" ContentType="image/jpeg"/>
  <Override PartName="/ppt/media/image40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52.jpeg" ContentType="image/jpeg"/>
  <Override PartName="/ppt/media/image1.png" ContentType="image/png"/>
  <Override PartName="/ppt/media/image2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60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ECA-87D1-482E-A721-2DD7101C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B83-85C6-4FAC-AE5F-54BEB47A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3C2-815F-4800-B364-C70233AD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B39-038F-4ACF-BBFD-2D9BBCB6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B5B-7F50-467D-B687-DE551889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C1C-1F86-4BEF-8D2A-AEBEAB7A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427-DA03-4A64-B273-9A4F71B3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709-B856-4565-8B8B-399A77B1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CE0-B6F3-4366-B41C-9D917C93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95F-CFAC-45A7-9331-96E0945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A2E-E33F-4D6D-AA17-894070D3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4A4-1196-4550-8B4A-17333D1C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8A84-F30D-4924-B400-71E348569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6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Прямоугольник 7"/>
          <p:cNvGrpSpPr/>
          <p:nvPr/>
        </p:nvGrpSpPr>
        <p:grpSpPr>
          <a:xfrm>
            <a:off x="969840" y="109440"/>
            <a:ext cx="8058240" cy="6632640"/>
            <a:chOff x="969840" y="109440"/>
            <a:chExt cx="8058240" cy="6632640"/>
          </a:xfrm>
        </p:grpSpPr>
        <p:pic>
          <p:nvPicPr>
            <p:cNvPr id="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969840" y="109440"/>
              <a:ext cx="8058240" cy="66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00080" y="142920"/>
              <a:ext cx="8001000" cy="65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Рисунок 13" descr="0_75db1_f31d2d9c_L.png"/>
          <p:cNvPicPr/>
          <p:nvPr/>
        </p:nvPicPr>
        <p:blipFill>
          <a:blip r:embed="rId3"/>
          <a:stretch/>
        </p:blipFill>
        <p:spPr>
          <a:xfrm>
            <a:off x="214200" y="142920"/>
            <a:ext cx="1524240" cy="106344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15" descr="0_75db1_f31d2d9c_L.png"/>
          <p:cNvPicPr/>
          <p:nvPr/>
        </p:nvPicPr>
        <p:blipFill>
          <a:blip r:embed="rId4"/>
          <a:stretch/>
        </p:blipFill>
        <p:spPr>
          <a:xfrm>
            <a:off x="214200" y="1571760"/>
            <a:ext cx="1524240" cy="106344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6" descr="0_75db1_f31d2d9c_L.png"/>
          <p:cNvPicPr/>
          <p:nvPr/>
        </p:nvPicPr>
        <p:blipFill>
          <a:blip r:embed="rId5"/>
          <a:stretch/>
        </p:blipFill>
        <p:spPr>
          <a:xfrm>
            <a:off x="214200" y="2928960"/>
            <a:ext cx="1524240" cy="106344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7" descr="0_75db1_f31d2d9c_L.png"/>
          <p:cNvPicPr/>
          <p:nvPr/>
        </p:nvPicPr>
        <p:blipFill>
          <a:blip r:embed="rId6"/>
          <a:stretch/>
        </p:blipFill>
        <p:spPr>
          <a:xfrm>
            <a:off x="214200" y="4286160"/>
            <a:ext cx="1524240" cy="106380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8" descr="0_75db1_f31d2d9c_L.png"/>
          <p:cNvPicPr/>
          <p:nvPr/>
        </p:nvPicPr>
        <p:blipFill>
          <a:blip r:embed="rId7"/>
          <a:stretch/>
        </p:blipFill>
        <p:spPr>
          <a:xfrm>
            <a:off x="214200" y="5572080"/>
            <a:ext cx="15242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kak-ya.ru/images/photos/1661_emporio_armani11.jpg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www.brovi.net/images/stories/moda/tendencii2010/br2.jpg" TargetMode="External"/><Relationship Id="rId5" Type="http://schemas.openxmlformats.org/officeDocument/2006/relationships/image" Target="../media/image34.jpeg"/><Relationship Id="rId6" Type="http://schemas.openxmlformats.org/officeDocument/2006/relationships/hyperlink" Target="http://s43.radikal.ru/i102/0809/b5/5c9900d6df74.jpg" TargetMode="External"/><Relationship Id="rId7" Type="http://schemas.openxmlformats.org/officeDocument/2006/relationships/image" Target="../media/image35.jpeg"/><Relationship Id="rId8" Type="http://schemas.openxmlformats.org/officeDocument/2006/relationships/hyperlink" Target="http://www.santeri.ru/upload/by_a/32-1607-1.jpg" TargetMode="External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all-katalog.ru/images/product_images/popup_images/10860_0.jpg" TargetMode="External"/><Relationship Id="rId3" Type="http://schemas.openxmlformats.org/officeDocument/2006/relationships/image" Target="../media/image38.jpeg"/><Relationship Id="rId4" Type="http://schemas.openxmlformats.org/officeDocument/2006/relationships/hyperlink" Target="http://www.100sp.ru/pic/goods/4885/21306/505811.jpg" TargetMode="External"/><Relationship Id="rId5" Type="http://schemas.openxmlformats.org/officeDocument/2006/relationships/image" Target="../media/image39.jpeg"/><Relationship Id="rId6" Type="http://schemas.openxmlformats.org/officeDocument/2006/relationships/hyperlink" Target="http://www.mila-wear.ru/upload/xclass/cat_493.jpg" TargetMode="External"/><Relationship Id="rId7" Type="http://schemas.openxmlformats.org/officeDocument/2006/relationships/image" Target="../media/image40.jpeg"/><Relationship Id="rId8" Type="http://schemas.openxmlformats.org/officeDocument/2006/relationships/hyperlink" Target="http://malinka-fashion.ru/images/products/product_img_94.jpg" TargetMode="External"/><Relationship Id="rId9" Type="http://schemas.openxmlformats.org/officeDocument/2006/relationships/image" Target="../media/image41.jpeg"/><Relationship Id="rId10" Type="http://schemas.openxmlformats.org/officeDocument/2006/relationships/hyperlink" Target="http://www.galiya.ru/download_file.php?download_propertys_items_id=2013" TargetMode="External"/><Relationship Id="rId11" Type="http://schemas.openxmlformats.org/officeDocument/2006/relationships/image" Target="../media/image4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hyperlink" Target="http://wiki.wildberries.ru/styles/&#1093;&#1080;&#1087;&#1087;&#1080;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iki.wildberries.ru/things/accessories/&#1082;&#1086;&#1083;&#1075;&#1086;&#1090;&#1082;&#1080;" TargetMode="External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iki.wildberries.ru/img/2012/08/51244244_23236847.gif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hyperlink" Target="http://wiki.wildberries.ru/img/2012/08/51244715_151537_pic1.jpg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onlystyles.ru/2010/04/19/&#1082;&#1072;&#1082;&#1080;&#1077;-&#1078;&#1077;&#1085;&#1089;&#1082;&#1080;&#1077;-&#1073;&#1088;&#1102;&#1082;&#1080;-&#1084;&#1086;&#1076;&#1085;&#1099;-&#1074;-2010-&#1075;&#1086;&#1076;&#1091;-&#1073;&#1088;&#1102;&#1082;-2/galif/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all-katalog.ru/images/product_images/popup_images/14877_0.jpg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club.osinka.ru/files/os5079_305.jpg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s59.radikal.ru/i164/0912/f4/65cfcd646fd5.jpg" TargetMode="External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hyperlink" Target="http://www.sela-shop.ru/catalog/large/19400_77.jpg" TargetMode="External"/><Relationship Id="rId10" Type="http://schemas.openxmlformats.org/officeDocument/2006/relationships/image" Target="../media/image29.jpeg"/><Relationship Id="rId11" Type="http://schemas.openxmlformats.org/officeDocument/2006/relationships/hyperlink" Target="http://files.hm.com/media/products/820/DXL805_75055_72023_33_2780.jpg" TargetMode="External"/><Relationship Id="rId12" Type="http://schemas.openxmlformats.org/officeDocument/2006/relationships/image" Target="../media/image30.jpeg"/><Relationship Id="rId13" Type="http://schemas.openxmlformats.org/officeDocument/2006/relationships/hyperlink" Target="http://www.rasprodaga.ru/image/show/id/438x438/1300026756" TargetMode="External"/><Relationship Id="rId14" Type="http://schemas.openxmlformats.org/officeDocument/2006/relationships/image" Target="../media/image31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6"/>
          <p:cNvGrpSpPr/>
          <p:nvPr/>
        </p:nvGrpSpPr>
        <p:grpSpPr>
          <a:xfrm>
            <a:off x="1000080" y="2357280"/>
            <a:ext cx="7929720" cy="4042440"/>
            <a:chOff x="1000080" y="2357280"/>
            <a:chExt cx="7929720" cy="4042440"/>
          </a:xfrm>
        </p:grpSpPr>
        <p:pic>
          <p:nvPicPr>
            <p:cNvPr id="49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00080" y="2357280"/>
              <a:ext cx="7929720" cy="10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Прямоугольник 5"/>
            <p:cNvSpPr/>
            <p:nvPr/>
          </p:nvSpPr>
          <p:spPr>
            <a:xfrm>
              <a:off x="2383560" y="5086080"/>
              <a:ext cx="5423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Monotype Corsiva"/>
                </a:rPr>
                <a:t>Автор : Федорова Оксана Павловна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Monotype Corsiva"/>
                </a:rPr>
                <a:t>учитель технологии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I</a:t>
              </a:r>
              <a:r>
                <a:rPr b="0" lang="ru-RU" sz="2000" spc="-1" strike="noStrike">
                  <a:solidFill>
                    <a:srgbClr val="000000"/>
                  </a:solidFill>
                  <a:latin typeface="Monotype Corsiva"/>
                </a:rPr>
                <a:t> квалификационной категор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Monotype Corsiva"/>
                </a:rPr>
                <a:t>МОУ  Расловской СОШ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1414440" y="1779480"/>
            <a:ext cx="6394320" cy="147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2048040" y="139680"/>
            <a:ext cx="5925960" cy="1292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186920" y="1071720"/>
            <a:ext cx="73854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080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БРЮ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080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о объему в верхней части и по всей длин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080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о ширине вниз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080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о расположению застеж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080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о оформлению низ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080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о дл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Картинка 21 из 25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2565360"/>
            <a:ext cx="1214280" cy="237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Картинка 70 из 257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40720" y="333360"/>
            <a:ext cx="1141200" cy="215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http://s43.radikal.ru/i102/0809/b5/5c9900d6df7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4508640"/>
            <a:ext cx="1297080" cy="208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Картинка 11 из 5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4508640"/>
            <a:ext cx="115236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1974960" y="208080"/>
            <a:ext cx="5999040" cy="1292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258560" y="1484280"/>
            <a:ext cx="770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ЮБКИ-БРЮК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 форме могут быть ближ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 брюкам - прилегающие в области сидения с различным решением низ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 юбке – полуприлегающие в области сидения и очень «сдержанные» по всей длине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Картинка 14 из 265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4005360"/>
            <a:ext cx="1368360" cy="251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Картинка 21 из 265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2000" y="4005360"/>
            <a:ext cx="1357200" cy="244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Картинка 60 из 2651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132000" y="4005360"/>
            <a:ext cx="136872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Картинка 71 из 2651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19280" y="4005360"/>
            <a:ext cx="1440000" cy="251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Картинка 74 из 26513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451640" y="4005360"/>
            <a:ext cx="14414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иды брю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835280" y="973080"/>
            <a:ext cx="345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йтуз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юки из эластичной ткани обтягивающего фасона на штрипках. Чаще всего используются для туризма. В Советском Союзе были одними из самых популярных зимних брюк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Retuzy.jpg"/>
          <p:cNvPicPr/>
          <p:nvPr/>
        </p:nvPicPr>
        <p:blipFill>
          <a:blip r:embed="rId1"/>
          <a:stretch/>
        </p:blipFill>
        <p:spPr>
          <a:xfrm>
            <a:off x="6372360" y="692280"/>
            <a:ext cx="187164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Картинки по запросу Брюки-клеш"/>
          <p:cNvPicPr/>
          <p:nvPr/>
        </p:nvPicPr>
        <p:blipFill>
          <a:blip r:embed="rId2"/>
          <a:stretch/>
        </p:blipFill>
        <p:spPr>
          <a:xfrm>
            <a:off x="6443640" y="3500280"/>
            <a:ext cx="1944720" cy="2592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979640" y="3157920"/>
            <a:ext cx="3097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рюки-клеш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с раструбом, в большинстве случаев от колена, но может начинаться и от бедра. Изначально были элементом униформы американских матросов XIX века. В XX веке активно использовались </a:t>
            </a:r>
            <a:r>
              <a:rPr b="0" lang="ru-RU" sz="1600" spc="-1" strike="noStrike" u="sng">
                <a:solidFill>
                  <a:srgbClr val="17365d"/>
                </a:solidFill>
                <a:uFillTx/>
                <a:latin typeface="Times New Roman"/>
                <a:ea typeface="Times New Roman"/>
                <a:hlinkClick r:id="rId3"/>
              </a:rPr>
              <a:t>хипп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их полов. Пользовались огромной популярностью в СССР в 80-е г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835280" y="260640"/>
            <a:ext cx="3384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ридж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роченные брюки до середины икры в классическом варианте. Встречаются также варианты с манжетами снизу. Современные модели могут незначительно варьироваться по длине в более короткую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Картинки по запросу Бриджи"/>
          <p:cNvPicPr/>
          <p:nvPr/>
        </p:nvPicPr>
        <p:blipFill>
          <a:blip r:embed="rId1"/>
          <a:stretch/>
        </p:blipFill>
        <p:spPr>
          <a:xfrm>
            <a:off x="6227640" y="333360"/>
            <a:ext cx="2232000" cy="1655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979640" y="217800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пр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роченные брюки чуть выше щиколо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4" descr="Картинки по запросу капри штаны"/>
          <p:cNvPicPr/>
          <p:nvPr/>
        </p:nvPicPr>
        <p:blipFill>
          <a:blip r:embed="rId2"/>
          <a:stretch/>
        </p:blipFill>
        <p:spPr>
          <a:xfrm>
            <a:off x="5003640" y="141300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6" descr="http://www.vplate.ru/images/article/thumb/450-0/2016/08/unikalnye-bryuki-banany-13.jpg"/>
          <p:cNvPicPr/>
          <p:nvPr/>
        </p:nvPicPr>
        <p:blipFill>
          <a:blip r:embed="rId3"/>
          <a:stretch/>
        </p:blipFill>
        <p:spPr>
          <a:xfrm>
            <a:off x="6300720" y="3068640"/>
            <a:ext cx="1150920" cy="1703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979640" y="3492000"/>
            <a:ext cx="338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нан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у пояса и сужающиеся к низу брюки. Были популярны в 80-е годы XX века, снова вошли в моду в конце «нулевы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26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9" descr="Брюки-чинос: что это такое и как их носить"/>
          <p:cNvPicPr/>
          <p:nvPr/>
        </p:nvPicPr>
        <p:blipFill>
          <a:blip r:embed="rId4"/>
          <a:stretch/>
        </p:blipFill>
        <p:spPr>
          <a:xfrm>
            <a:off x="6516720" y="5013360"/>
            <a:ext cx="1820880" cy="1420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2050920" y="4871880"/>
            <a:ext cx="4321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нос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ние брюки из дышащей ткани нарочито небрежного вида. Имеют складки у пояса,  часто носятся подвернутыми. Классические цвета для данной модели – бежевый, оливковый, хаки, белый. Изначально создавались для американских солд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2" descr="Картинки по запросу Оксфордские брюки"/>
          <p:cNvPicPr/>
          <p:nvPr/>
        </p:nvPicPr>
        <p:blipFill>
          <a:blip r:embed="rId1"/>
          <a:stretch/>
        </p:blipFill>
        <p:spPr>
          <a:xfrm>
            <a:off x="5508720" y="260280"/>
            <a:ext cx="1358640" cy="1873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1979640" y="400320"/>
            <a:ext cx="37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сфордские брюки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резвычайно широкая модель. Шьются, преимущественно, из шерстяной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28" descr="Картинки по запросу галифе"/>
          <p:cNvPicPr/>
          <p:nvPr/>
        </p:nvPicPr>
        <p:blipFill>
          <a:blip r:embed="rId2"/>
          <a:stretch/>
        </p:blipFill>
        <p:spPr>
          <a:xfrm>
            <a:off x="6875640" y="1341360"/>
            <a:ext cx="1296720" cy="2016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2124000" y="2027520"/>
            <a:ext cx="316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иф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юки широкие на бедрах и облегающие ноги от колен до щиколо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124000" y="3488040"/>
            <a:ext cx="273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удочки (сигареты, трубочки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ащибрюки прямого фас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0" descr="Картинки по запросу дудочки брюки"/>
          <p:cNvPicPr/>
          <p:nvPr/>
        </p:nvPicPr>
        <p:blipFill>
          <a:blip r:embed="rId3"/>
          <a:stretch/>
        </p:blipFill>
        <p:spPr>
          <a:xfrm>
            <a:off x="5580000" y="2997360"/>
            <a:ext cx="1224000" cy="18716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9"/>
          <p:cNvSpPr/>
          <p:nvPr/>
        </p:nvSpPr>
        <p:spPr>
          <a:xfrm>
            <a:off x="2124000" y="4941720"/>
            <a:ext cx="37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ровары (баллоны)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брюки, преимущественно из струящихся тканей или шелка, собирающихся у щиколотки при помощи завязки или на рези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1" descr="Похожее изображение"/>
          <p:cNvPicPr/>
          <p:nvPr/>
        </p:nvPicPr>
        <p:blipFill>
          <a:blip r:embed="rId4"/>
          <a:stretch/>
        </p:blipFill>
        <p:spPr>
          <a:xfrm>
            <a:off x="6875640" y="4508640"/>
            <a:ext cx="1225440" cy="1938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4" descr="Картинки по запросу Леггинсы фото"/>
          <p:cNvPicPr/>
          <p:nvPr/>
        </p:nvPicPr>
        <p:blipFill>
          <a:blip r:embed="rId1"/>
          <a:stretch/>
        </p:blipFill>
        <p:spPr>
          <a:xfrm>
            <a:off x="6372360" y="189000"/>
            <a:ext cx="1512720" cy="2016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195640" y="598680"/>
            <a:ext cx="33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гинс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юки из эластичной ткани, сильно облегающие ногу. Компромисс между брюками и </a:t>
            </a:r>
            <a:r>
              <a:rPr b="0" lang="ru-RU" sz="1600" spc="-1" strike="noStrike" u="sng">
                <a:solidFill>
                  <a:srgbClr val="17365d"/>
                </a:solidFill>
                <a:uFillTx/>
                <a:latin typeface="Times New Roman"/>
                <a:ea typeface="Times New Roman"/>
                <a:hlinkClick r:id="rId2"/>
              </a:rPr>
              <a:t>колготкам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0" descr="Картинки по запросу Афгани брюки фото"/>
          <p:cNvPicPr/>
          <p:nvPr/>
        </p:nvPicPr>
        <p:blipFill>
          <a:blip r:embed="rId3"/>
          <a:stretch/>
        </p:blipFill>
        <p:spPr>
          <a:xfrm>
            <a:off x="5435640" y="1989000"/>
            <a:ext cx="1073160" cy="17290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Картинки по запросу Афгани брюки фото"/>
          <p:cNvPicPr/>
          <p:nvPr/>
        </p:nvPicPr>
        <p:blipFill>
          <a:blip r:embed="rId4"/>
          <a:stretch/>
        </p:blipFill>
        <p:spPr>
          <a:xfrm>
            <a:off x="6516720" y="2421000"/>
            <a:ext cx="1150920" cy="1800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195640" y="1932120"/>
            <a:ext cx="331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фгани (аладдины, зуав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брюки с сильно заниженной проймой. Получили широкое распространении в Индии и Афганистане Кордеройз – брюки из вельвета в рубч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195640" y="4345920"/>
            <a:ext cx="331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г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ые брюки с накладными карманами в районе колен и не только.  Преимущественно шьются из легких, дышащих тканей. Часто имеют завязки внизу штан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2" descr="Картинки по запросу Карго брюки фото"/>
          <p:cNvPicPr/>
          <p:nvPr/>
        </p:nvPicPr>
        <p:blipFill>
          <a:blip r:embed="rId5"/>
          <a:stretch/>
        </p:blipFill>
        <p:spPr>
          <a:xfrm>
            <a:off x="6372360" y="4365720"/>
            <a:ext cx="15843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6" descr="Картинки по запросу Чуридары брюки фото"/>
          <p:cNvPicPr/>
          <p:nvPr/>
        </p:nvPicPr>
        <p:blipFill>
          <a:blip r:embed="rId1"/>
          <a:stretch/>
        </p:blipFill>
        <p:spPr>
          <a:xfrm>
            <a:off x="7236000" y="260280"/>
            <a:ext cx="1512720" cy="2232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195640" y="104040"/>
            <a:ext cx="388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уридар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йские штаны, широкие сверху, книзу зауженные и со складками. Складки создаются за счет того, что длина брюк превышает длину н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340000" y="203760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бка-брюки (палацц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брюки из легкой, струящейся ткани. Часто можно принять за юб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5" descr="Брюки палаццо"/>
          <p:cNvPicPr/>
          <p:nvPr/>
        </p:nvPicPr>
        <p:blipFill>
          <a:blip r:embed="rId2"/>
          <a:stretch/>
        </p:blipFill>
        <p:spPr>
          <a:xfrm>
            <a:off x="5508720" y="1484280"/>
            <a:ext cx="1552320" cy="25210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" descr="С чем носить брюки-скинни"/>
          <p:cNvPicPr/>
          <p:nvPr/>
        </p:nvPicPr>
        <p:blipFill>
          <a:blip r:embed="rId3"/>
          <a:stretch/>
        </p:blipFill>
        <p:spPr>
          <a:xfrm>
            <a:off x="7164360" y="3860640"/>
            <a:ext cx="1511280" cy="2592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2411280" y="4118040"/>
            <a:ext cx="338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инн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резвычайно обтягивающие брюки, преимущественно из денима. Неоднократно подвергались критике со стороны медиков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2286000" y="4398840"/>
            <a:ext cx="351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мстер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юки, сидящие низко на бед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0" descr="https://i.mycdn.me/image?id=770591101225&amp;t=3&amp;plc=WEB&amp;tkn=*P2SlI8hirh1qrQkbxwPUOvK2V5A"/>
          <p:cNvPicPr/>
          <p:nvPr/>
        </p:nvPicPr>
        <p:blipFill>
          <a:blip r:embed="rId1"/>
          <a:stretch/>
        </p:blipFill>
        <p:spPr>
          <a:xfrm>
            <a:off x="4284720" y="4724280"/>
            <a:ext cx="2519280" cy="18734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2286000" y="476280"/>
            <a:ext cx="358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ль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летчатые брюки до колен на притачных манжетах, застегивающихся на пугов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22" descr="Картинки по запросу Гольф брюки фото"/>
          <p:cNvPicPr/>
          <p:nvPr/>
        </p:nvPicPr>
        <p:blipFill>
          <a:blip r:embed="rId2"/>
          <a:stretch/>
        </p:blipFill>
        <p:spPr>
          <a:xfrm>
            <a:off x="5724360" y="260280"/>
            <a:ext cx="1584360" cy="23767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2286000" y="3068640"/>
            <a:ext cx="379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осипед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ие брюки из эластичной ткани, заимствованы из спортивной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19" descr="Картинки по запросу Велосипедки брюки фото"/>
          <p:cNvPicPr/>
          <p:nvPr/>
        </p:nvPicPr>
        <p:blipFill>
          <a:blip r:embed="rId3"/>
          <a:stretch/>
        </p:blipFill>
        <p:spPr>
          <a:xfrm>
            <a:off x="7093080" y="2637000"/>
            <a:ext cx="158256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Calibri"/>
              </a:rPr>
              <a:t>Специалисты создающие модели одеж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1763640" y="1915560"/>
            <a:ext cx="68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Художник-моделье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он же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изайнер-моделье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Данный специалист создает новые образы. Свои замыслы он переносит на бумагу – так и появляются новые коллекции одежды и тенденции в мире м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одельер-конструктор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Данный специалист воплощает задумку художника в жизнь. Он подбирает материалы, элементы декора и создает выкройки, с помощью которых можно воплотить даже самые смелые задумки в реальность. Так и появляются на свет шедевры высокой моды от кутю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ховой модельер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Данный специалист знает все тонкости изготовления меховых изделий. Именно он создает неповторимые и оригинальные шубки, жилетки, шапки и т.д. из 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Группа 6"/>
          <p:cNvGrpSpPr/>
          <p:nvPr/>
        </p:nvGrpSpPr>
        <p:grpSpPr>
          <a:xfrm>
            <a:off x="1143000" y="1916280"/>
            <a:ext cx="7715160" cy="4354200"/>
            <a:chOff x="1143000" y="1916280"/>
            <a:chExt cx="7715160" cy="4354200"/>
          </a:xfrm>
        </p:grpSpPr>
        <p:grpSp>
          <p:nvGrpSpPr>
            <p:cNvPr id="156" name="Группа 1"/>
            <p:cNvGrpSpPr/>
            <p:nvPr/>
          </p:nvGrpSpPr>
          <p:grpSpPr>
            <a:xfrm>
              <a:off x="1143000" y="1916280"/>
              <a:ext cx="7715160" cy="3764880"/>
              <a:chOff x="1143000" y="1916280"/>
              <a:chExt cx="7715160" cy="3764880"/>
            </a:xfrm>
          </p:grpSpPr>
          <p:sp>
            <p:nvSpPr>
              <p:cNvPr id="157" name="Прямоугольник 4"/>
              <p:cNvSpPr/>
              <p:nvPr/>
            </p:nvSpPr>
            <p:spPr>
              <a:xfrm>
                <a:off x="1143000" y="1916280"/>
                <a:ext cx="771516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рямоугольник 3"/>
              <p:cNvSpPr/>
              <p:nvPr/>
            </p:nvSpPr>
            <p:spPr>
              <a:xfrm>
                <a:off x="3227760" y="5281200"/>
                <a:ext cx="3502440" cy="3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3"/>
            <p:cNvSpPr/>
            <p:nvPr/>
          </p:nvSpPr>
          <p:spPr>
            <a:xfrm>
              <a:off x="2949480" y="590076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Прямоугольник 6"/>
          <p:cNvSpPr/>
          <p:nvPr/>
        </p:nvSpPr>
        <p:spPr>
          <a:xfrm>
            <a:off x="3826800" y="285840"/>
            <a:ext cx="2407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Интернет-ресур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124000" y="133704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1.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www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.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osinka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.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ru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Школа шитья/Техника кроя/Базовые лекал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http://modna.com.ua/articles/istoriya-poyavleniya-zhenskih-b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http://fusion-of-styles.ru/zhenskie-bryuk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692360" y="1628640"/>
            <a:ext cx="6696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libri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«История развития брюк и виды женских брю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059280" y="14356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835280" y="2385720"/>
            <a:ext cx="64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Познакомиться с историей развития брюк, моделями брю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Закрепить знания по теме поясных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000" y="2565000"/>
            <a:ext cx="6994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Calibri"/>
              </a:rPr>
              <a:t>История развития брю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://www.belmoda.ru/system/ckeditor_assets/pictures/2342/content_-.jpg?1369901711"/>
          <p:cNvPicPr/>
          <p:nvPr/>
        </p:nvPicPr>
        <p:blipFill>
          <a:blip r:embed="rId1"/>
          <a:stretch/>
        </p:blipFill>
        <p:spPr>
          <a:xfrm>
            <a:off x="1763640" y="333360"/>
            <a:ext cx="3384720" cy="410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www.belmoda.ru/system/ckeditor_assets/pictures/2344/content_.jpg.?1369901758"/>
          <p:cNvPicPr/>
          <p:nvPr/>
        </p:nvPicPr>
        <p:blipFill>
          <a:blip r:embed="rId2"/>
          <a:stretch/>
        </p:blipFill>
        <p:spPr>
          <a:xfrm>
            <a:off x="5148360" y="2133720"/>
            <a:ext cx="36003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http://www.deutsches-strumpfmuseum.de/herrenstruempfe/images/01b_He_SSH_1300.jpg"/>
          <p:cNvPicPr/>
          <p:nvPr/>
        </p:nvPicPr>
        <p:blipFill>
          <a:blip r:embed="rId1"/>
          <a:stretch/>
        </p:blipFill>
        <p:spPr>
          <a:xfrm>
            <a:off x="1789200" y="336600"/>
            <a:ext cx="1990800" cy="2660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http://www.photo.rmn.fr/LowRes2/TR1/TI4A1Q/07-506170.jpg"/>
          <p:cNvPicPr/>
          <p:nvPr/>
        </p:nvPicPr>
        <p:blipFill>
          <a:blip r:embed="rId2"/>
          <a:stretch/>
        </p:blipFill>
        <p:spPr>
          <a:xfrm>
            <a:off x="6372360" y="476280"/>
            <a:ext cx="2519280" cy="237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http://wiki.wildberries.ru/img/2012/08/51244244_23236847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3500280"/>
            <a:ext cx="1558800" cy="2737080"/>
          </a:xfrm>
          <a:prstGeom prst="rect">
            <a:avLst/>
          </a:prstGeom>
          <a:ln w="0">
            <a:noFill/>
          </a:ln>
        </p:spPr>
      </p:pic>
      <p:pic>
        <p:nvPicPr>
          <p:cNvPr id="62" name="il_fi" descr="http://onlystyles.ru/wp-content/uploads/2010/04/galif3.jpg"/>
          <p:cNvPicPr/>
          <p:nvPr/>
        </p:nvPicPr>
        <p:blipFill>
          <a:blip r:embed="rId5"/>
          <a:stretch/>
        </p:blipFill>
        <p:spPr>
          <a:xfrm>
            <a:off x="1763640" y="3573360"/>
            <a:ext cx="1800360" cy="2592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http://wiki.wildberries.ru/img/2012/08/51244715_151537_pic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260280"/>
            <a:ext cx="1800360" cy="27370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артинки по запросу штаны кюлоты 16 века"/>
          <p:cNvPicPr/>
          <p:nvPr/>
        </p:nvPicPr>
        <p:blipFill>
          <a:blip r:embed="rId8"/>
          <a:stretch/>
        </p:blipFill>
        <p:spPr>
          <a:xfrm>
            <a:off x="5508720" y="3500280"/>
            <a:ext cx="1584360" cy="26654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Картинки по запросу штаны панталоны 16 века"/>
          <p:cNvPicPr/>
          <p:nvPr/>
        </p:nvPicPr>
        <p:blipFill>
          <a:blip r:embed="rId9"/>
          <a:stretch/>
        </p:blipFill>
        <p:spPr>
          <a:xfrm>
            <a:off x="3780000" y="3573360"/>
            <a:ext cx="151272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Users\оксана\Desktop\pic_6.jpg"/>
          <p:cNvPicPr/>
          <p:nvPr/>
        </p:nvPicPr>
        <p:blipFill>
          <a:blip r:embed="rId1"/>
          <a:stretch/>
        </p:blipFill>
        <p:spPr>
          <a:xfrm>
            <a:off x="3635280" y="404640"/>
            <a:ext cx="3673440" cy="273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iledebeaute.ru/files/images/pub/part_0/13684/src/bruki05.jpg?262_400"/>
          <p:cNvPicPr/>
          <p:nvPr/>
        </p:nvPicPr>
        <p:blipFill>
          <a:blip r:embed="rId2"/>
          <a:stretch/>
        </p:blipFill>
        <p:spPr>
          <a:xfrm>
            <a:off x="1692360" y="3357720"/>
            <a:ext cx="2279520" cy="323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iledebeaute.ru/files/images/pub/part_0/13684/src/bruki03.jpg?258_400"/>
          <p:cNvPicPr/>
          <p:nvPr/>
        </p:nvPicPr>
        <p:blipFill>
          <a:blip r:embed="rId3"/>
          <a:stretch/>
        </p:blipFill>
        <p:spPr>
          <a:xfrm>
            <a:off x="1692360" y="404640"/>
            <a:ext cx="1800000" cy="288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iledebeaute.ru/files/images/pub/part_0/13684/src/bruki_Marlene_Dietrich2.jpg?207_400"/>
          <p:cNvPicPr/>
          <p:nvPr/>
        </p:nvPicPr>
        <p:blipFill>
          <a:blip r:embed="rId4"/>
          <a:stretch/>
        </p:blipFill>
        <p:spPr>
          <a:xfrm>
            <a:off x="6804000" y="3213000"/>
            <a:ext cx="1971720" cy="338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iledebeaute.ru/files/images/pub/part_0/13684/src/bruki04.jpg?252_400"/>
          <p:cNvPicPr/>
          <p:nvPr/>
        </p:nvPicPr>
        <p:blipFill>
          <a:blip r:embed="rId5"/>
          <a:stretch/>
        </p:blipFill>
        <p:spPr>
          <a:xfrm>
            <a:off x="4211640" y="3500280"/>
            <a:ext cx="2400120" cy="288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Женские брюки-галиф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60280"/>
            <a:ext cx="335448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iledebeaute.ru/files/images/pub/part_0/13684/src/bruki_dolce&amp;gabbanafall2010.jpg?220_400"/>
          <p:cNvPicPr/>
          <p:nvPr/>
        </p:nvPicPr>
        <p:blipFill>
          <a:blip r:embed="rId3"/>
          <a:stretch/>
        </p:blipFill>
        <p:spPr>
          <a:xfrm>
            <a:off x="6732720" y="3284640"/>
            <a:ext cx="2095200" cy="316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iledebeaute.ru/files/images/pub/part_0/13684/src/bruki_pradalfall2010.jpg?220_400"/>
          <p:cNvPicPr/>
          <p:nvPr/>
        </p:nvPicPr>
        <p:blipFill>
          <a:blip r:embed="rId4"/>
          <a:stretch/>
        </p:blipFill>
        <p:spPr>
          <a:xfrm>
            <a:off x="1763640" y="3429000"/>
            <a:ext cx="209556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ledebeaute.ru/files/images/pub/part_0/13684/src/bruki_maxmarafall2010.jpg?220_400"/>
          <p:cNvPicPr/>
          <p:nvPr/>
        </p:nvPicPr>
        <p:blipFill>
          <a:blip r:embed="rId5"/>
          <a:stretch/>
        </p:blipFill>
        <p:spPr>
          <a:xfrm>
            <a:off x="4211640" y="3357720"/>
            <a:ext cx="2095560" cy="3116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modna.com.ua/images/article/istoriya-poyavleniya-zhenskih-bruk.jpg"/>
          <p:cNvPicPr/>
          <p:nvPr/>
        </p:nvPicPr>
        <p:blipFill>
          <a:blip r:embed="rId6"/>
          <a:stretch/>
        </p:blipFill>
        <p:spPr>
          <a:xfrm>
            <a:off x="5364000" y="260280"/>
            <a:ext cx="331164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322280" y="66600"/>
            <a:ext cx="6066000" cy="1292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116000" y="1071720"/>
            <a:ext cx="770400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080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ЮБ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080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ям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080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линьев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080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оническ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080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 круговую складк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0800" indent="-514440"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ругие варианты путем моделирования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Картинка 14 из 133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836640"/>
            <a:ext cx="158292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Картинка 1 из 3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96360" y="4292640"/>
            <a:ext cx="1296720" cy="230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Картинка 5 из 16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08720" y="981000"/>
            <a:ext cx="1511280" cy="230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юбкa"/>
          <p:cNvPicPr/>
          <p:nvPr/>
        </p:nvPicPr>
        <p:blipFill>
          <a:blip r:embed="rId8"/>
          <a:stretch/>
        </p:blipFill>
        <p:spPr>
          <a:xfrm>
            <a:off x="6156360" y="4365720"/>
            <a:ext cx="1463760" cy="2236680"/>
          </a:xfrm>
          <a:prstGeom prst="rect">
            <a:avLst/>
          </a:prstGeom>
          <a:ln w="0">
            <a:noFill/>
          </a:ln>
        </p:spPr>
      </p:pic>
      <p:grpSp>
        <p:nvGrpSpPr>
          <p:cNvPr id="84" name="Группа 10"/>
          <p:cNvGrpSpPr/>
          <p:nvPr/>
        </p:nvGrpSpPr>
        <p:grpSpPr>
          <a:xfrm>
            <a:off x="1835280" y="4365720"/>
            <a:ext cx="4214520" cy="2016000"/>
            <a:chOff x="1835280" y="4365720"/>
            <a:chExt cx="4214520" cy="2016000"/>
          </a:xfrm>
        </p:grpSpPr>
        <p:pic>
          <p:nvPicPr>
            <p:cNvPr id="85" name="Picture 2" descr="Картинка 12 из 64000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4852800" y="4365720"/>
              <a:ext cx="1197000" cy="20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Картинка 42 из 64000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3598200" y="4365720"/>
              <a:ext cx="13086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Картинка 44 из 64000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1835280" y="4365720"/>
              <a:ext cx="1760760" cy="2012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1T11:42:54Z</dcterms:created>
  <dc:creator>User</dc:creator>
  <dc:description/>
  <dc:language>en-US</dc:language>
  <cp:lastModifiedBy>оксана</cp:lastModifiedBy>
  <dcterms:modified xsi:type="dcterms:W3CDTF">2017-02-16T17:12:42Z</dcterms:modified>
  <cp:revision>31</cp:revision>
  <dc:subject/>
  <dc:title>Слайд 1</dc:title>
</cp:coreProperties>
</file>