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423-94FA-426A-B36E-C18E88FD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0C2-1ECE-42D9-A266-BBF39C26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77D-2B49-43E9-B93A-5AD63251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D13-0B2B-44BE-8F7F-D71EDBDD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A3E-9D17-4D55-A480-42E3E0C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9E15-9D36-4FA4-AEA1-5ED2439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71A-F715-4E83-ACF0-7C795E72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14C9-7BFC-4D9E-8375-EA214EDB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FBEC-F6D4-4F73-9C9F-1873C797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225-0B88-4226-8C79-B436083B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B28-E307-461B-838C-1227715D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9A1-AD81-4316-B43D-55C2F9C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B60-B26C-41DC-A8E1-CCAA1CC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433-F584-4126-8AE0-C66FE8E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4C5-1380-4668-9897-02FA6347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E7E-AAA4-47BE-B3CF-8027B692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D695-C858-4B5A-B83E-93CE4A77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9B2E-DBB2-46F0-9F2E-8369F5F6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19ED-AEF7-4816-9E14-06253EF5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A520-8A08-4FE7-BE9D-6000297B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69FE-7789-4801-A2D9-399538B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3F02-E5CC-44AF-8C79-C23209D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2ED-CAC5-474D-96C3-B50635D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B8A7-58DF-43DC-B02E-BF55D745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A750-9709-4A6F-9EA9-91D60B5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C8D7-327F-4294-B60B-FE91E2A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AED2-4039-4FFF-8BF8-367BABB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87E6-BA75-4AC3-89C7-7BE1A22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3159-BDB5-4392-B375-85BF5327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B46B-A494-4207-8687-E665B337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BD4C-F188-4B4C-B36B-5B7FE1F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66D81-89B2-4E6C-9FA9-ACCB277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E07C-3957-4CFB-A7E3-24FC48E1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2CE-386F-405D-9364-CCFB3EE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4A7D-45E1-4CA4-8ADB-623C443F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9BC3-E17F-4830-B0B9-98AB3AD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1949-4BF7-403E-B67B-4EE3445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73AA-523E-4B81-BD6C-DEE2E7D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1A0C-137B-430C-9E97-AF9B87F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4F3E-3B0A-4F18-A95E-1CDE86E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EBE8-C0AC-4195-BAF8-9F40F4B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A7B1-B66B-47FB-B0F5-2ACDDDE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0B12-8F1E-4D7C-8B4B-FC2F2F8F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DE13-1947-44F4-8121-99EC2C78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880-72A4-45E0-A796-083287AF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9827-797D-49AC-8959-083B6A4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CEC1-4BDF-4698-BA0D-E6B762A0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CEAB-A568-494C-A2B3-97E0D3D1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F4CF-31A8-4BE4-8070-39585C8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4B78-4FA6-421C-A1E2-7CDDF9DF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455C4-5296-4776-9D19-67FECAF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72D0-357D-4283-96B2-8176927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3A20-A466-4FFC-BCBF-407ED4E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E839-34CA-49F4-8A75-C3E1044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8470-A7BF-48E9-842D-BA9D5C65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786-07BE-4D1A-B897-9C7C60AD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6D59-1531-483F-818E-4FE2ACD3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85A4-3C6B-46A5-A4C9-55165848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6D32-A09A-4612-8279-E8E22D6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F122-7697-49A6-9779-88A143F2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5C6B-0E16-410D-B89B-A7BF0332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3782-E244-4E74-B2BF-46FFE55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ECF6-3FA1-488B-A9A2-E958A57F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5926-63C1-458B-B6E8-7564A11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8D52-7FDF-4F95-90DF-EF4BAD3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E0169-1D91-457E-9336-FC9ADF9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FDB-75D9-4DAF-92F0-70E6E28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EAF9-323C-479D-9185-CCDBDF9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56A4-95D6-4973-A62D-5CEEDE4E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9537-3CEA-4018-81E5-ADFF6EAC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21A0A-7816-4A9F-824B-0BD1903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9A64C-A804-429A-987E-5A1B110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091F-12C0-4046-89FD-2049874E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2EE6-2338-4E5E-B3AB-D9FD436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E0C5-9365-402F-910F-05FFD4B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DD37F-AA36-4A7B-8144-E67EFAC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DFAE-83F8-413F-ACE1-D50CC65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AFF-9ED1-42A0-B9D8-664F958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F9E19-AC21-450D-BF1D-8F3466F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A1FD-A78F-46FB-973D-1A6F014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95A8-21C9-401E-B46C-350F3B9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66793-4B07-4F2B-ACD3-DA3B4B62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878F-9D0C-4D31-B643-F3C6E67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360-21F4-4E2E-AC6F-0315E2D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D84-C365-4935-B74D-81B7D73248AF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4613-469B-4105-B476-7041AFCF3D07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dedee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dedee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D284-7C7E-407D-845F-6AE59C37BD50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FB0-0993-43ED-BF55-35BF68ABD36B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A35F-BE38-42EA-9E68-735E3F045CCB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7873-ECA1-44DB-9F9A-6047EA3E3E2A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20101"/>
              </a:gs>
              <a:gs pos="100000">
                <a:srgbClr val="fe3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dedee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dedee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0303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70A-C9D9-43BD-9C04-76A1DDAF0923}" type="slidenum">
              <a:rPr b="0" lang="ru-RU" sz="1000" spc="-1" strike="noStrike">
                <a:solidFill>
                  <a:srgbClr val="30303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Игровая технология 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на уроках физической культур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755640" y="18550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611"/>
                </a:solidFill>
                <a:latin typeface="Times New Roman"/>
              </a:rPr>
              <a:t>«Каков ребенок в игре, таков во мног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611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611"/>
                </a:solidFill>
                <a:latin typeface="Times New Roman"/>
              </a:rPr>
              <a:t>он будет в работе,  когда вырастет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11"/>
                </a:solidFill>
                <a:latin typeface="Times New Roman"/>
              </a:rPr>
              <a:t>А.С. Макарен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2217600" y="4563000"/>
            <a:ext cx="609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 учитель физической культ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лицей «Экос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рипников Виктор Тимофее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людать правила игры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ику безопасности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одить игру с дидактической направленностью.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Чтобы игра приносила пользу,  следует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4" descr="11"/>
          <p:cNvPicPr/>
          <p:nvPr/>
        </p:nvPicPr>
        <p:blipFill>
          <a:blip r:embed="rId1"/>
          <a:stretch/>
        </p:blipFill>
        <p:spPr>
          <a:xfrm>
            <a:off x="4788000" y="2060640"/>
            <a:ext cx="36716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должна давать новые понятия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гре должны развиваться способности правильно оценивать пространственные и временные отношения , быстро реагировать на часто меняющуюся обстановку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дактическое и двигательное содержание игры должно соответствовать особенностям программного материала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пень сложности игры должна соответствовать усвоенным умениям и навыкам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imes New Roman"/>
              </a:rPr>
              <a:t>Требования к отбору игр:</a:t>
            </a:r>
            <a:r>
              <a:rPr b="0" lang="ru-RU" sz="4400" spc="-1" strike="noStrike">
                <a:solidFill>
                  <a:srgbClr val="00ff00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23640" y="1844640"/>
            <a:ext cx="641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ростота и доступность.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Ребенок  -  активный участник игры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Безопасность используемого инвентаря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Игра не должна унижать достоинства играющих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и проведении игры необходимо соблюдать следующие правила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4" descr="12"/>
          <p:cNvPicPr/>
          <p:nvPr/>
        </p:nvPicPr>
        <p:blipFill>
          <a:blip r:embed="rId1"/>
          <a:stretch/>
        </p:blipFill>
        <p:spPr>
          <a:xfrm>
            <a:off x="6659640" y="2060640"/>
            <a:ext cx="1968480" cy="1944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6"/>
          <p:cNvPicPr/>
          <p:nvPr/>
        </p:nvPicPr>
        <p:blipFill>
          <a:blip r:embed="rId2"/>
          <a:stretch/>
        </p:blipFill>
        <p:spPr>
          <a:xfrm>
            <a:off x="6732720" y="4653000"/>
            <a:ext cx="1942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99640" y="112536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03030"/>
                </a:solidFill>
                <a:uFillTx/>
                <a:latin typeface="Candara"/>
              </a:rPr>
              <a:t>Игра «Бильбоке»</a:t>
            </a:r>
            <a:br>
              <a:rPr sz="2800"/>
            </a:br>
            <a:r>
              <a:rPr b="0" i="1" lang="ru-RU" sz="2800" spc="-1" strike="noStrike">
                <a:solidFill>
                  <a:srgbClr val="303030"/>
                </a:solidFill>
                <a:latin typeface="Candara"/>
              </a:rPr>
              <a:t>Игра развивает</a:t>
            </a: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:</a:t>
            </a: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 точность и глазомер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   </a:t>
            </a:r>
            <a:r>
              <a:rPr b="1" lang="ru-RU" sz="2800" spc="-1" strike="noStrike" u="sng">
                <a:solidFill>
                  <a:srgbClr val="303030"/>
                </a:solidFill>
                <a:uFillTx/>
                <a:latin typeface="Candara"/>
              </a:rPr>
              <a:t>Игра «Бег с картофелиной»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Candara"/>
              </a:rPr>
              <a:t>Игра развивает</a:t>
            </a: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:</a:t>
            </a: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 координацию движений, скорость, глазомер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    </a:t>
            </a:r>
            <a:r>
              <a:rPr b="1" lang="ru-RU" sz="2800" spc="-1" strike="noStrike" u="sng">
                <a:solidFill>
                  <a:srgbClr val="303030"/>
                </a:solidFill>
                <a:uFillTx/>
                <a:latin typeface="Candara"/>
              </a:rPr>
              <a:t>Игра «Тягач»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Candara"/>
              </a:rPr>
              <a:t>Игра развивает</a:t>
            </a: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:</a:t>
            </a: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 командный дух, тактику, силу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    </a:t>
            </a:r>
            <a:r>
              <a:rPr b="1" lang="ru-RU" sz="2800" spc="-1" strike="noStrike" u="sng">
                <a:solidFill>
                  <a:srgbClr val="303030"/>
                </a:solidFill>
                <a:uFillTx/>
                <a:latin typeface="Candara"/>
              </a:rPr>
              <a:t>Игра «Жмурки-носилки»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Candara"/>
              </a:rPr>
              <a:t>Игра развивает</a:t>
            </a:r>
            <a:r>
              <a:rPr b="1" lang="ru-RU" sz="2800" spc="-1" strike="noStrike">
                <a:solidFill>
                  <a:srgbClr val="303030"/>
                </a:solidFill>
                <a:latin typeface="Candara"/>
              </a:rPr>
              <a:t>:</a:t>
            </a:r>
            <a:r>
              <a:rPr b="0" lang="ru-RU" sz="2800" spc="-1" strike="noStrike">
                <a:solidFill>
                  <a:srgbClr val="303030"/>
                </a:solidFill>
                <a:latin typeface="Candara"/>
              </a:rPr>
              <a:t> тактику, стратегическое мышление, координацию в пространстве, скорость реакции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ndara"/>
              </a:rPr>
              <a:t>Эффективные игр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ровая  технология – это один из качественных методов, при умелом использовании которого можно добиться большей эффективности урока.</a:t>
            </a:r>
            <a:endParaRPr b="0" lang="en-US" sz="40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2" descr="G:\Учитель 2015\человечки\1.jpg"/>
          <p:cNvPicPr/>
          <p:nvPr/>
        </p:nvPicPr>
        <p:blipFill>
          <a:blip r:embed="rId1"/>
          <a:stretch/>
        </p:blipFill>
        <p:spPr>
          <a:xfrm>
            <a:off x="6732720" y="5013360"/>
            <a:ext cx="1450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Игровая</a:t>
            </a:r>
            <a:r>
              <a:rPr b="0" lang="ru-RU" sz="4000" spc="-1" strike="noStrike">
                <a:solidFill>
                  <a:srgbClr val="00ff00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технология – это уникальная форма обучени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-игра – это  увлекательное познание.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гре ребенок открывает свои умения, узнает окружающий его мир и свое место в нем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pic>
        <p:nvPicPr>
          <p:cNvPr id="340" name="Picture 8" descr="7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00"/>
                </a:solidFill>
                <a:latin typeface="Times New Roman"/>
              </a:rPr>
              <a:t>Игры на уроках выступают как средство побуждения, стимулирования учащихся к учебной деятельности.</a:t>
            </a:r>
            <a:r>
              <a:rPr b="0" lang="ru-RU" sz="3600" spc="-1" strike="noStrike">
                <a:solidFill>
                  <a:srgbClr val="00ff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чебная деятельность подчиняется правилам игры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чебный материал используется в качестве его средства,  в учебную деятельность вводится элемент соревнования, который переводит дидактическую задачу в игровую;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спешное выполнение дидактического задания связывается с результатом игры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16720" y="1904760"/>
            <a:ext cx="369720" cy="83880"/>
          </a:xfrm>
          <a:prstGeom prst="rect">
            <a:avLst/>
          </a:prstGeom>
          <a:noFill/>
          <a:ln w="0">
            <a:noFill/>
          </a:ln>
        </p:spPr>
        <p:txBody>
          <a:bodyPr tIns="38160" bIns="38160" anchor="t">
            <a:normAutofit/>
          </a:bodyPr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00"/>
                </a:solidFill>
                <a:latin typeface="Times New Roman"/>
              </a:rPr>
              <a:t>Подвижные игры - это доступный и очень эффективный метод воздействия на ребенка.</a:t>
            </a:r>
            <a:r>
              <a:rPr b="0" lang="ru-RU" sz="3600" spc="-1" strike="noStrike">
                <a:solidFill>
                  <a:srgbClr val="00ff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гре используются естественные движения  в развлекательной ненавязчивой форме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й признак подвижных игр - наличие двигательных действий, благодаря чему они являются отличным средством и методом физического развития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pic>
        <p:nvPicPr>
          <p:cNvPr id="346" name="Picture 7" descr="8"/>
          <p:cNvPicPr/>
          <p:nvPr/>
        </p:nvPicPr>
        <p:blipFill>
          <a:blip r:embed="rId1"/>
          <a:stretch/>
        </p:blipFill>
        <p:spPr>
          <a:xfrm>
            <a:off x="4933800" y="2660760"/>
            <a:ext cx="346716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0ff00"/>
                </a:solidFill>
                <a:latin typeface="Times New Roman"/>
              </a:rPr>
              <a:t>Подвижные игры развивают</a:t>
            </a:r>
            <a:r>
              <a:rPr b="0" lang="ru-RU" sz="4400" spc="-1" strike="noStrike">
                <a:solidFill>
                  <a:srgbClr val="00ff00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Физические  качества: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ыстрота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ила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ловкость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ыносливость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гибкость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0700"/>
                </a:solidFill>
                <a:latin typeface="Times New Roman"/>
              </a:rPr>
              <a:t>Интеллектуальные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0700"/>
                </a:solidFill>
                <a:latin typeface="Times New Roman"/>
              </a:rPr>
              <a:t>качества: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амять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блюдательность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ообразительность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pic>
        <p:nvPicPr>
          <p:cNvPr id="350" name="Picture 7" descr="G:\Учитель 2015\человечки\12.jpg"/>
          <p:cNvPicPr/>
          <p:nvPr/>
        </p:nvPicPr>
        <p:blipFill>
          <a:blip r:embed="rId1"/>
          <a:stretch/>
        </p:blipFill>
        <p:spPr>
          <a:xfrm>
            <a:off x="5292720" y="4869000"/>
            <a:ext cx="2158920" cy="166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6840" y="1905120"/>
            <a:ext cx="47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бенок 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мыслит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мгновенно реагирует на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ействия соперника и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артнера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выбирает из множества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ействий одно, которое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иболее целесообразно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В игре развиваются познавательные процесс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5" descr="9"/>
          <p:cNvPicPr/>
          <p:nvPr/>
        </p:nvPicPr>
        <p:blipFill>
          <a:blip r:embed="rId1"/>
          <a:stretch/>
        </p:blipFill>
        <p:spPr>
          <a:xfrm>
            <a:off x="5076720" y="1844640"/>
            <a:ext cx="37432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как элементы более обширной технологии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в качестве урока или его части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как технология внеклассной работы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Игровая деятельность используется</a:t>
            </a: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я физических качеств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ации и совершенствовании основных психических процессов.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4" descr="8"/>
          <p:cNvPicPr/>
          <p:nvPr/>
        </p:nvPicPr>
        <p:blipFill>
          <a:blip r:embed="rId1"/>
          <a:stretch/>
        </p:blipFill>
        <p:spPr>
          <a:xfrm>
            <a:off x="4859280" y="1989000"/>
            <a:ext cx="352260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Игра – жизненно важная потребность детей!!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способствует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стороннему физическому и умственному развитию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ю морально - волевых качеств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еплению организма ребенка.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67280" y="1904760"/>
            <a:ext cx="461952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ется ориентировка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странстве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ординация;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ad0101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атываются и закрепляются движения. </a:t>
            </a:r>
            <a:endParaRPr b="0" lang="en-US" sz="2800" spc="-1" strike="noStrike">
              <a:solidFill>
                <a:srgbClr val="303030"/>
              </a:solidFill>
              <a:latin typeface="Candara"/>
            </a:endParaRPr>
          </a:p>
        </p:txBody>
      </p:sp>
      <p:pic>
        <p:nvPicPr>
          <p:cNvPr id="362" name="Picture 8" descr="2"/>
          <p:cNvPicPr/>
          <p:nvPr/>
        </p:nvPicPr>
        <p:blipFill>
          <a:blip r:embed="rId1"/>
          <a:stretch/>
        </p:blipFill>
        <p:spPr>
          <a:xfrm>
            <a:off x="4284720" y="4429080"/>
            <a:ext cx="374328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1:00:52Z</dcterms:created>
  <dc:creator>C-Sportzal</dc:creator>
  <dc:description/>
  <dc:language>en-US</dc:language>
  <cp:lastModifiedBy>1111</cp:lastModifiedBy>
  <dcterms:modified xsi:type="dcterms:W3CDTF">2018-01-25T10:19:25Z</dcterms:modified>
  <cp:revision>20</cp:revision>
  <dc:subject/>
  <dc:title>Использование игровой технологии  на уроках физической культуры.</dc:title>
</cp:coreProperties>
</file>