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BC03-2A80-42F9-BB68-E8A21B79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D835-E154-4742-B599-B3DF07E5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F12A-2592-4FE4-AF35-B980EE77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1985-A1BF-4D58-B7EE-0F5F350A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4D35-F009-4559-938B-E5F6166C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3D9D-4BFD-4471-A60B-F98D20A4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6463-1195-4952-92B6-CEAFF606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8F2E-3DD3-4473-B7E8-2E22F998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83A7-A38A-494A-BB51-D905406B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14A3-AB40-4488-99FE-FB8C8D1B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8242-C9E4-4BAA-BC5F-2A60E1FD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7FF3-2B9B-4C7D-AE96-8E8450D9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F995-9485-40E1-A018-D7A99483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E26A-1265-40BC-B0D8-C5116638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63FD-348F-4404-AED0-F79CE4D6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415E-8D33-4767-8DF6-4AD9E09C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2D4D-B562-4981-B662-718614AA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E1B4-53F1-4B3A-87D7-AAE1F80E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27D7-45AB-4CDA-9D7D-3077522A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77BD-5F59-41F0-BC3A-93F7566E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E861-AD9C-4784-88C2-83A800A7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CC0C-C03C-4BDD-AB2D-444C1920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86F9-F113-47A0-A99D-9FA86443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B336-7981-4ACA-8C12-2D3FB8F6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6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C6A5-0B26-4419-951D-D29C4F4257A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6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7733-F786-4A63-99B7-5CA92EC2195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Учитель: Доценко О.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ГБОУ Школа № 1560 «Лидер», Моск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Современные  педагогические  технологии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зноуровневое обу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дача – предоставить достаточно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можностей для отработки 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крепления материала учащимся с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личными познавательными стилями 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сихологическими особенностями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через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разноуровневые задания и упражн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ульное обу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подавать материал как логически завершенные части целого, помочь учащимся выработать алгоритм учебных действий, дать возможность учителю гибко подходить к обучению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достаточность разделов/модул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ценивание в конце каждого раздела/модул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нформационно-коммуникационные технолог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Задач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- реализовать в полной мере личностно-ориентированный  подход в обучении иностранным языкам, обеспечивая дифференциацию обучения, содействуя активизации его познавательной деятельности, повышая мотивацию учащихся к изучению иностранных языков путе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тбора содержания обучения, адекватного поставленным целя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ведения и тренировки отобранного содержания в учебный   процесс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нтроля обученности на различных этапах обучения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ариативности организационных форм обучения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владения новыми способами уче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доровьсберегающие технолог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565000"/>
            <a:ext cx="7693200" cy="35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тимизация учебного процесса с целью укрепления и развития здоровья школьников (смена видов деятельности на уроке, физкультминутки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нижение негативных факторов интенсивной учебной нагрузки за счет оптимизации учебного процесс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ртфолио учащегос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редство самооценки учащего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льтернативный способ оценки деятельности учащего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редство  мотивации самостоятельной учебной деятель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ути повышения эффективности обучения 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Organization Chart 4"/>
          <p:cNvGrpSpPr/>
          <p:nvPr/>
        </p:nvGrpSpPr>
        <p:grpSpPr>
          <a:xfrm>
            <a:off x="838080" y="2362320"/>
            <a:ext cx="7692120" cy="3723480"/>
            <a:chOff x="838080" y="2362320"/>
            <a:chExt cx="7692120" cy="3723480"/>
          </a:xfrm>
        </p:grpSpPr>
        <p:cxnSp>
          <p:nvCxnSpPr>
            <p:cNvPr id="99" name="_s1028"/>
            <p:cNvCxnSpPr>
              <a:stCxn id="100" idx="1"/>
              <a:endCxn id="101" idx="2"/>
            </p:cNvCxnSpPr>
            <p:nvPr/>
          </p:nvCxnSpPr>
          <p:spPr>
            <a:xfrm rot="10800000">
              <a:off x="3144960" y="3038400"/>
              <a:ext cx="769680" cy="270900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02" name="_s1029"/>
            <p:cNvCxnSpPr>
              <a:stCxn id="103" idx="1"/>
              <a:endCxn id="101" idx="2"/>
            </p:cNvCxnSpPr>
            <p:nvPr/>
          </p:nvCxnSpPr>
          <p:spPr>
            <a:xfrm rot="10800000">
              <a:off x="3144960" y="3038400"/>
              <a:ext cx="769680" cy="169344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04" name="_s1030"/>
            <p:cNvCxnSpPr>
              <a:stCxn id="105" idx="1"/>
              <a:endCxn id="101" idx="2"/>
            </p:cNvCxnSpPr>
            <p:nvPr/>
          </p:nvCxnSpPr>
          <p:spPr>
            <a:xfrm rot="10800000">
              <a:off x="3144960" y="3038400"/>
              <a:ext cx="769680" cy="67752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101" name="_s1031"/>
            <p:cNvSpPr/>
            <p:nvPr/>
          </p:nvSpPr>
          <p:spPr>
            <a:xfrm>
              <a:off x="838080" y="2362320"/>
              <a:ext cx="4615200" cy="6768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Повышение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эффективности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_s1032"/>
            <p:cNvSpPr/>
            <p:nvPr/>
          </p:nvSpPr>
          <p:spPr>
            <a:xfrm>
              <a:off x="3915000" y="3377880"/>
              <a:ext cx="4615200" cy="6768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Личность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учителя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_s1033"/>
            <p:cNvSpPr/>
            <p:nvPr/>
          </p:nvSpPr>
          <p:spPr>
            <a:xfrm>
              <a:off x="3915000" y="4393440"/>
              <a:ext cx="4615200" cy="6768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Средства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обучения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_s1034"/>
            <p:cNvSpPr/>
            <p:nvPr/>
          </p:nvSpPr>
          <p:spPr>
            <a:xfrm>
              <a:off x="3915000" y="5409000"/>
              <a:ext cx="4615200" cy="6768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Технологии обучения ИЯ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Личностно-ориентированное обучен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ченик – центр процесса обуч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чет личностных особенностей учащегося (психологических, физиологических, способностей, сферы интересов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читель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помогает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ченик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дагогические технолог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 Narrow"/>
              </a:rPr>
              <a:t>Обучение в сотрудничеств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 Narrow"/>
              </a:rPr>
              <a:t>Использование проек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 Narrow"/>
              </a:rPr>
              <a:t>Разноуровневое обуче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 Narrow"/>
              </a:rPr>
              <a:t>Модульное обуче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 Narrow"/>
              </a:rPr>
              <a:t>ИК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 Narrow"/>
              </a:rPr>
              <a:t>Игровые технологии (нетрадиционные формы обучения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 Narrow"/>
              </a:rPr>
              <a:t>Здоровьесберегающие технолог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 Narrow"/>
              </a:rPr>
              <a:t>Портфолио учени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9520" y="839880"/>
            <a:ext cx="776916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Игровые технологии: нетрадиционные формы организации УВП по А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дача – формировать необходимые коммуникативные навыки, устанавливать доверительную атмосферу, обучать самостоятельной работе и формировать правильную самооценк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г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рабатывает навыки речевого взаимодейств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веряет прочность усвоения пройденного материал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ормирует социокультурные представления  о культуре страны изучаемого язы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лужит основой для проведения праздников на 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бучение в сотрудничеств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Задача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создать условия для активной совместной учебной деятельности учащихся в разных учебных ситуация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бота в микрогруппах (по 3-4 ученика, где есть и сильный, и слабый и средний ученик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дно общее задани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оли для выполнения этого задания дети распределяют сами либо с подсказки учител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ждый ученик отвечает за результат и своей работы, и всей группы, оценивать можно и усилия учащихся, и личный прогресс каждог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ценка – одна на всю групп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итель сам выбирает, кто из группы отчитается за задани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 проект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дача -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учить детей применять знания на практике, решать проблемы, оформлять результаты работы в соответствии с требованиями (жанра, учителя, аудитории и т.д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использовать знания языка и развивать  умения оценивать информацию, решать проблемы, развивать коммуникативные ум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ипы проект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сследовательский (мини-исследование с соответствующей структурой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ворческий (в определенном жанре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олевой (ролево-игровой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нформационный (сбор информации и представление ее аудитори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актико-ориентированный (результат соответствует реальной потребности и может быть применен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7:25:01Z</dcterms:created>
  <dc:creator>татьяна</dc:creator>
  <dc:description/>
  <dc:language>en-US</dc:language>
  <cp:lastModifiedBy>user</cp:lastModifiedBy>
  <dcterms:modified xsi:type="dcterms:W3CDTF">2018-01-22T19:10:01Z</dcterms:modified>
  <cp:revision>10</cp:revision>
  <dc:subject/>
  <dc:title>технологии</dc:title>
</cp:coreProperties>
</file>