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6AA-EB2D-4894-BADB-70FEA489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2AB-FBB0-4CFD-A551-07629E9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0BE-B538-4DC3-8B55-9C96FB19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357-8D28-42FD-ADAC-BC8EF202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ABF-1A3D-49CC-B4CC-1F7743C0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6EA-D095-414A-B30C-632A776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390B-7A35-4371-8DEB-E5AA6487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3F5-3F2A-41ED-98D7-958B92AA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220E-712A-4A80-82A5-7730B69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53AC-5E48-4276-887C-CAB0BDE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0866-629C-4D1E-8979-10D1B37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B51-02A7-42FC-A35E-39EE8F6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8BF-EAA4-42A3-8221-76DFB69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E8CA-5D7B-4A92-855E-23D2FD4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A21-471C-4A94-B3F8-DAFDB3E3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570B-E69E-4107-B54E-80D58796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27E8-9272-472A-AF68-F50D22FF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07C-F778-46FA-BDA9-444EB82B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E2F-83B0-4C09-8E91-826AD17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2BE-9169-4A4D-9B54-3050518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389-DA3F-40C1-A3D7-013C5F14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990-D4E5-4E11-A39F-0A9DAA4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610-DFF4-434A-97A9-B08A642F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932-983B-4B79-A1A0-3A7B55F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CC93-E5C5-4E4A-8DE9-8770F4F2F3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eaeaea"/>
                </a:solidFill>
                <a:latin typeface="Bookman Old Style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19E-B3BA-492E-8960-A89F6888AF2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rlocutor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Good morning. My name is…. And this is my colleague …. And your names are …? Can I have your mark sheets, please? Thank you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irst of all, we’d like to know something about you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lect one or two questions and ask candidates in tur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ere are you from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at do you do here / ther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w long have you been learning English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at do you enjoy most about learning English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1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 minu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1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 minu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Black"/>
              </a:rPr>
              <a:t>Select one or more questions from any of the following categori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1. Hopes and dreams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 you like to make lots of plans for the future?... (Why? / Why not?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 most of your friends have similar hopes and dreams to yours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 you think you are going to need a lot of money to achieve your goals in life?  …. (Why? / Why not?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 you think any of your childhood dreams will ever come true? … (Why? / Why not?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2. Life in your countr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ow do you celebrate special occasions in Russia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What kind of leisure are popular in Russia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ow important is it to learn English in Russia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What would be the best way for visitors to learn about Russia?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2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 minu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rlocutor: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this part of the test, I’m going to give each of you three pictures. I’d like you to talk about them on your own for about a minute, and also to answer a question briefly about your partner’s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ndidate 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, it’s your turn first. Here are your pictures. They show </a:t>
            </a:r>
            <a:r>
              <a:rPr b="0" lang="en-US" sz="24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people communicating with others in different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’d like you to compare </a:t>
            </a:r>
            <a:r>
              <a:rPr b="0" lang="en-US" sz="20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two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f the pictures, and say </a:t>
            </a:r>
            <a:r>
              <a:rPr b="0" lang="en-US" sz="20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why people might have chosen to communicate in these ways, and what the advantages might b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ndidate 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,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ich way of communicating do you think is the most effective? …. (Why? 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143920" cy="135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te 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eo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le communicating in different ways</a:t>
            </a:r>
            <a:br>
              <a:rPr sz="24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Содержимое 3" descr="1.JPG"/>
          <p:cNvPicPr/>
          <p:nvPr/>
        </p:nvPicPr>
        <p:blipFill>
          <a:blip r:embed="rId1"/>
          <a:stretch/>
        </p:blipFill>
        <p:spPr>
          <a:xfrm>
            <a:off x="1395360" y="1600200"/>
            <a:ext cx="635328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2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 minu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ndidate 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, here are your pictures. They show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eople having fun in different situ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’d like you to compare two of the pictures, and say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at the people are enjoying about these situations, and how memorable the experiences might 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All right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ndidate 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o do you think is enjoying the experience most? …. (Why? 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te B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. 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ople having fun in different situ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Содержимое 3" descr="2.JPG"/>
          <p:cNvPicPr/>
          <p:nvPr/>
        </p:nvPicPr>
        <p:blipFill>
          <a:blip r:embed="rId1"/>
          <a:stretch/>
        </p:blipFill>
        <p:spPr>
          <a:xfrm>
            <a:off x="1787400" y="1600200"/>
            <a:ext cx="556920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3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4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minu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rlocutor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w, I’d like you to talk about something together for about three minut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ere are some pictures showing 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different situations in which people are learning thing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irst, talk to each other about 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the advantages and disadvantages of learning things in these situ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Then decide 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  <a:ea typeface="Times New Roman"/>
              </a:rPr>
              <a:t>which learning experience might be the most valuable.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righ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Different situations in which people are learning thing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Содержимое 3" descr="3.JPG"/>
          <p:cNvPicPr/>
          <p:nvPr/>
        </p:nvPicPr>
        <p:blipFill>
          <a:blip r:embed="rId1"/>
          <a:stretch/>
        </p:blipFill>
        <p:spPr>
          <a:xfrm>
            <a:off x="1427040" y="1600200"/>
            <a:ext cx="628992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Black"/>
              </a:rPr>
              <a:t>Speaking Test: </a:t>
            </a:r>
            <a:r>
              <a:rPr b="1" lang="en-US" sz="3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Part 4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uration: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4</a:t>
            </a:r>
            <a:r>
              <a:rPr b="0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minut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elect any of the following question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 you think that schools and colleges do enough to motivate students to learn?... (Why? / Why not?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 you think it’s a good idea for students to leave home to study at a college or university?... (Why? / Why not?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this technological age, do you think there is a future for books in education?... (Why? / Why not?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6:21:39Z</dcterms:created>
  <dc:creator>пивоварова</dc:creator>
  <dc:description/>
  <dc:language>en-US</dc:language>
  <cp:lastModifiedBy>User</cp:lastModifiedBy>
  <dcterms:modified xsi:type="dcterms:W3CDTF">2018-01-25T15:21:15Z</dcterms:modified>
  <cp:revision>503</cp:revision>
  <dc:subject/>
  <dc:title>Философско-лингвистическая и культурно-историческая концепция языка В. фон. Гумбольдта. Ее отражение в последующей эпохи</dc:title>
</cp:coreProperties>
</file>