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9704-9C97-49F1-ACFA-F51AC02FB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881-CEB1-4E99-B54F-AFBA721CC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BDFB-8EAC-4708-8BFE-14B54F50A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4F69-1EB7-4FDF-A85A-B6D42DADB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200-DDAD-4ACD-A4BD-E838879FF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80C6-640A-4EF9-BF87-313E36DAD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0F4-5B29-4A93-8019-68155AA5D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9036-BFDC-40A7-ACEA-5577748E3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9907-2DD9-4362-B5B7-C2EEEA398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3CA2-1A2D-4D57-ADE6-9F6B50F38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094-90C6-42C3-9871-924D2D3AA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D6C1-B5EC-4E3F-B5C3-7AC30D20C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4B0-4BF9-45C6-BD10-28DC6BF00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7DF3-11A1-4B38-9AC4-56328B5AD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3DC-CBDF-4302-92C1-5CED287BE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EF81-BB49-4288-8CC6-ECB6E9310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C0C4-8A8C-45AD-BAAE-20C1DF32F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DB6-86B4-4E01-80FB-6E3C67AEC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952-9E78-4401-8ED6-E322271C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639-EA4B-4308-9C2B-2E2E68B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2D6-7EF8-41ED-9C62-FB2A830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B79-6263-4882-A50B-91921C95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C47-73B3-4950-A581-48AADDB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C18-A128-437C-89C3-2D8068C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AAF-CF10-4279-BBF0-C055B89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346-04F7-4F8D-8FFE-E5085E4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2CE-BC41-4EA5-B858-2D754273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060-088A-4223-A25D-E0F9C24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D90-8641-4929-8DE5-CF86508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BD6-3C72-4D5A-9AE5-DD047D1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434-D1FF-496F-82AA-6E307B7C1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GE011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260280"/>
            <a:ext cx="91440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олерантность – это касается кажд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Социальный педагог МОУ «СОШ №16 г.Вольска» Челобано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857160" y="642960"/>
            <a:ext cx="742968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571680" y="52862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и способствуют: знания, открытость, общение и свобода мыслей, совести, убе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315200" cy="5022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810080" y="578736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се – мы разные, все мы – рав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1571760" y="2000160"/>
            <a:ext cx="6143400" cy="4354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714240" y="50004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ыть толерантным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 означает уважать других, невзирая на различия. Это означает быть внимательным к другим и обращать внимание на то, что нас сбли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p_tolerance-big"/>
          <p:cNvPicPr/>
          <p:nvPr/>
        </p:nvPicPr>
        <p:blipFill>
          <a:blip r:embed="rId1"/>
          <a:stretch/>
        </p:blipFill>
        <p:spPr>
          <a:xfrm>
            <a:off x="468360" y="62064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толерантн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4"/>
          <p:cNvPicPr/>
          <p:nvPr/>
        </p:nvPicPr>
        <p:blipFill>
          <a:blip r:embed="rId1"/>
          <a:stretch/>
        </p:blipFill>
        <p:spPr>
          <a:xfrm>
            <a:off x="468360" y="1197000"/>
            <a:ext cx="2546280" cy="2579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4"/>
          <p:cNvPicPr/>
          <p:nvPr/>
        </p:nvPicPr>
        <p:blipFill>
          <a:blip r:embed="rId2"/>
          <a:stretch/>
        </p:blipFill>
        <p:spPr>
          <a:xfrm>
            <a:off x="2411280" y="3716280"/>
            <a:ext cx="1871640" cy="263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aa"/>
          <p:cNvPicPr/>
          <p:nvPr/>
        </p:nvPicPr>
        <p:blipFill>
          <a:blip r:embed="rId3"/>
          <a:stretch/>
        </p:blipFill>
        <p:spPr>
          <a:xfrm>
            <a:off x="5600880" y="1268280"/>
            <a:ext cx="3543120" cy="2400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ew_pa1"/>
          <p:cNvPicPr/>
          <p:nvPr/>
        </p:nvPicPr>
        <p:blipFill>
          <a:blip r:embed="rId4"/>
          <a:stretch/>
        </p:blipFill>
        <p:spPr>
          <a:xfrm>
            <a:off x="3348000" y="1197000"/>
            <a:ext cx="2050920" cy="2579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4"/>
          <p:cNvPicPr/>
          <p:nvPr/>
        </p:nvPicPr>
        <p:blipFill>
          <a:blip r:embed="rId5"/>
          <a:stretch/>
        </p:blipFill>
        <p:spPr>
          <a:xfrm>
            <a:off x="5219640" y="3933720"/>
            <a:ext cx="32068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визы толеран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за всех и все за одн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й себ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будь мстительны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е пряников, чем кнут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помохай ручкой"/>
          <p:cNvPicPr/>
          <p:nvPr/>
        </p:nvPicPr>
        <p:blipFill>
          <a:blip r:embed="rId1"/>
          <a:stretch/>
        </p:blipFill>
        <p:spPr>
          <a:xfrm>
            <a:off x="4859280" y="4437000"/>
            <a:ext cx="18734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enc_2380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37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 rot="19611000">
            <a:off x="0" y="177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357200" y="3357720"/>
            <a:ext cx="12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Уважение прав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 rot="1734000">
            <a:off x="1761120" y="2879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про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 rot="1734000">
            <a:off x="1929600" y="2349000"/>
            <a:ext cx="11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состр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 rot="3123000">
            <a:off x="2623680" y="1685160"/>
            <a:ext cx="131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rot="1734000">
            <a:off x="5284440" y="4167720"/>
            <a:ext cx="176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Уважение человеческого достои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 rot="21164400">
            <a:off x="6471360" y="381060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милосерд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 rot="18156600">
            <a:off x="3351600" y="4785480"/>
            <a:ext cx="150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Monotype Corsiva"/>
              </a:rPr>
              <a:t>Принятие другого, таким какой он е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 rot="21339600">
            <a:off x="3584880" y="2606040"/>
            <a:ext cx="243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Monotype Corsiva"/>
              </a:rPr>
              <a:t>Толерант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8" descr=""/>
          <p:cNvPicPr/>
          <p:nvPr/>
        </p:nvPicPr>
        <p:blipFill>
          <a:blip r:embed="rId2"/>
          <a:stretch/>
        </p:blipFill>
        <p:spPr>
          <a:xfrm>
            <a:off x="-23760" y="92160"/>
            <a:ext cx="5040360" cy="17604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1" descr=""/>
          <p:cNvPicPr/>
          <p:nvPr/>
        </p:nvPicPr>
        <p:blipFill>
          <a:blip r:embed="rId3"/>
          <a:stretch/>
        </p:blipFill>
        <p:spPr>
          <a:xfrm>
            <a:off x="743040" y="5321160"/>
            <a:ext cx="8059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3714840" y="3571920"/>
            <a:ext cx="2071440" cy="1892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95280" y="40464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могай себе са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тогда поможет тебе кажды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Ф.Ниц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571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271476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4"/>
          <a:stretch/>
        </p:blipFill>
        <p:spPr>
          <a:xfrm>
            <a:off x="4643280" y="60008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6500880" y="600084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GE011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95280" y="260280"/>
            <a:ext cx="8280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перь, когда мы научилис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тать по воздуху, как птиц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лавать под водой, как рыб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м не хватает только одн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учиться жить на земле, как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16720" y="5445000"/>
            <a:ext cx="19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. 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60720" cy="268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4427640" cy="3040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971640" y="46558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бенок должен воспитываться в духе взаимопонимания, терпимости, дружбы между народами, мира и всеобщего бра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2336760" cy="32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580400" y="5643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ь – путь к миру и согла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3143160" y="1500120"/>
            <a:ext cx="22654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:\Documents and Settings\Aida\Рабочий стол\Рисунок1.jpg"/>
          <p:cNvPicPr/>
          <p:nvPr/>
        </p:nvPicPr>
        <p:blipFill>
          <a:blip r:embed="rId3"/>
          <a:stretch/>
        </p:blipFill>
        <p:spPr>
          <a:xfrm>
            <a:off x="6000840" y="428760"/>
            <a:ext cx="25002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285840" y="3995640"/>
            <a:ext cx="85723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785960" y="71424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2848680" y="2142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Воспитате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еспечивает передачу опыта позитивного социального взаимодействия и опыта человечества в це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является совершенным образцом организации жизнедеятельности в социум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еспечивает успешную социализац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звивает нравственное понимание, сопереживание, умение лояльно оценивать поступки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image033"/>
          <p:cNvPicPr/>
          <p:nvPr/>
        </p:nvPicPr>
        <p:blipFill>
          <a:blip r:embed="rId1"/>
          <a:stretch/>
        </p:blipFill>
        <p:spPr>
          <a:xfrm>
            <a:off x="7451640" y="4508640"/>
            <a:ext cx="10922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Культуросохраняющ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сохранение и преувеличение культурного опыта группы, этноса, обще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:\Documents and Settings\Aida\Рабочий стол\Рисунок5.jpg"/>
          <p:cNvPicPr/>
          <p:nvPr/>
        </p:nvPicPr>
        <p:blipFill>
          <a:blip r:embed="rId1"/>
          <a:stretch/>
        </p:blipFill>
        <p:spPr>
          <a:xfrm>
            <a:off x="6286680" y="428616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5286240" cy="4476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928800" y="4074840"/>
            <a:ext cx="7073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Arial"/>
              </a:rPr>
              <a:t>Толерантность - это дружба</a:t>
            </a:r>
            <a:r>
              <a:rPr b="1" i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45600" y="7142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лерантность - это милосер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25880" y="221472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Толерантность - это состр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637280" y="300024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</a:rPr>
              <a:t>Толерантность - это 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1213560" y="150012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ерантность - это доброта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55320" y="528624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- это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568800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1285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олерантность - это гармония в многообраз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3552840" y="1676520"/>
            <a:ext cx="1857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7:21:25Z</dcterms:created>
  <dc:creator>Александрова З.В. (Aida_Alex)</dc:creator>
  <dc:description>http://aida.ucoz.ru</dc:description>
  <dc:language>en-US</dc:language>
  <cp:lastModifiedBy>16</cp:lastModifiedBy>
  <dcterms:modified xsi:type="dcterms:W3CDTF">2018-01-24T21:04:43Z</dcterms:modified>
  <cp:revision>285</cp:revision>
  <dc:subject>классный час</dc:subject>
  <dc:title>Планета Толератности</dc:title>
</cp:coreProperties>
</file>