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380B-0A35-4548-80D6-F0CB896831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3505-CF6A-4B02-AE7E-C0E4C0BD19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B79-2B58-4C48-A841-DE3D046E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864-A4C3-4722-83E8-681EB2C9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22B-D720-4ADB-BF77-3CFFCAA3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AE3-5109-4153-81C8-78DE80B7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0F5-8DE5-4F1F-85F7-01808000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60C4-D724-47CF-8649-70683955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84C-0091-453E-AD7A-31AFBA8C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64A3-F396-47F8-9D44-BA30DE90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454-7690-4ADF-988E-856AA3A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439B-EB83-4F51-962B-D49B7B19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F812-6095-48DA-862A-F8A4D59C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C60-BD74-4A95-AD26-FB29C96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3B04-25E6-40BE-BD74-9D489DEA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8955-A83D-4AD9-B119-563AC98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3AE-6F7F-4470-814E-C6FBFFCC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31F-77BA-49B8-980D-D587A4EC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ABCD-CD82-4179-B9A5-67A28940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09D9-3029-4498-A7A4-2E25FF69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6AEE-2BDB-474E-A441-46E503F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2FF8-DFBD-413B-A343-5781EF34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6520-3A8A-40C3-9728-EBFC236D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3F57-52A0-475B-B9D8-E86AEE3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2EE-45D2-45DA-82BC-B0A61AB2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82B7-6E5D-45CF-9D65-6FB2C523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B8048-B997-4187-AF0C-3AFE894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F130-5D83-4DA2-A3EE-F795C77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B8E7-9730-40B0-BB26-C22EC90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5C73-4FFA-45EE-AA51-901A3E8E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7C01-2B65-40D2-8824-F0F3640F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0DB1-9EC4-4F04-A72A-BBE1C098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8F1B-3577-4149-833B-A66E2066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2A66-C438-4052-9014-A1F95EFE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8F50-3F0E-41B1-AE77-C5EC87D7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54F-B188-48DB-9B63-F9FE00C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38B4-33AE-4CEB-B19B-A4E65FB5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1E17-30E9-431D-B4A2-1935F0A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C896-1BED-4ADF-BEE7-0BA4601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642F5-0188-42CF-BEBE-4251FAE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1FE8-9B9D-4970-B462-0335F3E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AA1F-2781-4738-84C6-925AB65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CA4D-3B0A-4C10-B2D9-8645595C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3AAB-3B3E-4BFE-B353-97FC9394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FA9E-E1C3-4D73-B3A3-D14F34A8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66D-7622-468B-83E4-1C34835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086-4803-40A7-A03B-CFE31DFB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7E2-8493-4F57-89B9-86E855B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D41-737C-4AA7-879C-33420FC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E86-8380-4B07-895F-282D013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C65-A3DD-4989-9373-197E89C8F5F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290-99A7-4F91-9598-5D0C654496C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359-E282-4C50-8BE7-970FEE373E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FF1C-A15F-4D8F-ABF1-4498177A79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://www.yuga.ru/media/vodnoe_polo_0.jpg&amp;pageurl=http://www.yuga.ru/news/6/section.html?skip=795&amp;id=109105609&amp;iid=5&amp;imgwidth=360&amp;imgheight=270&amp;imgsize=62233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go.mail.ru/frame.html?&amp;imgurl=http://www.telemiks.tv/photo/image/4935/Vodnoe_polo.jpg?1207782779&amp;pageurl=http://www.telemiks.tv/news/11519&amp;id=26966550&amp;iid=5&amp;imgwidth=360&amp;imgheight=288&amp;imgsize=79232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go.mail.ru/frame.html?&amp;imgurl=http://english.pravda.ru/img/idb/05-water_polo.jpg&amp;pageurl=http://spylot.ru/page/5/&amp;id=65637956&amp;iid=3&amp;imgwidth=200&amp;imgheight=259&amp;imgsize=41417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://s1.video.sportbox.ru/smart/images/130px/4a48b9776bd76.jpg&amp;pageurl=http://sport.vesti.ru/sport/doc.html?id=341041&amp;id=112699149&amp;iid=7&amp;imgwidth=400&amp;imgheight=300&amp;imgsize=46130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o.mail.ru/frame.html?&amp;imgurl=http://www.post-gazette.com/pg/images/200910/fong_water_polo02_spt_500.jpg&amp;pageurl=http://www.post-gazette.com/pg/09303/1009306-364.stm&amp;id=99531883&amp;iid=8&amp;imgwidth=500&amp;imgheight=327&amp;imgsize=42552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584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ДНОЕ  ПОЛО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85840" y="20001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83763"/>
                </a:solidFill>
                <a:uFillTx/>
                <a:latin typeface="Constantia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83763"/>
                </a:solidFill>
                <a:uFillTx/>
                <a:latin typeface="Constantia"/>
              </a:rPr>
              <a:t>ученик  4 «Б» класса МОУ «СОШ №5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83763"/>
                </a:solidFill>
                <a:uFillTx/>
                <a:latin typeface="Constantia"/>
              </a:rPr>
              <a:t>МИХАЙЛИН  МА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14200" y="33591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83763"/>
                </a:solidFill>
                <a:uFillTx/>
                <a:latin typeface="Calibri"/>
                <a:ea typeface="Times New Roman"/>
              </a:rPr>
              <a:t>Руководитель</a:t>
            </a:r>
            <a:r>
              <a:rPr b="0" lang="ru-RU" sz="1800" spc="-1" strike="noStrike">
                <a:solidFill>
                  <a:srgbClr val="083763"/>
                </a:solidFill>
                <a:latin typeface="Calibri"/>
                <a:ea typeface="Times New Roman"/>
              </a:rPr>
              <a:t>  Ерова Наталья Викторовна</a:t>
            </a:r>
            <a:r>
              <a:rPr b="1" i="1" lang="ru-RU" sz="1800" spc="-1" strike="noStrike" u="sng">
                <a:solidFill>
                  <a:srgbClr val="083763"/>
                </a:solidFill>
                <a:uFillTx/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4500720" y="16430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4143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Известно, что перекладина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аходится на высоте 1,5м над поверхностью воды.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11" descr=""/>
          <p:cNvPicPr/>
          <p:nvPr/>
        </p:nvPicPr>
        <p:blipFill>
          <a:blip r:embed="rId1"/>
          <a:stretch/>
        </p:blipFill>
        <p:spPr>
          <a:xfrm>
            <a:off x="573120" y="2395440"/>
            <a:ext cx="7643880" cy="46386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8"/>
          <p:cNvSpPr/>
          <p:nvPr/>
        </p:nvSpPr>
        <p:spPr>
          <a:xfrm>
            <a:off x="3857760" y="4071960"/>
            <a:ext cx="228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0"/>
          <p:cNvSpPr/>
          <p:nvPr/>
        </p:nvSpPr>
        <p:spPr>
          <a:xfrm>
            <a:off x="3929040" y="4857840"/>
            <a:ext cx="214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3"/>
          <p:cNvSpPr/>
          <p:nvPr/>
        </p:nvSpPr>
        <p:spPr>
          <a:xfrm>
            <a:off x="3929040" y="5643720"/>
            <a:ext cx="2071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5"/>
          <p:cNvSpPr/>
          <p:nvPr/>
        </p:nvSpPr>
        <p:spPr>
          <a:xfrm>
            <a:off x="3929040" y="6429240"/>
            <a:ext cx="214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85840" y="2286000"/>
            <a:ext cx="8501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Найдем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L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з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 где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0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 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tcos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=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(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+√ 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α-2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1,5-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)/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+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√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α-2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1,5-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)/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ри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1,5 ;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 (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α)/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еперь найдем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из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 где 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&lt;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0: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(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+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α√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α-2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1,5-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)/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ри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1,5; 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= (υ</a:t>
            </a:r>
            <a:r>
              <a:rPr b="1" lang="ru-RU" sz="2000" spc="-1" strike="noStrike" baseline="-25000">
                <a:solidFill>
                  <a:srgbClr val="0b5395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α)/</a:t>
            </a: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Прямая соединительная линия 4"/>
          <p:cNvSpPr/>
          <p:nvPr/>
        </p:nvSpPr>
        <p:spPr>
          <a:xfrm>
            <a:off x="3714840" y="292896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2714760" y="3500280"/>
            <a:ext cx="200016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3000240" y="5000760"/>
            <a:ext cx="200052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6860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пределим зависимость 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υ</a:t>
            </a:r>
            <a:r>
              <a:rPr b="1" lang="ru-RU" sz="2400" spc="-1" strike="noStrike" baseline="-25000">
                <a:solidFill>
                  <a:srgbClr val="04617b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от угла α: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13840" y="1785960"/>
            <a:ext cx="300060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Условия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0040" y="2214720"/>
            <a:ext cx="2571840" cy="1000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=1,5 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L = 5</a:t>
            </a:r>
            <a:r>
              <a:rPr b="0" lang="ru-RU" sz="2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928960" y="2928960"/>
            <a:ext cx="5857920" cy="235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) α=-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 = (υ</a:t>
            </a:r>
            <a:r>
              <a:rPr b="1" lang="ru-RU" sz="20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30)/9,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υ</a:t>
            </a:r>
            <a:r>
              <a:rPr b="1" lang="ru-RU" sz="20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=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 м/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) α=4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5 = (υ</a:t>
            </a:r>
            <a:r>
              <a:rPr b="1" lang="ru-RU" sz="20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²</a:t>
            </a:r>
            <a:r>
              <a:rPr b="1" lang="en-US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sin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90)/9,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υ</a:t>
            </a:r>
            <a:r>
              <a:rPr b="1" lang="ru-RU" sz="20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=7м/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14200" y="54291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чем меньше угол броска, тем больше начальная скорость(т.е. сильнее брос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8"/>
          <p:cNvSpPr/>
          <p:nvPr/>
        </p:nvSpPr>
        <p:spPr>
          <a:xfrm>
            <a:off x="3714840" y="3500280"/>
            <a:ext cx="14292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Administrator\Desktop\ф 001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064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27147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Задача3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406872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Услов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57400" y="2214360"/>
            <a:ext cx="485748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5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щие запасы питательного вещества  β</a:t>
            </a:r>
            <a:r>
              <a:rPr b="1" lang="en-US" sz="1800" spc="-1" strike="noStrike" baseline="-25000">
                <a:solidFill>
                  <a:srgbClr val="04617b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,   во всех видах продуктов составят сумму 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4200" y="1714320"/>
            <a:ext cx="3571920" cy="464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апасы питательных веществ    β</a:t>
            </a:r>
            <a:r>
              <a:rPr b="0" lang="ru-RU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,  β</a:t>
            </a:r>
            <a:r>
              <a:rPr b="0" lang="ru-RU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, ….  , β</a:t>
            </a:r>
            <a:r>
              <a:rPr b="0" lang="en-US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Различные продук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Z</a:t>
            </a:r>
            <a:r>
              <a:rPr b="0" i="1" lang="ru-RU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1,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 Z</a:t>
            </a:r>
            <a:r>
              <a:rPr b="0" i="1" lang="ru-RU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2 . . ..,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 Z</a:t>
            </a:r>
            <a:r>
              <a:rPr b="0" i="1" lang="en-US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n</a:t>
            </a:r>
            <a:r>
              <a:rPr b="0" i="1" lang="ru-RU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a </a:t>
            </a:r>
            <a:r>
              <a:rPr b="0" i="1" lang="en-US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ij</a:t>
            </a:r>
            <a:r>
              <a:rPr b="0" i="1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запасы (в некоторых единицах) питательного вещества вида  β</a:t>
            </a:r>
            <a:r>
              <a:rPr b="0" lang="en-US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j </a:t>
            </a: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в продукте </a:t>
            </a:r>
            <a:r>
              <a:rPr b="0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Z</a:t>
            </a:r>
            <a:r>
              <a:rPr b="0" i="1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ij</a:t>
            </a:r>
            <a:r>
              <a:rPr b="0" i="1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стоимость некоторой единицы продукта С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минимальная норма питательного вещества </a:t>
            </a:r>
            <a:r>
              <a:rPr b="0" i="1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2303e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количество продукта </a:t>
            </a:r>
            <a:r>
              <a:rPr b="0" i="1" lang="en-US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Xj</a:t>
            </a:r>
            <a:r>
              <a:rPr b="0" i="1" lang="ru-RU" sz="20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28680" y="2643120"/>
            <a:ext cx="5000760" cy="3718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  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i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  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+ ... +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  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j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  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j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+ ... +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in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m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  ij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+ ... +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 i j  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j + ... + a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in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. 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≥ 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= 1, ... , 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Общая стоимость приобретенных продуктов состави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F(X)= C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* 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+C 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* 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+ ...+ C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n 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* 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414360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смотрим вариант, в котором фигурируют пять питательных веществ </a:t>
            </a:r>
            <a:r>
              <a:rPr b="1" i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т = </a:t>
            </a: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5) и два типа продуктов (</a:t>
            </a: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= 2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0" y="2499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словия неотрицательности переменных и минимизируемая форма примут вид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857840" y="3786120"/>
            <a:ext cx="3828960" cy="2857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+ 3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≥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3,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З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+ 2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≥12,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+ 4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≥16,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III</a:t>
            </a:r>
            <a:r>
              <a:rPr b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2х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+ 2х</a:t>
            </a:r>
            <a:r>
              <a:rPr b="0" i="1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≥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0,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IV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≥ 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1,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           (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&gt;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0,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             (</a:t>
            </a:r>
            <a:r>
              <a:rPr b="0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VI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F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l</a:t>
            </a:r>
            <a:r>
              <a:rPr b="0" i="1" lang="en-US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+ 3х</a:t>
            </a:r>
            <a:r>
              <a:rPr b="0" lang="ru-RU" sz="2200" spc="-1" strike="noStrike" baseline="-25000">
                <a:solidFill>
                  <a:srgbClr val="03495c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rcRect l="26453" t="26435" r="23474" b="51290"/>
          <a:stretch/>
        </p:blipFill>
        <p:spPr>
          <a:xfrm>
            <a:off x="142920" y="1928880"/>
            <a:ext cx="44146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0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4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8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450072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На рисунке показана область </a:t>
            </a:r>
            <a:r>
              <a:rPr b="0" i="1" lang="en-US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допустимых решений, определяемая системой линейных неравенств (</a:t>
            </a:r>
            <a:r>
              <a:rPr b="0" i="1" lang="en-US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) — (</a:t>
            </a:r>
            <a:r>
              <a:rPr b="0" i="1" lang="en-US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VI</a:t>
            </a:r>
            <a:r>
              <a:rPr b="0" i="1" lang="ru-RU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), и линии уровня минимизируемой формы </a:t>
            </a:r>
            <a:r>
              <a:rPr b="0" i="1" lang="en-US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4617b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2" descr="C:\Users\Administrator\Desktop\ф.jpg"/>
          <p:cNvPicPr/>
          <p:nvPr/>
        </p:nvPicPr>
        <p:blipFill>
          <a:blip r:embed="rId1"/>
          <a:stretch/>
        </p:blipFill>
        <p:spPr>
          <a:xfrm>
            <a:off x="357120" y="2454120"/>
            <a:ext cx="5643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ДНОЕ ПОЛО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285840" y="16430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влечь внимание  к возможности изучения многих ситуаций в спорте с математических позиций,  и к целесообразности  более обоснованных количественных и качественных оценок спортивных яв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14200" y="422352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2303e"/>
                </a:solidFill>
                <a:uFillTx/>
                <a:latin typeface="Times New Roman"/>
                <a:ea typeface="Calibri"/>
              </a:rPr>
              <a:t>Методы исследования</a:t>
            </a:r>
            <a:r>
              <a:rPr b="0" i="1" lang="ru-RU" sz="1800" spc="-1" strike="noStrike" u="sng">
                <a:solidFill>
                  <a:srgbClr val="02303e"/>
                </a:solidFill>
                <a:uFillTx/>
                <a:latin typeface="Times New Roman"/>
                <a:ea typeface="Calibri"/>
              </a:rPr>
              <a:t>: </a:t>
            </a:r>
            <a:r>
              <a:rPr b="0" lang="ru-RU" sz="1800" spc="-1" strike="noStrike">
                <a:solidFill>
                  <a:srgbClr val="02303e"/>
                </a:solidFill>
                <a:latin typeface="Times New Roman"/>
                <a:ea typeface="Calibri"/>
              </a:rPr>
              <a:t>сравнительный анализ и моделирование.</a:t>
            </a:r>
            <a:r>
              <a:rPr b="0" i="1" lang="ru-RU" sz="1800" spc="-1" strike="noStrike">
                <a:solidFill>
                  <a:srgbClr val="02303e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000680" y="16430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2757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Задачи</a:t>
            </a: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1357200"/>
            <a:ext cx="414324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ределение игровых амплуа в спортивной ватерпольной команде, обеспечивающее наибольший эффект в иг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ставление для спортсменов диеты, удовлетворяющей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бованиям медиков и, в то же время, наиболее экономной и сохраняющей вес спортсмена в определенных рам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Распределение между игроками команды обязанностей таким способом, чтобы общая результативность действий всей команды оказалась наибольш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значение имеют броски  в     современном водном пол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286240" y="1357200"/>
            <a:ext cx="2857680" cy="215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6000840" y="3929040"/>
            <a:ext cx="14572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325764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928880"/>
            <a:ext cx="3857760" cy="3643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принимать решение возникает во многих спортивных ситуациях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зации тренировок и соревновани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мплектовании спортивных  команд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спределении обязанностей игроков команды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ыборе тактики игры и т. 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071960" y="1785960"/>
            <a:ext cx="4267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375768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Научная новиз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928880"/>
            <a:ext cx="3857760" cy="4286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численные ситуации  столь сложны, а последствия принятых решений могут оказаться столь значительными, что предварительный количественный и качественный анализ становится обязательн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их случаях не обойтись без применения научных, в первую очередь математических, методов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http://im5-tub.mail.ru/i?id=109105609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28592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im5-tub.mail.ru/i?id=26966550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29280" y="2571840"/>
            <a:ext cx="1619280" cy="129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http://im3-tub.mail.ru/i?id=65637956&amp;tov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29120" y="3714840"/>
            <a:ext cx="1171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26859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Задача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499760"/>
            <a:ext cx="3857760" cy="471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83763"/>
                </a:solidFill>
                <a:uFillTx/>
                <a:latin typeface="Times New Roman"/>
                <a:ea typeface="Times New Roman"/>
              </a:rPr>
              <a:t>Услови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3495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тветственная встреча команды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3495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новый тренер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3495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замена ряда игро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83763"/>
                </a:solidFill>
                <a:uFillTx/>
                <a:latin typeface="Times New Roman"/>
                <a:ea typeface="Times New Roman"/>
              </a:rPr>
              <a:t>Перед новым тренером стоит задач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ределить между игроками команды обязанности так, чтобы результативность команды оказалась наибольш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http://im7-tub.mail.ru/i?id=11269914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214280"/>
            <a:ext cx="1857240" cy="139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http://im8-tub.mail.ru/i?id=9953188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3143160"/>
            <a:ext cx="1785960" cy="1160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im6-tub.mail.ru/i?id=77379718&amp;tov=6"/>
          <p:cNvPicPr/>
          <p:nvPr/>
        </p:nvPicPr>
        <p:blipFill>
          <a:blip r:embed="rId5"/>
          <a:stretch/>
        </p:blipFill>
        <p:spPr>
          <a:xfrm>
            <a:off x="3857760" y="4643280"/>
            <a:ext cx="217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268596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Задача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571400"/>
            <a:ext cx="385776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3 4 1 5 2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6 4 1 2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2 3 6 2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1 5 4 2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3 3 1 2 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5 4 2 6 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Ф(Р) = 6+6+6+5+6+6=3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1 0 0 0 0 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0 1 0 0 0 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0 0 0 1 0 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0 0 1 0 0 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0 0 0 0 0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0 0 0 0 1 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Левая круглая скобка 3"/>
          <p:cNvSpPr/>
          <p:nvPr/>
        </p:nvSpPr>
        <p:spPr>
          <a:xfrm>
            <a:off x="1214280" y="1571760"/>
            <a:ext cx="187560" cy="2214360"/>
          </a:xfrm>
          <a:custGeom>
            <a:avLst/>
            <a:gdLst>
              <a:gd name="textAreaLeft" fmla="*/ 55080 w 187560"/>
              <a:gd name="textAreaRight" fmla="*/ 187920 w 187560"/>
              <a:gd name="textAreaTop" fmla="*/ 7560 h 2214360"/>
              <a:gd name="textAreaBottom" fmla="*/ 22068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6"/>
                  <a:pt x="0" y="152"/>
                </a:cubicBezTo>
                <a:lnTo>
                  <a:pt x="0" y="21448"/>
                </a:lnTo>
                <a:cubicBezTo>
                  <a:pt x="0" y="2152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авая круглая скобка 6"/>
          <p:cNvSpPr/>
          <p:nvPr/>
        </p:nvSpPr>
        <p:spPr>
          <a:xfrm>
            <a:off x="2786040" y="1643040"/>
            <a:ext cx="71640" cy="2143080"/>
          </a:xfrm>
          <a:custGeom>
            <a:avLst/>
            <a:gdLst>
              <a:gd name="textAreaLeft" fmla="*/ 0 w 71640"/>
              <a:gd name="textAreaRight" fmla="*/ 50400 w 71640"/>
              <a:gd name="textAreaTop" fmla="*/ 2880 h 2143080"/>
              <a:gd name="textAreaBottom" fmla="*/ 21402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0"/>
                  <a:pt x="21600" y="60"/>
                </a:cubicBezTo>
                <a:lnTo>
                  <a:pt x="21600" y="21540"/>
                </a:lnTo>
                <a:cubicBezTo>
                  <a:pt x="21600" y="2157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Левая круглая скобка 7"/>
          <p:cNvSpPr/>
          <p:nvPr/>
        </p:nvSpPr>
        <p:spPr>
          <a:xfrm>
            <a:off x="1285920" y="4429080"/>
            <a:ext cx="71280" cy="2143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143080"/>
              <a:gd name="textAreaBottom" fmla="*/ 214020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0"/>
                  <a:pt x="0" y="60"/>
                </a:cubicBezTo>
                <a:lnTo>
                  <a:pt x="0" y="21540"/>
                </a:lnTo>
                <a:cubicBezTo>
                  <a:pt x="0" y="2157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авая круглая скобка 8"/>
          <p:cNvSpPr/>
          <p:nvPr/>
        </p:nvSpPr>
        <p:spPr>
          <a:xfrm>
            <a:off x="2714760" y="4429080"/>
            <a:ext cx="46080" cy="2143080"/>
          </a:xfrm>
          <a:custGeom>
            <a:avLst/>
            <a:gdLst>
              <a:gd name="textAreaLeft" fmla="*/ 0 w 46080"/>
              <a:gd name="textAreaRight" fmla="*/ 32400 w 46080"/>
              <a:gd name="textAreaTop" fmla="*/ 1800 h 2143080"/>
              <a:gd name="textAreaBottom" fmla="*/ 21412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"/>
                  <a:pt x="21600" y="39"/>
                </a:cubicBezTo>
                <a:lnTo>
                  <a:pt x="21600" y="21561"/>
                </a:lnTo>
                <a:cubicBezTo>
                  <a:pt x="21600" y="21581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://im2-tub.mail.ru/i?id=46805397&amp;tov=2"/>
          <p:cNvPicPr/>
          <p:nvPr/>
        </p:nvPicPr>
        <p:blipFill>
          <a:blip r:embed="rId1"/>
          <a:stretch/>
        </p:blipFill>
        <p:spPr>
          <a:xfrm>
            <a:off x="3929040" y="1071720"/>
            <a:ext cx="2151000" cy="142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im5-tub.mail.ru/i?id=72630283&amp;tov=5"/>
          <p:cNvPicPr/>
          <p:nvPr/>
        </p:nvPicPr>
        <p:blipFill>
          <a:blip r:embed="rId2"/>
          <a:stretch/>
        </p:blipFill>
        <p:spPr>
          <a:xfrm>
            <a:off x="6357960" y="3000240"/>
            <a:ext cx="1714320" cy="1384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http://im6-tub.mail.ru/i?id=101928109&amp;tov=6"/>
          <p:cNvPicPr/>
          <p:nvPr/>
        </p:nvPicPr>
        <p:blipFill>
          <a:blip r:embed="rId3"/>
          <a:stretch/>
        </p:blipFill>
        <p:spPr>
          <a:xfrm>
            <a:off x="4214880" y="4929120"/>
            <a:ext cx="2143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26431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Задача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3997440" cy="85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ыведем уравнение движения мяча при броске по ворота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213920"/>
            <a:ext cx="3997440" cy="514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nstantia"/>
              </a:rPr>
              <a:t>h</a:t>
            </a:r>
            <a:r>
              <a:rPr b="0" lang="ru-RU" sz="2200" spc="-1" strike="noStrike" baseline="-25000">
                <a:solidFill>
                  <a:srgbClr val="002060"/>
                </a:solidFill>
                <a:latin typeface="Constantia"/>
              </a:rPr>
              <a:t>0-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высота с которой бросают мяч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nstantia"/>
              </a:rPr>
              <a:t>L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– расстояние от бросающего до вор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nstantia"/>
              </a:rPr>
              <a:t>g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– ускорение свободного падени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υ</a:t>
            </a:r>
            <a:r>
              <a:rPr b="0" lang="ru-RU" sz="2200" spc="-1" strike="noStrike" baseline="-25000">
                <a:solidFill>
                  <a:srgbClr val="002060"/>
                </a:solidFill>
                <a:latin typeface="Constantia"/>
              </a:rPr>
              <a:t>0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– начальная скорость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υ</a:t>
            </a:r>
            <a:r>
              <a:rPr b="0" lang="ru-RU" sz="2200" spc="-1" strike="noStrike" baseline="-25000">
                <a:solidFill>
                  <a:srgbClr val="002060"/>
                </a:solidFill>
                <a:latin typeface="Constantia"/>
              </a:rPr>
              <a:t> 0х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–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проекция начальной скорости на оси Х;</a:t>
            </a: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υ</a:t>
            </a:r>
            <a:r>
              <a:rPr b="1" lang="ru-RU" sz="2200" spc="-1" strike="noStrike" baseline="-25000">
                <a:solidFill>
                  <a:srgbClr val="002060"/>
                </a:solidFill>
                <a:latin typeface="Constantia"/>
              </a:rPr>
              <a:t> 0</a:t>
            </a:r>
            <a:r>
              <a:rPr b="1" lang="en-US" sz="2200" spc="-1" strike="noStrike" baseline="-25000">
                <a:solidFill>
                  <a:srgbClr val="002060"/>
                </a:solidFill>
                <a:latin typeface="Constantia"/>
              </a:rPr>
              <a:t>y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– проекция начальной скорости на оси </a:t>
            </a:r>
            <a:r>
              <a:rPr b="0" lang="en-US" sz="2200" spc="-1" strike="noStrike">
                <a:solidFill>
                  <a:srgbClr val="002060"/>
                </a:solidFill>
                <a:latin typeface="Constantia"/>
              </a:rPr>
              <a:t>Y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α – угол броска над поверхностью воды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onstantia"/>
              </a:rPr>
              <a:t>h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=1,5м – высота от поверхности воды до воро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C:\Users\Administrator\Desktop\ф 002.jpg"/>
          <p:cNvPicPr/>
          <p:nvPr/>
        </p:nvPicPr>
        <p:blipFill>
          <a:blip r:embed="rId1"/>
          <a:stretch/>
        </p:blipFill>
        <p:spPr>
          <a:xfrm>
            <a:off x="4335480" y="2571840"/>
            <a:ext cx="4608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3929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4617b"/>
                </a:solidFill>
                <a:latin typeface="Calibri"/>
              </a:rPr>
              <a:t>Запишем формулы уравнения </a:t>
            </a:r>
            <a:br>
              <a:rPr sz="2200"/>
            </a:br>
            <a:r>
              <a:rPr b="1" i="1" lang="ru-RU" sz="2200" spc="-1" strike="noStrike">
                <a:solidFill>
                  <a:srgbClr val="04617b"/>
                </a:solidFill>
                <a:latin typeface="Calibri"/>
              </a:rPr>
              <a:t>движения по осям Х и </a:t>
            </a:r>
            <a:r>
              <a:rPr b="1" i="1" lang="en-US" sz="2200" spc="-1" strike="noStrike">
                <a:solidFill>
                  <a:srgbClr val="04617b"/>
                </a:solidFill>
                <a:latin typeface="Calibri"/>
              </a:rPr>
              <a:t>Y</a:t>
            </a:r>
            <a:r>
              <a:rPr b="1" i="1" lang="ru-RU" sz="22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2857680"/>
            <a:ext cx="85010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Схема 4" descr=""/>
          <p:cNvPicPr/>
          <p:nvPr/>
        </p:nvPicPr>
        <p:blipFill>
          <a:blip r:embed="rId1"/>
          <a:stretch/>
        </p:blipFill>
        <p:spPr>
          <a:xfrm>
            <a:off x="712800" y="2498760"/>
            <a:ext cx="3621240" cy="3932280"/>
          </a:xfrm>
          <a:prstGeom prst="rect">
            <a:avLst/>
          </a:prstGeom>
          <a:ln w="0">
            <a:noFill/>
          </a:ln>
        </p:spPr>
      </p:pic>
      <p:pic>
        <p:nvPicPr>
          <p:cNvPr id="252" name="Схема 5" descr=""/>
          <p:cNvPicPr/>
          <p:nvPr/>
        </p:nvPicPr>
        <p:blipFill>
          <a:blip r:embed="rId2"/>
          <a:stretch/>
        </p:blipFill>
        <p:spPr>
          <a:xfrm>
            <a:off x="4572000" y="2571840"/>
            <a:ext cx="41450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4:22:11Z</dcterms:created>
  <dc:creator>Admin</dc:creator>
  <dc:description/>
  <dc:language>en-US</dc:language>
  <cp:lastModifiedBy>admin</cp:lastModifiedBy>
  <dcterms:modified xsi:type="dcterms:W3CDTF">2018-01-24T12:53:31Z</dcterms:modified>
  <cp:revision>84</cp:revision>
  <dc:subject/>
  <dc:title>Слайд 1</dc:title>
</cp:coreProperties>
</file>