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00C-62B0-46D3-85D9-FFE4834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F3E-E9F4-45C4-B772-B2DAB61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67D-527F-448F-828D-7B8D30A6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909-0669-477E-9292-1A724F3A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9B8-9770-44F9-9429-BCD3B15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59B-80BC-4ECF-ADE8-1BD0948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A23-63B0-4567-A055-A207882F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2DD-A25C-4CA5-8DE7-104B308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126-45B5-417D-86D4-EB321AE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A36-F2EC-48A6-803E-85A9D22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899-0EB0-4911-B0DA-FBB40D5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B3B-44A1-4F5E-932B-0EAB8F8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AF8B-2DDB-4574-947B-C88298861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-33408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Почему летают самолёты</a:t>
            </a:r>
            <a:r>
              <a:rPr b="0" i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Pj04140450000[1]"/>
          <p:cNvPicPr/>
          <p:nvPr/>
        </p:nvPicPr>
        <p:blipFill>
          <a:blip r:embed="rId1"/>
          <a:stretch/>
        </p:blipFill>
        <p:spPr>
          <a:xfrm>
            <a:off x="971640" y="1341360"/>
            <a:ext cx="7124760" cy="4743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74640" y="635004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9 класса МБОУ «СОШ с. Чапаево» Яшина 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4360" y="404640"/>
            <a:ext cx="2447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практической разработке первого отечественного аэроплана было положено русским морским офицером А.Ф. Можайским. «…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ана, которая первая будет обладать воздушным флотом, будет непобедима в будущей войне… Россия должна иметь воздушный флот. В противном случае нам грозит полное по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29_03"/>
          <p:cNvPicPr/>
          <p:nvPr/>
        </p:nvPicPr>
        <p:blipFill>
          <a:blip r:embed="rId1"/>
          <a:stretch/>
        </p:blipFill>
        <p:spPr>
          <a:xfrm>
            <a:off x="3132000" y="1859040"/>
            <a:ext cx="5688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549360"/>
            <a:ext cx="28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ЧАЛУ Первой мировой войны Россия имела 39 авиационных отрядов, в составе которых насчитывалось 263 самолета, предназначенных для использования в военных целях. . Русские авиаторы одними из первых в мире научно обосновали понятия «завоевание господства в воздухе» и «воздушный бой», утверждая тем самым особую роль воздушного флота на театре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-011"/>
          <p:cNvPicPr/>
          <p:nvPr/>
        </p:nvPicPr>
        <p:blipFill>
          <a:blip r:embed="rId1"/>
          <a:stretch/>
        </p:blipFill>
        <p:spPr>
          <a:xfrm>
            <a:off x="3995640" y="0"/>
            <a:ext cx="4980240" cy="3244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427640" y="42926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905200" y="2533680"/>
            <a:ext cx="25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ttp://claw.ru/a-voenn/avio/147-1.jpg"/>
          <p:cNvPicPr/>
          <p:nvPr/>
        </p:nvPicPr>
        <p:blipFill>
          <a:blip r:embed="rId2"/>
          <a:stretch/>
        </p:blipFill>
        <p:spPr>
          <a:xfrm>
            <a:off x="4788000" y="3500280"/>
            <a:ext cx="3477960" cy="18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4716360" y="5084640"/>
          <a:ext cx="3095640" cy="14018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требитель «Ньюпор-17»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1-tu-160-blackjack-Tambov-2006-small"/>
          <p:cNvPicPr/>
          <p:nvPr/>
        </p:nvPicPr>
        <p:blipFill>
          <a:blip r:embed="rId1"/>
          <a:stretch/>
        </p:blipFill>
        <p:spPr>
          <a:xfrm>
            <a:off x="4643280" y="404640"/>
            <a:ext cx="4319640" cy="2878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50920" y="549360"/>
            <a:ext cx="39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го времени, как взлетел первый аэроплан,ученые постоянно искали новые технологии и материалы для совершенства техники.Они сумели преодолеть земное притяжение и осуществили прорыв, не только в самолётостроение ,но и космос. Сначало в СССР,а потом и современной России созданы такие образцы,которые обеспечивают безопасность наше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716360" y="3284640"/>
            <a:ext cx="442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кенос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-16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одовое обозначение НАТО — Blackjack) — советский/российский сверхзвуковой стратегический бомбардировщик-ракетоносец с изменяющейся стреловидностью крыла. Разработан в в ОКБ Туполева. Является самым крупным в истории военной авиации сверхзвуковым самолётом. Среди пилотов получил прозвище «Белый лебедь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Миг-31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3065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9640" y="33336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Г-3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кодификации НАТО: Foxhound — «Лисья гончая») — двухместный сверхзвуковой всепогодный истребитель-перехватчик дальнего действия. Разработан в ОКБ-156 (ныне ОАО «РСК „МиГ“»). Первый советский боевой самолёт четвёртого поколения. Главный конструктор Глеб Лозино-Лоз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Ан-22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3675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95280" y="260280"/>
            <a:ext cx="2881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-225 «М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кр. мрія — мечта) — транспортный самолёт сверхбольшой грузоподъёмности. На данный момент является самым большим, тяжёлым и грузоподъёмным самолётом в мире. Разработан в Авиационном научно-техническом комплексе имени Антонова (Киев, Украина) для перевозки орбитального корабля "Буран". Первый полёт был совершён 21 декабря 1988 года. Мрия периодически летает и возит грузы, с которыми не справляются Русланы (Ан-1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Ка-50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3295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79280" y="260280"/>
            <a:ext cx="38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толе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-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Hokum A по классификации НАТО, известен под именем «Чёрная акула») - российский боевой одноместный ударный вертолёт, предназначенный для поражения бронетанковой и механизированной техники, воздушных целей и живой силы на поле б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Ми-28"/>
          <p:cNvPicPr/>
          <p:nvPr/>
        </p:nvPicPr>
        <p:blipFill>
          <a:blip r:embed="rId2"/>
          <a:stretch/>
        </p:blipFill>
        <p:spPr>
          <a:xfrm>
            <a:off x="4211640" y="3284640"/>
            <a:ext cx="4932360" cy="338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95280" y="321300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толе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-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едназначен для использования на театрах военных действий, отличается насыщенностью средств армейской противовоздушной обороны. Способен выполнять полеты днем и ночью на предельно малых высотах (5-15 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4[1]"/>
          <p:cNvPicPr/>
          <p:nvPr/>
        </p:nvPicPr>
        <p:blipFill>
          <a:blip r:embed="rId1"/>
          <a:stretch/>
        </p:blipFill>
        <p:spPr>
          <a:xfrm>
            <a:off x="4356000" y="404640"/>
            <a:ext cx="4788000" cy="3624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50920" y="333360"/>
            <a:ext cx="396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целевой вертоле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-2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едназначен для перевозки людей и грузов, а также обеспечения решения широкого спектра задач в интересах различных ведомств.  Вертолет с комплексом современного бортового оборудования соответствует национальным авиационным нормам, а также американским FAR по категориям А 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-226"/>
          <p:cNvPicPr/>
          <p:nvPr/>
        </p:nvPicPr>
        <p:blipFill>
          <a:blip r:embed="rId2"/>
          <a:stretch/>
        </p:blipFill>
        <p:spPr>
          <a:xfrm>
            <a:off x="179280" y="3716280"/>
            <a:ext cx="40323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иранский Ан-140"/>
          <p:cNvPicPr/>
          <p:nvPr/>
        </p:nvPicPr>
        <p:blipFill>
          <a:blip r:embed="rId1"/>
          <a:stretch/>
        </p:blipFill>
        <p:spPr>
          <a:xfrm>
            <a:off x="4643280" y="258840"/>
            <a:ext cx="4249800" cy="2833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11280" y="40464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-14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краинский региональный турбовинтовой грузопассажирский самолёт, разработанный АНТК Антонов (серийно производит Харьковское государственное авиационное производственное предприятие на Украине и самарский авиационный завод «Авиакор» в России), и оснащается интерьером, разработанным и изготовленным украинской корпорацией ИнтерАМИ, — предназначен для пассажирских и смешанных грузопассажирских перевозок на расстояние до 3700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Ил-76ТД"/>
          <p:cNvPicPr/>
          <p:nvPr/>
        </p:nvPicPr>
        <p:blipFill>
          <a:blip r:embed="rId1"/>
          <a:stretch/>
        </p:blipFill>
        <p:spPr>
          <a:xfrm>
            <a:off x="3995640" y="189000"/>
            <a:ext cx="5148360" cy="3432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68360" y="476280"/>
            <a:ext cx="338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-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кодификации НАТО: Candid — «Искренний») — советский средний военно-транспортный самолёт, разработанный ОКБ Ильюшина. Предназначен для транспортировки и десантирования личного состава, техники и грузов различного назначения. Является первым в истории СССР военно-транспортным самолётом с турбореактивными двига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3-MiG-25U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летают самолё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авних времен люди, мечтая подняться в небо и увидеть землю с высоты птичьего полета, завидовали пернатым созданиям, летающим под облаками.Существуют различные легенды о полетах. Одной из таких мифических историй является сказание об Икаре и Дедале. Долгое время искусный зодчий Дедал и его сын Икар были пленниками на острове Крит. Однажды отец и сын решили бежать. Скрепив воском птичьи перья, они сделали крылья, на которых попытались перелететь с Крита на побережье Малой </a:t>
            </a:r>
            <a:fld id="{3FFCA825-2364-40CE-9C06-891698900580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fld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егенде, Икар поднялся очень близко к солнцу, и воск, соединявший перья, растаял. Юноша упал в море и утонул. Дедал летел гораздо ниже, поэтому ему удалось добраться до берега, а затем отправиться в Сицилию. Конечно, это лишь легенда, однако в древности именно полеты птиц вдохновляли многих энтузиастов на создание летательных аппар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kurs1.as-club.ru/lessons/lesson08/res/08_01.gif"/>
          <p:cNvPicPr/>
          <p:nvPr/>
        </p:nvPicPr>
        <p:blipFill>
          <a:blip r:embed="rId1"/>
          <a:stretch/>
        </p:blipFill>
        <p:spPr>
          <a:xfrm>
            <a:off x="4788000" y="1844640"/>
            <a:ext cx="3919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42447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ачные попытки планирующих полетов и мнение, что парящая птица удерживается в воздухе благодаря небольшим и очень быстрым взмахам крыльев, заставили многих изобретателей обращаться к проектам летательных аппаратов с машущими крыльями.Известно предание о британском короле Бладуде, изготовившим крылья, действующие при помощи маховых движений. Его полет с дворцовой башни закончился трагиче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Человек тысячи раз пробовал подняться в воздух, чтобы не упасть камнем вниз, а полететь дальше, как птица. Часто в ход шли искусственные крылья, от которых, впрочем, до сих пор не отказались разработчики, создающие новые виды воздушного ве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18_01"/>
          <p:cNvPicPr/>
          <p:nvPr/>
        </p:nvPicPr>
        <p:blipFill>
          <a:blip r:embed="rId1"/>
          <a:stretch/>
        </p:blipFill>
        <p:spPr>
          <a:xfrm>
            <a:off x="4844880" y="1197000"/>
            <a:ext cx="3811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9280" y="189000"/>
            <a:ext cx="446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чиналось все с… воздуха. Точнее, с теплого воздуха, который, как известно, легче холодного. Он-то и поднял первые пилотируемые летательные аппараты. Так появились аэростаты, или, проще говоря, воздушные шары. Поначалу их «пилотировали» животные, но вскоре и люди стали подниматься на высоту, которая совсем недавно казалась недосягаемой.Новый транспорт стал настолько популярным, что даже с развитием техники и появлением самолетов, в скорости соперничающих со звуком, от него не отказались. А вслед за аэростатами полетели дирижабли, которые уже не зависели от воли ветра.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21_03"/>
          <p:cNvPicPr/>
          <p:nvPr/>
        </p:nvPicPr>
        <p:blipFill>
          <a:blip r:embed="rId1"/>
          <a:stretch/>
        </p:blipFill>
        <p:spPr>
          <a:xfrm>
            <a:off x="5364000" y="184320"/>
            <a:ext cx="3240360" cy="30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5796000" y="6165720"/>
          <a:ext cx="208080" cy="2286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31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10" descr="21_04"/>
          <p:cNvPicPr/>
          <p:nvPr/>
        </p:nvPicPr>
        <p:blipFill>
          <a:blip r:embed="rId2"/>
          <a:stretch/>
        </p:blipFill>
        <p:spPr>
          <a:xfrm>
            <a:off x="5435640" y="3429000"/>
            <a:ext cx="3240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189000"/>
            <a:ext cx="316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воздухоплавания вызвало живой интерес среди российских военных, реально оценивавших возможности воздушных шаров в будущих войнах. Наиболее емко и кратко эту оценку выразил знаменитый русский полководец А.В. Суворов в словах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бы мог я быть птицей, владел бы не одной столицей». Он мечтал о возможности создания в России воздушного фло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XIX века эта идея была поддержана военным ведомством. В июле 1803 года первым среди россиян в воздух поднялся генерал от инфантерии С.Л. Ль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443640" y="2997360"/>
          <a:ext cx="1000080" cy="30456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дородный шар-шальер в воздух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9" descr="22_03"/>
          <p:cNvPicPr/>
          <p:nvPr/>
        </p:nvPicPr>
        <p:blipFill>
          <a:blip r:embed="rId1"/>
          <a:stretch/>
        </p:blipFill>
        <p:spPr>
          <a:xfrm>
            <a:off x="4460760" y="692280"/>
            <a:ext cx="3998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kurs1.as-club.ru/lessons/lesson20/res/20_01.gif"/>
          <p:cNvPicPr/>
          <p:nvPr/>
        </p:nvPicPr>
        <p:blipFill>
          <a:blip r:embed="rId1"/>
          <a:stretch/>
        </p:blipFill>
        <p:spPr>
          <a:xfrm>
            <a:off x="5435640" y="404640"/>
            <a:ext cx="3384360" cy="255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kurs1.as-club.ru/lessons/lesson20/res/20_03.gif"/>
          <p:cNvPicPr/>
          <p:nvPr/>
        </p:nvPicPr>
        <p:blipFill>
          <a:blip r:embed="rId2"/>
          <a:stretch/>
        </p:blipFill>
        <p:spPr>
          <a:xfrm>
            <a:off x="5508720" y="3213000"/>
            <a:ext cx="3313080" cy="3284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95280" y="33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981000"/>
            <a:ext cx="41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XIX века процесс освоения воздушного пространства выходит на качественно новый уровень: производятся десятки испытаний летательных аппаратов, причем многие из них оказываются удач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XIX века все самые известные конструкторы пришли к идее моторизированных планеров. Правда, большинство таких проектов нельзя назвать успеш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9_12"/>
          <p:cNvPicPr/>
          <p:nvPr/>
        </p:nvPicPr>
        <p:blipFill>
          <a:blip r:embed="rId1"/>
          <a:stretch/>
        </p:blipFill>
        <p:spPr>
          <a:xfrm>
            <a:off x="7234200" y="404640"/>
            <a:ext cx="1474920" cy="1944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7128000" y="242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ья Р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9_14"/>
          <p:cNvPicPr/>
          <p:nvPr/>
        </p:nvPicPr>
        <p:blipFill>
          <a:blip r:embed="rId2"/>
          <a:stretch/>
        </p:blipFill>
        <p:spPr>
          <a:xfrm>
            <a:off x="5003640" y="2773440"/>
            <a:ext cx="4140360" cy="2671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24000" y="115920"/>
            <a:ext cx="417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звития связан с деятельностью американцев Орвила и Уилбура Райтов.В 1900 году из сосны и обивки они сделали биплан весом в 22 кг. И с размахом крыльев 5,2 метра. Начиная с 1900 года, братья сконструировали ряд бипланов, однако дальность их полета составляла не более 118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ер братьев Райт Прежде чем приступить к очередному проекту, американцы изучили всевозможные профили и формы крыла в аэродинамической трубе собственной констр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03 году они запатентовали свою систему управления планером, при которой совместно действовали перекашиваемое крыло и поворачивающийся вертикальный руль упра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08200" y="78408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55640" y="260280"/>
            <a:ext cx="237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тысячи полетов совершили братья на своем аппарате только за 1902 год. Самым лучшим оказался тот, когда биплан пролетел 190 метров и продержался в воздухе 22 секунды. В 1903 году и этот рекорд был поб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 американцев в историю планеростроения заключается в разработке схемы аэродинамического управления летательным аппа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9_13"/>
          <p:cNvPicPr/>
          <p:nvPr/>
        </p:nvPicPr>
        <p:blipFill>
          <a:blip r:embed="rId1"/>
          <a:stretch/>
        </p:blipFill>
        <p:spPr>
          <a:xfrm>
            <a:off x="3166920" y="907920"/>
            <a:ext cx="5977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11280" y="404640"/>
            <a:ext cx="50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в, наконец, в свое распоряжение достаточно легкие ДВС мощностью всего 10-30 л.с., целый ряд конструкторов приступили к постройке аэропланов. Результат не заставил себя долго ждать: 17 декабря 1903 года поднялся в небо самолет братьев Райт. Он был снабжен бензиновым двигателем с горизонтально расположенными двумя цилинд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Таким образом, во второй половине XIX в.,благодаря изобретениям Отто и Даймлера, было преодолено важнейшее препятствие на пути создания летательных аппаратов тяжелее воздуха. Путь для развития самолетостроения был открыт. Наступающему XX столетию суждено было стать веком АВИАЦ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26_13"/>
          <p:cNvPicPr/>
          <p:nvPr/>
        </p:nvPicPr>
        <p:blipFill>
          <a:blip r:embed="rId1"/>
          <a:stretch/>
        </p:blipFill>
        <p:spPr>
          <a:xfrm>
            <a:off x="5364000" y="1484280"/>
            <a:ext cx="37800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4:13:56Z</dcterms:created>
  <dc:creator>Customer;Шаповалова Лилия Алексеевна</dc:creator>
  <dc:description/>
  <dc:language>en-US</dc:language>
  <cp:lastModifiedBy>1</cp:lastModifiedBy>
  <dcterms:modified xsi:type="dcterms:W3CDTF">2018-01-24T23:28:39Z</dcterms:modified>
  <cp:revision>7</cp:revision>
  <dc:subject/>
  <dc:title>Слайд 1</dc:title>
</cp:coreProperties>
</file>