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applause.wav" ContentType="audio/x-wav"/>
  <Override PartName="/ppt/media/image9.jpeg" ContentType="image/jpeg"/>
  <Override PartName="/ppt/media/image11.png" ContentType="image/png"/>
  <Override PartName="/ppt/media/image43.gif" ContentType="image/gif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FDF-8D31-4B73-94FF-2908127A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075-459B-432B-ACA5-23420CE5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3DC-1181-447B-A6B9-7D390A4D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04D-739D-48E0-8B5B-76195696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64D-16E3-42F3-9CEB-D7B81C5E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E8E-5425-48CE-AEAD-7739B9A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C8F-F49E-4BB0-8C22-5D50DEF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E1A-FAD3-49E4-B125-94D20F6C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055-4DED-4141-9885-E739293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CD4-B9A1-4F96-BB2C-DD4DE8A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E83-556F-4ED9-964A-1650557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443-EB9B-4804-8079-17EEC1F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7767-62C5-4B5F-BFAA-5F13B761721E}" type="slidenum">
              <a:rPr b="0" lang="lv-LV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avda.ru/photo/report/album-643/4/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О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 ТЕ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1280" y="119700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9" descr="curtains"/>
          <p:cNvPicPr/>
          <p:nvPr/>
        </p:nvPicPr>
        <p:blipFill>
          <a:blip r:embed="rId1"/>
          <a:stretch/>
        </p:blipFill>
        <p:spPr>
          <a:xfrm>
            <a:off x="2438280" y="21337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en-US" sz="6000" spc="-1" strike="noStrike">
                <a:solidFill>
                  <a:srgbClr val="d3a21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289320" cy="454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2"/>
          <a:stretch/>
        </p:blipFill>
        <p:spPr>
          <a:xfrm>
            <a:off x="5364000" y="1219320"/>
            <a:ext cx="32371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Жан-Люк Пансо — человек-театр. (Фото Виктории Ивлевой)"/>
          <p:cNvPicPr/>
          <p:nvPr/>
        </p:nvPicPr>
        <p:blipFill>
          <a:blip r:embed="rId1"/>
          <a:stretch/>
        </p:blipFill>
        <p:spPr>
          <a:xfrm>
            <a:off x="228600" y="2971800"/>
            <a:ext cx="5562720" cy="357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"/>
          <p:cNvPicPr/>
          <p:nvPr/>
        </p:nvPicPr>
        <p:blipFill>
          <a:blip r:embed="rId2"/>
          <a:stretch/>
        </p:blipFill>
        <p:spPr>
          <a:xfrm>
            <a:off x="5562720" y="1143000"/>
            <a:ext cx="3324240" cy="1633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Н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838080" y="1257480"/>
            <a:ext cx="70106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250920" y="1219320"/>
            <a:ext cx="7416720" cy="5449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140360" y="6093000"/>
            <a:ext cx="338436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6084720" y="5805360"/>
            <a:ext cx="1440000" cy="144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6012000" y="4724280"/>
            <a:ext cx="151272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6084720" y="3716280"/>
            <a:ext cx="1511640" cy="2174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5796000" y="2924280"/>
            <a:ext cx="1800360" cy="288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5651640" y="2133720"/>
            <a:ext cx="194472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7740720" y="638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ПАРТЕ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740720" y="587700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НУА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7667640" y="4941720"/>
            <a:ext cx="1476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ЕЛЬЭТАЖ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740720" y="386064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1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7740720" y="31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2 ЯРУС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740720" y="234936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fd293"/>
                </a:solidFill>
                <a:latin typeface="Arial"/>
              </a:rPr>
              <a:t>БАЛКОН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dfd293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Я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М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70866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З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50920" y="1230480"/>
            <a:ext cx="864216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Д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Ц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rcRect l="0" t="0" r="1138" b="1857"/>
          <a:stretch/>
        </p:blipFill>
        <p:spPr>
          <a:xfrm>
            <a:off x="539640" y="1200240"/>
            <a:ext cx="806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екорации для спектакля изготавливаются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 живописно-декорационном цехе по эскизам художников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2" name="Picture 11" descr="podyacheskaya2"/>
          <p:cNvPicPr/>
          <p:nvPr/>
        </p:nvPicPr>
        <p:blipFill>
          <a:blip r:embed="rId1"/>
          <a:stretch/>
        </p:blipFill>
        <p:spPr>
          <a:xfrm>
            <a:off x="228600" y="3292560"/>
            <a:ext cx="4419720" cy="331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2"/>
          <a:stretch/>
        </p:blipFill>
        <p:spPr>
          <a:xfrm>
            <a:off x="4800600" y="3400560"/>
            <a:ext cx="4191120" cy="31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38368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66880" y="1295280"/>
            <a:ext cx="33829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Так называются предметы, которые заменяют на сцене настоящие. Бутафорскими могут быть посуда, угощение, оружие, мебель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049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57004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1904760" cy="253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4"/>
          <a:stretch/>
        </p:blipFill>
        <p:spPr>
          <a:xfrm>
            <a:off x="533520" y="3908520"/>
            <a:ext cx="34290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О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Ф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Ы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софитов осветители могут изобразить на сцене рассвет или закат, вспышки молнии, звездное небо и многое друг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tretch/>
        </p:blipFill>
        <p:spPr>
          <a:xfrm>
            <a:off x="250920" y="1631880"/>
            <a:ext cx="86421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Ы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И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5" name="Picture 5" descr="scena"/>
          <p:cNvPicPr/>
          <p:nvPr/>
        </p:nvPicPr>
        <p:blipFill>
          <a:blip r:embed="rId1"/>
          <a:stretch/>
        </p:blipFill>
        <p:spPr>
          <a:xfrm>
            <a:off x="1295280" y="1905120"/>
            <a:ext cx="6400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Звукооператор во время спектакля может включить фонограмму:  шум дождя или рокот волн, гул толпы или свист ветра – смотря что в это время происходит на сцене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Перед спектаклем гример накладывает актерам грим. Опытный мастер может изменить лицо актера до неузнаваемости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17" name="Picture 5" descr="miller_0101"/>
          <p:cNvPicPr/>
          <p:nvPr/>
        </p:nvPicPr>
        <p:blipFill>
          <a:blip r:embed="rId1"/>
          <a:stretch/>
        </p:blipFill>
        <p:spPr>
          <a:xfrm>
            <a:off x="395280" y="2492280"/>
            <a:ext cx="2778120" cy="366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miller_m"/>
          <p:cNvPicPr/>
          <p:nvPr/>
        </p:nvPicPr>
        <p:blipFill>
          <a:blip r:embed="rId2"/>
          <a:stretch/>
        </p:blipFill>
        <p:spPr>
          <a:xfrm>
            <a:off x="3419640" y="2492280"/>
            <a:ext cx="2833560" cy="367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2446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4952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ктер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для спектакля могут понадобиться 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амые разны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остюмы - и старинные, и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современные, и даже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зочные.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1" name="Picture 5" descr="2"/>
          <p:cNvPicPr/>
          <p:nvPr/>
        </p:nvPicPr>
        <p:blipFill>
          <a:blip r:embed="rId1"/>
          <a:stretch/>
        </p:blipFill>
        <p:spPr>
          <a:xfrm>
            <a:off x="3200400" y="2343240"/>
            <a:ext cx="5724360" cy="429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15"/>
          <p:cNvPicPr/>
          <p:nvPr/>
        </p:nvPicPr>
        <p:blipFill>
          <a:blip r:embed="rId2"/>
          <a:stretch/>
        </p:blipFill>
        <p:spPr>
          <a:xfrm>
            <a:off x="125280" y="115920"/>
            <a:ext cx="3916440" cy="2917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152280" y="2917800"/>
            <a:ext cx="2819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Весь костюм должен сначала придумать, а потом нарисовать художник. Затем портные воплотят  его идеи в жизнь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астера могут так расписать кусок мешковины, что из зала он будет казаться богатой парчой, бархатом или шелком.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Ж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СЁ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5" name="Picture 5" descr="еще репетиция"/>
          <p:cNvPicPr/>
          <p:nvPr/>
        </p:nvPicPr>
        <p:blipFill>
          <a:blip r:embed="rId1"/>
          <a:stretch/>
        </p:blipFill>
        <p:spPr>
          <a:xfrm>
            <a:off x="179280" y="2924280"/>
            <a:ext cx="5307120" cy="36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епетиция 1"/>
          <p:cNvPicPr/>
          <p:nvPr/>
        </p:nvPicPr>
        <p:blipFill>
          <a:blip r:embed="rId2"/>
          <a:stretch/>
        </p:blipFill>
        <p:spPr>
          <a:xfrm>
            <a:off x="5219640" y="981000"/>
            <a:ext cx="3749760" cy="273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7"/>
          <p:cNvSpPr/>
          <p:nvPr/>
        </p:nvSpPr>
        <p:spPr>
          <a:xfrm>
            <a:off x="0" y="121932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н распределяет роли, проводит репетиции с актерами, объясняет и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как двигаться, когда сделать паузу...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562720" y="4191120"/>
            <a:ext cx="3406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Режиссёр также выбирает, какую пьесу ставить, работает с художником-постановщиком, 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организует все, что происходит на сцене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аконец, спектакль готов, и театр приглашает зрителей.</a:t>
            </a:r>
            <a:br>
              <a:rPr sz="1600"/>
            </a:b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Новый спектакль называется премьерой.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30" name="Picture 5" descr="мазепа в Мариинке"/>
          <p:cNvPicPr/>
          <p:nvPr/>
        </p:nvPicPr>
        <p:blipFill>
          <a:blip r:embed="rId1"/>
          <a:stretch/>
        </p:blipFill>
        <p:spPr>
          <a:xfrm>
            <a:off x="179280" y="1219320"/>
            <a:ext cx="87854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pplause"/>
          <p:cNvPicPr/>
          <p:nvPr/>
        </p:nvPicPr>
        <p:blipFill>
          <a:blip r:embed="rId1"/>
          <a:stretch/>
        </p:blipFill>
        <p:spPr>
          <a:xfrm>
            <a:off x="2666880" y="20574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2209680" y="549360"/>
            <a:ext cx="4419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fd293"/>
                </a:solidFill>
                <a:latin typeface="Arial"/>
              </a:rPr>
              <a:t>Аплодисменты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002000" y="5409720"/>
            <a:ext cx="20653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пере не говоря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по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, что исполняет оперный певец, называется ар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28600" y="2379600"/>
            <a:ext cx="6629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Б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5320" y="1699920"/>
            <a:ext cx="41086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исты балета рассказывают зрителям обо всех событиях и отношениях героев друг с другом с помощью танц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3781440" y="3414600"/>
            <a:ext cx="53625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6200" y="4800600"/>
            <a:ext cx="4392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fd293"/>
                </a:solidFill>
                <a:latin typeface="Arial"/>
              </a:rPr>
              <a:t>Много замечательных опер и балетов поставлено по сказкам</a:t>
            </a:r>
            <a:r>
              <a:rPr b="0" lang="en-US" sz="1600" spc="-1" strike="noStrike">
                <a:solidFill>
                  <a:srgbClr val="dfd29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5" name="Picture 10" descr="riekstkodis"/>
          <p:cNvPicPr/>
          <p:nvPr/>
        </p:nvPicPr>
        <p:blipFill>
          <a:blip r:embed="rId1"/>
          <a:stretch/>
        </p:blipFill>
        <p:spPr>
          <a:xfrm>
            <a:off x="324000" y="189000"/>
            <a:ext cx="2539800" cy="3556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179280" y="6524640"/>
            <a:ext cx="2792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Алиса в Стране Чудес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79280" y="3789360"/>
            <a:ext cx="271620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Щелкунчик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581280" y="3789360"/>
            <a:ext cx="48801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fd293"/>
                </a:solidFill>
                <a:latin typeface="Arial"/>
              </a:rPr>
              <a:t>Сказка о царе Салтане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48974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6280" y="151920"/>
            <a:ext cx="878544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ТИ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Ч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1828440"/>
            <a:ext cx="30974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раматическом театре актеры разговариваю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героях и событиях драматург рассказывает в пьесе через диал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5465880" cy="36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790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З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Р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Й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" name="Picture 8" descr="Вот это и есть символ театра  по имени &amp;quot;Артемон&amp;quot;. 8-летний пудель - не только артист, но и настоящий &amp;quot;директор&amp;quot; театра, что он и демонстрирует на всех представлениях. Ему помогает артистка Ольга Радостева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295280"/>
            <a:ext cx="4371840" cy="291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28600" y="3300480"/>
            <a:ext cx="50292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О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Ь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НЫ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Й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Е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" name="Picture 5" descr="shat"/>
          <p:cNvPicPr/>
          <p:nvPr/>
        </p:nvPicPr>
        <p:blipFill>
          <a:blip r:embed="rId1"/>
          <a:stretch/>
        </p:blipFill>
        <p:spPr>
          <a:xfrm>
            <a:off x="1085760" y="1603440"/>
            <a:ext cx="6991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КУ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К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ЛЫ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-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ПЕ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dfd293"/>
                </a:solidFill>
                <a:latin typeface="Arial"/>
              </a:rPr>
              <a:t>ЧА</a:t>
            </a: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Т</a:t>
            </a:r>
            <a:r>
              <a:rPr b="1" lang="ru-RU" sz="6000" spc="-1" strike="noStrike">
                <a:solidFill>
                  <a:srgbClr val="d3a219"/>
                </a:solidFill>
                <a:latin typeface="Arial"/>
              </a:rPr>
              <a:t>КИ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419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3424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3:26:58Z</dcterms:created>
  <dc:creator>Konstantins</dc:creator>
  <dc:description/>
  <dc:language>en-US</dc:language>
  <cp:lastModifiedBy>Elena</cp:lastModifiedBy>
  <dcterms:modified xsi:type="dcterms:W3CDTF">2015-05-25T09:38:30Z</dcterms:modified>
  <cp:revision>16</cp:revision>
  <dc:subject/>
  <dc:title>ЗНАКОМСТВО  С  ТЕАТРОМ</dc:title>
</cp:coreProperties>
</file>