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98E-1A43-4A66-8509-693A3A04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6FA-4125-4ADD-BBEF-ECEF613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EBB-A4EE-46C4-9EF1-C86159F8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47E-40E9-418C-B0BB-4F21FDD2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C34-5519-4346-B75C-BE46B93C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1F20-E6FB-4805-A158-D6BBD26F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5973-5C8A-42E8-B485-349477C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2B41-D1EA-4EFD-897E-EE086ACB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56F7-7D49-4F53-A48F-93A197EB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F91-5FDA-47C8-AB7A-CD6CD2B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E014-9D22-477C-A6E5-11CCABF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3B1-272D-4985-9F06-864C0F26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6AC-3DB9-436F-8C78-31484EA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6423-2C31-482C-BCCC-E20853A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66B7-A6F5-4B2B-A982-80EFC4C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0FD4-B323-465B-9211-C23E99E6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5254-9CD0-4690-992E-BB6D1E8D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E17-52F8-4FFE-88FE-30A15B20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205-D975-4E42-8295-EF23D26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60E-1C89-4F57-9A15-63451EC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016-5CCD-4CD3-9163-801531CD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C99-522A-4C19-8D75-208875C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7C8-86BF-43C7-95EF-E48E033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A57-C445-49EF-931F-47D087F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DE8B-60C2-418F-906C-16E0A49687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3F37-CF02-4902-A68D-45B0B1523B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 flipV="1" rot="10800000">
            <a:off x="0" y="5588640"/>
            <a:ext cx="9144000" cy="1268280"/>
          </a:xfrm>
          <a:prstGeom prst="rect">
            <a:avLst/>
          </a:prstGeom>
          <a:solidFill>
            <a:srgbClr val="cccc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Современный урок и его технологическая карта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3200" y="54450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Хохлова Н.Б., педагог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МУ ДО «Дом творчества» р.п. Духовницкое Духовницкого района Саратовской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900000" y="6237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695760"/>
            <a:ext cx="779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692360" y="342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Соответствие требованиям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22440" y="360360"/>
            <a:ext cx="7978680" cy="1455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755640" y="1699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ехнологической карты обеспечива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роцесс по освоению темы (раздела) проектируется от цели до результата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эффективные методы работы с информацие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ся поэтапная самостоятельная учебная, интеллектуально-познавательная и рефлексивная деятельность школьник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ся условия для применения знаний и умений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50920" y="0"/>
          <a:ext cx="8642160" cy="6703920"/>
        </p:xfrm>
        <a:graphic>
          <a:graphicData uri="http://schemas.openxmlformats.org/drawingml/2006/table">
            <a:tbl>
              <a:tblPr/>
              <a:tblGrid>
                <a:gridCol w="3070080"/>
                <a:gridCol w="5572080"/>
              </a:tblGrid>
              <a:tr h="34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АЯ КАРТ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УУД:                            Регулятивные УУД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:                Познавательные УУД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 знать…                              уметь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о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предметные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: основные и дополн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89000"/>
          <a:ext cx="8964720" cy="6433920"/>
        </p:xfrm>
        <a:graphic>
          <a:graphicData uri="http://schemas.openxmlformats.org/drawingml/2006/table">
            <a:tbl>
              <a:tblPr/>
              <a:tblGrid>
                <a:gridCol w="1368360"/>
                <a:gridCol w="1192320"/>
                <a:gridCol w="1281240"/>
                <a:gridCol w="1280880"/>
                <a:gridCol w="1281240"/>
                <a:gridCol w="1279440"/>
                <a:gridCol w="1281240"/>
              </a:tblGrid>
              <a:tr h="916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ая карта с методической структурой урок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структур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х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и их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мо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нов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изучен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539640" y="189000"/>
          <a:ext cx="7920000" cy="380520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79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ая карта уро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для учен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для учител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уро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ные понятия, терми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понят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0920" y="4076640"/>
          <a:ext cx="8785080" cy="2676600"/>
        </p:xfrm>
        <a:graphic>
          <a:graphicData uri="http://schemas.openxmlformats.org/drawingml/2006/table">
            <a:tbl>
              <a:tblPr/>
              <a:tblGrid>
                <a:gridCol w="1225440"/>
                <a:gridCol w="1366920"/>
                <a:gridCol w="1441440"/>
                <a:gridCol w="1582560"/>
                <a:gridCol w="1441440"/>
                <a:gridCol w="1727280"/>
              </a:tblGrid>
              <a:tr h="166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методы, приемы, форм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УУ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заимодействия (сотрудничеств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                                                                        Тема занятия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:                                                                             Цель урок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                                                                               Образовательные ресурсы: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397160"/>
          <a:ext cx="8496000" cy="5257800"/>
        </p:xfrm>
        <a:graphic>
          <a:graphicData uri="http://schemas.openxmlformats.org/drawingml/2006/table">
            <a:tbl>
              <a:tblPr/>
              <a:tblGrid>
                <a:gridCol w="1800000"/>
                <a:gridCol w="1032120"/>
                <a:gridCol w="1415880"/>
                <a:gridCol w="1415880"/>
                <a:gridCol w="1536840"/>
                <a:gridCol w="1295280"/>
              </a:tblGrid>
              <a:tr h="6037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организ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эта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педагогического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Мотивация учеб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Актуализация знаний. Постановка цели ур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Проблемное объяснение нового матери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Закреп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Итог урока. Рефлекс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                                                                        Тема занятия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:                                                                             Цели урок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                                                                               Образовательные ресурсы: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557360"/>
          <a:ext cx="8569080" cy="5195880"/>
        </p:xfrm>
        <a:graphic>
          <a:graphicData uri="http://schemas.openxmlformats.org/drawingml/2006/table">
            <a:tbl>
              <a:tblPr/>
              <a:tblGrid>
                <a:gridCol w="2143080"/>
                <a:gridCol w="885600"/>
                <a:gridCol w="1256040"/>
                <a:gridCol w="1428480"/>
                <a:gridCol w="1549440"/>
                <a:gridCol w="1306440"/>
              </a:tblGrid>
              <a:tr h="30708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организ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эта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педагогического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остановка учеб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вместное исследова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Модел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Конструирование нового способа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Переход к этапу решения част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Применение общего способа действия для решения част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Контроль на этапе окончания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7921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Эффективный урок- совершенно новый, актуальный, хорошо спланированный урок -где применяются новые формы методы и подход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Уро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очка педагогического процес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ние, открытие, деятельность, противоречие, развитие, рост, ступенька к знанию, самопознание, самореализация, мотивация, интерес. профессионализм, выбор, инициативность, уверенность, потреб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492280"/>
            <a:ext cx="82296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овременный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овременный уро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 с использованием техники (компьютер, диапроектор, интерактивная доска и т.п.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, с осуществлением индивидуального подхода к каждому учени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 , содержащий разные виды деятель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, стимулирующий развитие познавательной активности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, направленный на развитие у детей креативного мышл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, воспитывающий думающего ученика-интеллекту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, предполагающий сотрудничество, взаимопонимание, атмосферу комфорта, радости и увлечен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4"/>
          <p:cNvSpPr/>
          <p:nvPr/>
        </p:nvSpPr>
        <p:spPr>
          <a:xfrm>
            <a:off x="468360" y="4437000"/>
            <a:ext cx="845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й способ проектирования урока, таблица, позволяющая структурировать урок по выбранным учителем параметрам. Такими параметрами могут быть этапы урока, его цели, содержание учебного материала, методы и приемы организации учебной деятельности обучающихся, деятельность учителя и деятельность обучаю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00000" y="1557360"/>
            <a:ext cx="8064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хнологическая карта 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ока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33360"/>
            <a:ext cx="8280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Garamond"/>
              </a:rPr>
              <a:t>Настоящий урок начинается не со звонка, а задолго до него.</a:t>
            </a:r>
            <a:br>
              <a:rPr sz="2000"/>
            </a:br>
            <a:r>
              <a:rPr b="1" lang="en-US" sz="2000" spc="-1" strike="noStrike">
                <a:solidFill>
                  <a:srgbClr val="666600"/>
                </a:solidFill>
                <a:latin typeface="Garamond"/>
              </a:rPr>
              <a:t>                                                                                                        С.И. Гесс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468360" y="3068640"/>
            <a:ext cx="8454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вид методической продукции, обеспечивающей эффективное и качественное преподавание учебных курсов в школе и возможность достижения планируемых результатов освоения основных образовательных программ  в соответствии с ФГОС второго поко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71640" y="109440"/>
            <a:ext cx="7172280" cy="1524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 использованием технологической карты позволя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овать эффективный учебный процесс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реализацию предметных, метапредметных и личностных умений (универсальных учебных действий), в соответствии с требованиями ФГОС второго поколени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щественно сократить время на подготовку учителя к уро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84720" y="4653000"/>
            <a:ext cx="325584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3360" y="-6480"/>
            <a:ext cx="7900920" cy="1719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темы с указанием часов, отведенных на ее изуч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своения учебного содержа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(личностные, предметные, метапредметные, информационно-интеллектуальную компетентность и УУД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связи и организацию пространства (формы работы и ресурсы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6920" y="-6480"/>
            <a:ext cx="7677360" cy="171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971280" y="19159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темы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изучения указанной тем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каждом этапе работы определяется цель и прогнозируемый результат, даются практические задания на отработку материала и диагностические задания на проверку его понимания и усвоения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е задание на проверку достижения планируем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22440" y="158760"/>
            <a:ext cx="7899120" cy="17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4000" y="15570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планируемые результаты ФГОС второго поко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ниверсальные учебные действия, которые формируются в процессе изучения конкретной темы, всего учебного к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формировать у учащихся универсальные учебные действ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ить и спроектировать последовательность работы по освоению темы от цели до конечного результа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ровень раскрытия понятий на данном этапе и соотнести его с дальнейшим обучением (вписать конкретный урок в систему уро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ть свою деятельность на четверть, полугодие, год посредством перехода от поурочного планирования к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ю т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диагностику достижения планируемых результатов учащимися на каждом этапе освоения 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00000" y="360360"/>
            <a:ext cx="7621560" cy="14558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3203640" y="2349360"/>
            <a:ext cx="57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выполнение программы и достижение планируемых результатов, а также осуществлять необходимую методическую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263196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4:01:02Z</dcterms:created>
  <dc:creator>Аленка</dc:creator>
  <dc:description/>
  <dc:language>en-US</dc:language>
  <cp:lastModifiedBy>ОКСАНА</cp:lastModifiedBy>
  <dcterms:modified xsi:type="dcterms:W3CDTF">2018-01-26T06:37:55Z</dcterms:modified>
  <cp:revision>26</cp:revision>
  <dc:subject/>
  <dc:title>Технологическая карта урока, соответствующая требованиям ФГОС</dc:title>
</cp:coreProperties>
</file>