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5F122-BCA0-4810-B1F0-5E2A51E45AD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9B32-1CED-42D3-A227-4E4246DA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751C7-AE75-49DE-AB0A-880A7C23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EE702-6626-4EDE-B4B8-6A24C86A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748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1776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8B4D-5FA9-46B6-B151-0250EF29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BDB5-2694-4240-8864-E300C60F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CAED-5CE0-4207-BA4D-9F917579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F9E7-1792-4A5C-958B-F84CEEED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FBE4-47A4-4230-8B36-845DCA6D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630F-29E3-451B-9839-0D6EBEB2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60200"/>
            <a:ext cx="82231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56A8-E13B-49DF-B920-F21044DC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325E-0562-49A6-BF85-1C94DCF0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4D421-B187-445B-AA0D-5BBA9955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F1CD-2D55-4155-A9DB-A53FA3E2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5BA9-8D16-48F2-B400-0EF2DA6E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43BB-4EDB-4ED6-AC89-7DAF27C0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A253-8271-4E19-8573-F38EC06F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748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776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C014-2E35-4FEE-8042-6B5C7D15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335E1-886B-4959-9B01-C00581FF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FCAC-04B3-40D0-B1DA-6E23AF9E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1E315-3CAA-4876-AA93-2A8BADDD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160200"/>
            <a:ext cx="82231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27C77-244F-4D80-80F2-9773E6D8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DA583-9E08-48C2-9726-1ADB5505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AA2CA-1A01-4DE3-91CF-CDEFB8F9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AA58-411D-4EF9-8122-C085A97D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6640" cy="685512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43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7944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80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260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716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852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68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524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889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3976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208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2560" cy="70488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8400" cy="2746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A70C3-CBD3-4491-BBC5-63522399C41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6640" cy="685512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43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7944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80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260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716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852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68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524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889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3976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208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2560" cy="70488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8400" cy="2746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659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A22B31D-3CFC-490B-86F9-D6E0A70202E7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2711160"/>
            <a:ext cx="8915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Monotype Corsiva"/>
              </a:rPr>
              <a:t>Нанзал Адыгжы Артурович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-360" y="4343400"/>
            <a:ext cx="8999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Самагалтайнын дугаары 2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ниити билиг ортумак школазынын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3 «а» клазыны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ң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өө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реникчиз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Удуртукчу башкызы :Донгак Айсуу Александровна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эге класс  башкыз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00360" y="360360"/>
            <a:ext cx="37796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906120" y="114480"/>
            <a:ext cx="7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Кичээнгейлиг дыннаанынар дээш четтирдивис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Ажылды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ң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 темазы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«Леонид Чадамбанын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«Каас уе» деп шулуунун дылынын онзагайы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Monotype Corsiva"/>
              </a:rPr>
              <a:t>Сорулгазы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 algn="ctr">
              <a:lnSpc>
                <a:spcPct val="10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Чогаалчы Л.Чадамбанын шулуунун дылыны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ң онзагайын 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сайгарар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Monotype Corsiva"/>
              </a:rPr>
              <a:t>Шиитпирлээр айтырыг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 algn="ctr">
              <a:lnSpc>
                <a:spcPct val="10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Чогаалчынын уран-чечен дылында онзагай чуулдерин илередир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8760"/>
            <a:ext cx="8226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аас у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1060200"/>
            <a:ext cx="822636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29280" indent="0"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ук чокпак чодураал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29280" indent="0"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гун дег ак аржыыл кеткен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29280" indent="0"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ник чаагай каас у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29280" indent="0"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нгир ногаан чай-даа келге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29280" indent="0"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29280" indent="0"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чек-буру четчип унгеш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29280" indent="0"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рнин кыры хевистелге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29280" indent="0"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жыл-ишчи ары, кушт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29280" indent="0"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мданныг чем чыый берге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29280" indent="0"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29280" indent="0"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ынаа, шолдер делгеминд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29280" indent="0"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хозчулар сиген кеске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29280" indent="0"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ыгыт, хоомей, хоглуг ырл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29280" indent="0"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стуг ишти алгай берге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Monotype Corsiva"/>
              </a:rPr>
              <a:t>Ажыглаан  арга-методтар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 algn="ctr">
              <a:lnSpc>
                <a:spcPct val="10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Шинчилел ажылынга тайылбыр, дилеп-тыварыны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ң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методтарын, шулуктун дылын сайгарар болгаш статистиктиг аргаларны ажыгла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ffcc"/>
                </a:solidFill>
                <a:latin typeface="Times New Roman"/>
              </a:rPr>
              <a:t>Ажылды</a:t>
            </a:r>
            <a:r>
              <a:rPr b="0" i="1" lang="ru-RU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ң</a:t>
            </a:r>
            <a:r>
              <a:rPr b="0" i="1" lang="ru-RU" sz="3600" spc="-1" strike="noStrike">
                <a:solidFill>
                  <a:srgbClr val="ffffcc"/>
                </a:solidFill>
                <a:latin typeface="Times New Roman"/>
              </a:rPr>
              <a:t> материалы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52480" y="1588680"/>
            <a:ext cx="4186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 algn="ctr">
              <a:lnSpc>
                <a:spcPct val="90000"/>
              </a:lnSpc>
              <a:spcBef>
                <a:spcPts val="10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Чогаалчыны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ң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«Каас уе» деп шулуунге даянып, сайгарылганы чорутка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60360" y="1440000"/>
            <a:ext cx="380520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Times New Roman"/>
              </a:rPr>
              <a:t>Ажылды</a:t>
            </a:r>
            <a:r>
              <a:rPr b="0" i="1" lang="ru-RU" sz="4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ң</a:t>
            </a:r>
            <a:r>
              <a:rPr b="0" i="1" lang="ru-RU" sz="4200" spc="-1" strike="noStrike">
                <a:solidFill>
                  <a:srgbClr val="ffffcc"/>
                </a:solidFill>
                <a:latin typeface="Times New Roman"/>
              </a:rPr>
              <a:t> ужур-дузаз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 algn="ctr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Башкыларынга, чогаалчыны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ң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чогаадыкчы ажыл-чорудулгазын сонуургап чоруур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өө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реникчилерге, чечен чогаалга сонуургалдыгларга бичии-даа бол дуза болур дээрзинге идегеп турар бис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Ажылды</a:t>
            </a:r>
            <a:r>
              <a:rPr b="0" lang="ru-RU" sz="4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ң</a:t>
            </a: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 тургузуу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 algn="ctr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Ажыл киирилдеден, кол кезектен, ажыглаан литература данзызындан, капсырылгадан тургустунга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spcBef>
                <a:spcPts val="100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5-15T02:36:0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