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633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1325-22F7-4E16-A513-CC6B2C619E5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уссия – распространённая технология проведения всевозможных ток-шоу. Для обучаемых внешняя сторона её проведения знакома. Дискутируют и производственники. Но такого безобразия (других слов у меня нет) как при проведении ток-шоу они не могут себе позволить. Наша задача освоить вместе с обучаемыми правила и особенности проведения дискуссии приемлемой в условиях профессиональной деятельности. Вместе с тем нам необходимо сделать её увлекательной, интересной. Поэтому в предлагаемом материале мы уделим внимание и внешней стороне проведения дискуссии, а именно что делать преподавателю на разных этапах её прове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вопрос который мы рассматривали при подготовке к этому вебинару: «Что сдерживает применение этого метода (технологии)?» Как правило мы  рассматриваем дискуссию как процедуру растянутую во времени, что не всегда вписывается во время отводимое на занятие. Отсюда задача – сделать дискуссию менее продолжительной . Но мы знаем что разговорить сегодняшних обучаемых задача не простая. Нужен инструмент вовлечения в дискуссию. Итак что же мы рассмотрим и сделаем в ходе занятия:</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компетенции развиваются и формируются в ходе дискуссии</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особенности дискуссии</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нинговое упражнение по теме «Компетенции»</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формулировке тезисов для дискуссии</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ы тезисов для дискуссии</a:t>
            </a:r>
            <a:endParaRPr b="0" lang="en-US" sz="12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у проведения дискуссии и деятельность педагога при её проведении</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01D7-229E-4DA6-B030-D8C5D94A8FC3}"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читать и прокомментировать кроме средней пары тезисов – это практическая работа слушателей вебин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2A93-0DE7-477A-A283-B8F211FAC2CD}"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ю карточку для тренинга по дискуссии мы используем при работе со слушателями в аудитории. Имитировать  эту работу при проведении вебинара трудно. И всё же попробуем. Подумайте, какое утверждение из приведённых Вам предпочтительней, какие аргументы Вы бы привели в пользу своего выбора? Отводим на эту работу 10 минут. Форма ответа: правое или левое утверждение и кратко аргументы плюс, как всегда, вопросы </a:t>
            </a:r>
            <a:endParaRPr b="0" lang="en-US"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8912-9648-4AF4-8B4D-9042847C5E89}"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высказывания и высказывания Ваших коллег, которые они делали в других условиях, да и наш предварительный разбор некоторых  тезисов из предложенной карточки, тому подтверж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ак думаем, изучаем практику на предмет как те или иные условия, в т.ч. и прежде всего производственные условия, влияют на принимаемые решения, на технологический процесс, на работу машин и агрегатов и т.д. </a:t>
            </a:r>
            <a:endParaRPr b="0" lang="en-US"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8601-7C46-4701-AF14-36E7B93C31B0}"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е тезисы используются в эвристической и проблемно – поисковой беседе. Дискуссия в этом случае если и происходит, то она очень короткая по времени и прекращается при нахождении верной гипотезы и её обоснования. Дискуссия в этом случае выступает приёмом в методе эвристической или проблемно-поисковой беседы.</a:t>
            </a:r>
            <a:endParaRPr b="0" lang="en-US" sz="1200" spc="-1" strike="noStrike">
              <a:solidFill>
                <a:srgbClr val="000000"/>
              </a:solidFill>
              <a:latin typeface="Calibri"/>
            </a:endParaRPr>
          </a:p>
        </p:txBody>
      </p:sp>
      <p:sp>
        <p:nvSpPr>
          <p:cNvPr id="2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D4F9-7D3F-411F-986C-44ACF5EA4EA4}"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метод проблемно – поисковой беседы предусматривает целую последовательно продуманную серию проблемных ситуаций. И в данном случае мы видим, что тезисы, проблемы предлагаемого характера уместны в начале и во время проведения такой беседы </a:t>
            </a:r>
            <a:endParaRPr b="0" lang="en-US"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F667-72BD-47A4-86EE-6F37060C0C8D}"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лементы дискуссии (мини – дискуссии), включённые в метод эвристического диалога (конкретно поисково-проблемная беседа), копируют по процедуре возможные производственные совещания. А это как раз то, что мы хотим, чтобы сформировалась профессиональная компетенция.  Многоаспектность рассматриваемого вопроса (темы) формирует у обучаемого, как будущего производственника, многокритериальный подход к решению проблем: экономические; технологические; ресурсные, в т.ч. учет трудовых ресурсов, правовые и т.д.</a:t>
            </a:r>
            <a:endParaRPr b="0" lang="en-US"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41FF-D006-4429-984C-46AAA7332525}"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имере показано только два тезиса по одному  аспекту деятельности менеджера: планирование собственной работы. Практика использования этой карточки (в целом в ней восемь пар тезисов) показала, что дискуссия затрагивает и личностные характеристики менеджера, и производственные условия, и доминирующий стиль управления и многое другое. Шутки со стороны обучаемых тоже рассматривались: а если обращающийся родственник (жена, сын,..) директора? А если мне обращающийся симпатичен?..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не отвлекайтесь – обучаемые часто хотят перевести дискуссию в более привычную для них среду, поговорить «по душам»,если только это не цель Вашего занятия.</a:t>
            </a:r>
            <a:endParaRPr b="0" lang="en-US" sz="1200" spc="-1" strike="noStrike">
              <a:solidFill>
                <a:srgbClr val="000000"/>
              </a:solidFill>
              <a:latin typeface="Calibri"/>
            </a:endParaRPr>
          </a:p>
        </p:txBody>
      </p:sp>
      <p:sp>
        <p:nvSpPr>
          <p:cNvPr id="3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53C2-5101-4421-A28F-702B6DBFA885}"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типовых задач в производственных условиях происходит с учётом дополнительных факторов и видов работ. Пример (для агрономов): подсчёт потребного количества для высева семян делается по формуле: норма * площадь. Но если вывести обучаемых на дискуссию путём последовательных проблемных ситуаций или с помощью карточки «одно из двух» мы выводим их на учёт сортности семян, погодных условий, технического состояния используемой техники и т.п. Этому посвящена презентация «Технология модульного обучения на примере спец. Агроном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изводстве специалисту часто информация поступает в необработанном виде или она вообще отсутствует. Отсутствие её не позволяет решить даже типовую, стандартизованную задачу. Где? У кого искать необходимую информацию тоже можем обсудить в ходе дискуссии. Пример усложнения призводственной задачи с включением поиска информации мы рассмотрим позж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5027-E8CC-4227-AA91-BF2DADD6B539}"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читать.</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особо в начале курса или занятия»?:</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определить уровень осведомлённости и не тратить время на известное обучающим содержание осваиваемой темы занятия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тобы выявить хорошо подготовленных студентов, которых будем использовать при изучении материала, культивируя тем самым соревновательность в обучении, создавая иллюзию, что обучаемые сами добывают знания</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когда наше занятие базируется на знаниях другой дисциплины</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ы заинтересованы в ответе на вопрос: « Все ли понимают материал в выданной трактовке?»</a:t>
            </a:r>
            <a:endParaRPr b="0" lang="en-US" sz="1200" spc="-1" strike="noStrike">
              <a:solidFill>
                <a:srgbClr val="000000"/>
              </a:solidFill>
              <a:latin typeface="Calibri"/>
            </a:endParaRPr>
          </a:p>
        </p:txBody>
      </p:sp>
      <p:sp>
        <p:nvSpPr>
          <p:cNvPr id="3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42B3-7761-45E8-97D4-F54A34A059FE}"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ребования учитываются при составлении карточки «одно из двух», которую мы рассматривали выше . Эти требования следующие - </a:t>
            </a:r>
            <a:r>
              <a:rPr b="1" lang="ru-RU" sz="1200" spc="-1" strike="noStrike">
                <a:solidFill>
                  <a:srgbClr val="000000"/>
                </a:solidFill>
                <a:latin typeface="Calibri"/>
              </a:rPr>
              <a:t>зачитать</a:t>
            </a:r>
            <a:endParaRPr b="0" lang="en-US" sz="1200" spc="-1" strike="noStrike">
              <a:solidFill>
                <a:srgbClr val="000000"/>
              </a:solidFill>
              <a:latin typeface="Calibri"/>
            </a:endParaRPr>
          </a:p>
        </p:txBody>
      </p:sp>
      <p:sp>
        <p:nvSpPr>
          <p:cNvPr id="3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44B0-D29D-493C-BDCE-0FA13C2E29AE}"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даёт дискуссия для обучаемого? </a:t>
            </a:r>
            <a:r>
              <a:rPr b="1" lang="ru-RU" sz="1200" spc="-1" strike="noStrike">
                <a:solidFill>
                  <a:srgbClr val="000000"/>
                </a:solidFill>
                <a:latin typeface="Calibri"/>
              </a:rPr>
              <a:t>Перечисляем пункты с кадра </a:t>
            </a:r>
            <a:endParaRPr b="0" lang="en-US" sz="1200" spc="-1" strike="noStrike">
              <a:solidFill>
                <a:srgbClr val="000000"/>
              </a:solidFill>
              <a:latin typeface="Calibri"/>
            </a:endParaRPr>
          </a:p>
        </p:txBody>
      </p:sp>
      <p:sp>
        <p:nvSpPr>
          <p:cNvPr id="2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DB90-E9C3-41DF-9D36-64CF346E6753}"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й момент что это не тест. Обучаемые часто на первых порах воспринимают карточку «одно из двух» как тест и чувствуют себя сковано опасаясь ответить не верно и получить отрицательную оценку. Преодоление этого барьера позволяет и слабым обучающимся внести свою лепту в обсуждение. В последующем отмечается повышение их активности и в ходе обычного освоения учебного материала.</a:t>
            </a:r>
            <a:endParaRPr b="0" lang="en-US" sz="1200" spc="-1" strike="noStrike">
              <a:solidFill>
                <a:srgbClr val="000000"/>
              </a:solidFill>
              <a:latin typeface="Calibri"/>
            </a:endParaRPr>
          </a:p>
        </p:txBody>
      </p:sp>
      <p:sp>
        <p:nvSpPr>
          <p:cNvPr id="3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1AE1-5E84-4C2A-9AF4-8D5995B597B9}"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что это малый этап Вашего занятия. Не стремитесь глубоко изучить проблему. Для этого подбирайте соответствующие парные тезисы, тогда есть гарантия, что обсуждение не затянется. Контролируйте  время. 20-30 минут с обсуждением. Предусмотрите на это время.  </a:t>
            </a:r>
            <a:endParaRPr b="0" lang="en-US" sz="1200" spc="-1" strike="noStrike">
              <a:solidFill>
                <a:srgbClr val="000000"/>
              </a:solidFill>
              <a:latin typeface="Calibri"/>
            </a:endParaRPr>
          </a:p>
        </p:txBody>
      </p:sp>
      <p:sp>
        <p:nvSpPr>
          <p:cNvPr id="3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3306-A3DE-4A4D-BFD3-E93CD2ED4EB0}"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высказаться смелым, подготовленным, но не предоставляйте им возможности дать развёрнутое обоснование по всем пунктам. Втягивайте в дискуссию остальных. Нужна массовость. Затем следуйте второй рекомендации</a:t>
            </a:r>
            <a:endParaRPr b="0" lang="en-US" sz="1200" spc="-1" strike="noStrike">
              <a:solidFill>
                <a:srgbClr val="000000"/>
              </a:solidFill>
              <a:latin typeface="Calibri"/>
            </a:endParaRPr>
          </a:p>
        </p:txBody>
      </p:sp>
      <p:sp>
        <p:nvSpPr>
          <p:cNvPr id="3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4B1A-2540-4918-8785-F7A24809A3EF}"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не давайте оценки ответу!</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етствуйте такие ответы, одобряйте, приводите свой примеры из практики</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уссия этап занятия. Вы уже продумали заранее зачем она нужна на этом этапе. Делайте переходной «мостик» к следующему этапу занятия</a:t>
            </a:r>
            <a:endParaRPr b="0" lang="en-US" sz="1200" spc="-1" strike="noStrike">
              <a:solidFill>
                <a:srgbClr val="000000"/>
              </a:solidFill>
              <a:latin typeface="Calibri"/>
            </a:endParaRPr>
          </a:p>
        </p:txBody>
      </p:sp>
      <p:sp>
        <p:nvSpPr>
          <p:cNvPr id="3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9A14-1150-40AF-A694-31134019598F}"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зис-ответ, тезис – ответ. Но можно и нужно: тезис - ответ - уточнение – уточнение – возврат к ответу – коррекция и т.п. Варьируйте!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ходя из ситуации Вы это сделаете. Не давайте персональных оценок в привычной 5- бальной системе или в качественных категориях.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ая процедура. Тоже элемент производственных (правильных) отношений.</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ая процедура. Не забудьте про «мостик» – переход к последующему этапу обучения</a:t>
            </a:r>
            <a:endParaRPr b="0" lang="en-US" sz="1200" spc="-1" strike="noStrike">
              <a:solidFill>
                <a:srgbClr val="000000"/>
              </a:solidFill>
              <a:latin typeface="Calibri"/>
            </a:endParaRPr>
          </a:p>
        </p:txBody>
      </p:sp>
      <p:sp>
        <p:nvSpPr>
          <p:cNvPr id="3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D378-6EE0-48CF-ADE3-D80F5240E9D2}"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D798-8E1D-4306-8A83-7DD75E6DC349}"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точки зрения формирования общих компетенций, дискуссия очень продуктивный метод(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это возможно, если она будет часто применяться. Сегодняшнее редкое применение показывает, что преподавателю приходится много затрачивать времени на организацию, на объяснение правил проведения дискуссии обучаемым. И приведённые умения не закрепляются у обучаемых. Это сдерживающий фактор.  Наша задача сделать этот метод работы более удобным для более частого применения.</a:t>
            </a:r>
            <a:endParaRPr b="0" lang="en-US" sz="1200" spc="-1" strike="noStrike">
              <a:solidFill>
                <a:srgbClr val="000000"/>
              </a:solidFill>
              <a:latin typeface="Calibri"/>
            </a:endParaRPr>
          </a:p>
        </p:txBody>
      </p:sp>
      <p:sp>
        <p:nvSpPr>
          <p:cNvPr id="2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7CA5-7384-43C5-8D2C-E90897F9A797}"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ессиональные компетенции в упрощённом виде – способность использовать знания в производственных условиях. Во время проведения дискуссии новые знания приобретаются посредством взаимообмена между участниками дискуссии. А это багаж приобретённый в ходе предшествующего обучения. И с этой позиции, с позиции приобретения новых знаний, дискуссия вроде ни чего нового не даёт. Но здесь главное другое: использование знаний в доказательстве, опровержении, в приведении примеров, где знания проявляются. А это уже проявление компетенции. Тем самым мы даём возможность обучаемым подготовиться к возможным производственным ситуациям, требующим доказательности с использованием знаний. Это даёт нам возможность убедиться в том, что обучаемые смогут использовать знания в производственных условиях, что формирование профессиональной компетенции идёт успешно. </a:t>
            </a:r>
            <a:endParaRPr b="0" lang="en-US"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B043-1E8F-49AB-A983-B28E6C3F30CC}"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слов о дискуссии с классификационной точки зр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голосие. По такой направленности проходят большинство ток-шоу, предвыборные дебаты. Уместна при проведении внеклассных меро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голосие. Такая направленность дискуссии должна присутствовать в процессе обучения </a:t>
            </a:r>
            <a:endParaRPr b="0" lang="en-US" sz="1200" spc="-1" strike="noStrike">
              <a:solidFill>
                <a:srgbClr val="000000"/>
              </a:solidFill>
              <a:latin typeface="Calibri"/>
            </a:endParaRPr>
          </a:p>
        </p:txBody>
      </p:sp>
      <p:sp>
        <p:nvSpPr>
          <p:cNvPr id="2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D26E-6530-45CA-98BC-3FF23DFA4E9B}"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нно этот вид дискуссии описывается в работах преподавателей, когда они делятся своим опытом. Дискуссия рассматривается как технология. Но ещё раз обращу Ваше внимание, что для успешного проведения продолжительной дискуссии нужны навыки её ведения. Успешность достигается иногда общей образованностью обучаемых, их высоким уровнем воспитанности. Чаще для успешности проведения дискуссии используется предварительный тренинг, особо, если мероприятие, где используется дискуссия открытое. Эффект есть, и у некоторых обучаемых он отложится надолго, но в основной массе он забудется. И когда надо будет перейти в следующий раз к дискуссии – всё повторится. Необходимо повысить эффективность длительной дискуссии. Для этого мы предлагаем Вам обратить внимание на кратковременную дискуссию, как метод предшествующий по времени развёрнутой диску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9C16-79F8-46BC-9446-63359070D07F}"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щаю Ваше внимание на продолжительность – она короткая, что позволяет вписать её в структуру занятия. Второй момент - полярные точки зрения уже сформулированы, что и позволяет сократить время проведения дискуссии. Иногда встречаются ситуации, когда обучаемый (как правило хорошо подготовленный) говорит о том, что обе точки зрения его устраивают. Но в жизни, на производстве надо принимать одно решение. И исходя из этого приходится просить обучаемого выбрать ту точку зрения, где он видит больше аргументов в её пользу. Будьте готовы и Вы к этому, т.к. нам предстоит небольшая практическая работа.</a:t>
            </a:r>
            <a:endParaRPr b="0" lang="en-US"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3415-57CF-4BFE-BFB0-DE7D41F883DD}"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е два кадра презентации приводят различные мнения по формированию компетенций. Всего их шесть пар. Вы можете использовать  её для дискуссии со своими коллегами по учебному заведению. Здесь же мы остановимся только на одной паре высказываний</a:t>
            </a:r>
            <a:endParaRPr b="0" lang="en-US" sz="1200" spc="-1" strike="noStrike">
              <a:solidFill>
                <a:srgbClr val="000000"/>
              </a:solidFill>
              <a:latin typeface="Calibri"/>
            </a:endParaRPr>
          </a:p>
        </p:txBody>
      </p:sp>
      <p:sp>
        <p:nvSpPr>
          <p:cNvPr id="2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627F-0607-4565-88AA-62CF49C34D32}"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читать и прокомментировать</a:t>
            </a:r>
            <a:endParaRPr b="0" lang="en-US"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B8C6-2D78-4E88-AC86-9D4A6536BB72}" type="slidenum">
              <a:rPr b="0" lang="ru-RU" sz="1200" spc="-1" strike="noStrike">
                <a:solidFill>
                  <a:srgbClr val="663300"/>
                </a:solidFill>
                <a:latin typeface="Calibri"/>
              </a:rPr>
              <a:t>&lt;number&gt;</a:t>
            </a:fld>
            <a:endParaRPr b="0" lang="en-US" sz="1200" spc="-1" strike="noStrike">
              <a:solidFill>
                <a:srgbClr val="66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23CB1-AA12-49E8-B8B0-7F3C79875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15E6-A758-4366-8B2D-7AEFA388A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FD3E4-0487-48D2-A5C8-172B8594B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C45C3-3B54-45A8-8986-5C13116FF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D5EAE-EC4C-4273-BC01-3228A8E58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7"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C10FB-B290-42C4-A937-16D3B5EFD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9"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AEF89-9BA6-48D4-863C-1F4CA3C85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1"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2"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70636-0D33-4F4B-86B5-424F6F891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85A0-3031-4749-848B-7456BA445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DA91-30D8-4155-880E-ED615A99A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6"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8"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70E31-6B13-4728-8B5A-8FA241CB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7E1E8-95FD-40AB-A27D-2EA53B99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2"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A3831-EAB1-42F0-98A0-578F19FE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4"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6"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40408-05EE-4813-B517-7055C7C64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8"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9"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DC0FE-A4C9-40E3-B703-39D6FF245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1"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4"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9D326-183E-447C-8EE0-7742E028A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6"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1"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9F36D-3920-4835-818C-44B188EA1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82793-8ECF-4E61-A77B-A4675217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416A-0C0E-4873-BFF9-24C4372D2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58D95-7CF2-4B05-85E0-8E9AF99D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4469-6BB1-4F72-A888-DEB3394B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F95C-69C6-4DF2-ADE6-CE6E63BA3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68EF-6445-47AA-905F-1E6FA094D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6050-7090-467E-9E15-FE7D36291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8000"/>
            <a:chOff x="0" y="0"/>
            <a:chExt cx="9142560" cy="6858000"/>
          </a:xfrm>
        </p:grpSpPr>
        <p:grpSp>
          <p:nvGrpSpPr>
            <p:cNvPr id="1" name="Group 3"/>
            <p:cNvGrpSpPr/>
            <p:nvPr/>
          </p:nvGrpSpPr>
          <p:grpSpPr>
            <a:xfrm>
              <a:off x="0" y="0"/>
              <a:ext cx="9142560" cy="6856560"/>
              <a:chOff x="0" y="0"/>
              <a:chExt cx="9142560" cy="6856560"/>
            </a:xfrm>
          </p:grpSpPr>
          <p:sp>
            <p:nvSpPr>
              <p:cNvPr id="2"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5"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6"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7"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8"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9"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5"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6"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7"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8"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9"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0"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1"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2"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3"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4"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5"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6"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7"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8"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29"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0"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1"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2"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3"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4"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5"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6"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7"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8"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39"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0"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1"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2"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3"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4"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5"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6"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7"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8"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49"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50"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51"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52"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53"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grpSp>
        <p:pic>
          <p:nvPicPr>
            <p:cNvPr id="54" name="Picture 56"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B1A4-DD16-4D27-854F-698EED0041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Group 2"/>
          <p:cNvGrpSpPr/>
          <p:nvPr/>
        </p:nvGrpSpPr>
        <p:grpSpPr>
          <a:xfrm>
            <a:off x="0" y="0"/>
            <a:ext cx="9142560" cy="6858000"/>
            <a:chOff x="0" y="0"/>
            <a:chExt cx="9142560" cy="6858000"/>
          </a:xfrm>
        </p:grpSpPr>
        <p:grpSp>
          <p:nvGrpSpPr>
            <p:cNvPr id="97" name="Group 3"/>
            <p:cNvGrpSpPr/>
            <p:nvPr/>
          </p:nvGrpSpPr>
          <p:grpSpPr>
            <a:xfrm>
              <a:off x="0" y="0"/>
              <a:ext cx="9142560" cy="6856560"/>
              <a:chOff x="0" y="0"/>
              <a:chExt cx="9142560" cy="6856560"/>
            </a:xfrm>
          </p:grpSpPr>
          <p:sp>
            <p:nvSpPr>
              <p:cNvPr id="98"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99"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0"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1"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2"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3"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4"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5"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6"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7"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8"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09"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0"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1"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2"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3"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4"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5"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6"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7"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8"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19"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0"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1"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2"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3"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4"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5"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6"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7"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8"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29"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0"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1"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2"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3"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4"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5"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6"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7"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8"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39"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0"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1"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2"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3"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4"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5"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6"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7"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8"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sp>
            <p:nvSpPr>
              <p:cNvPr id="149"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Arial"/>
                </a:endParaRPr>
              </a:p>
            </p:txBody>
          </p:sp>
        </p:grpSp>
        <p:pic>
          <p:nvPicPr>
            <p:cNvPr id="150" name="Picture 56"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633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1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633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9555-B7BF-43A1-80BC-E29A169F2D19}" type="slidenum">
              <a:rPr b="0" lang="ru-RU"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213920"/>
            <a:ext cx="7772400" cy="178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6600"/>
                </a:solidFill>
                <a:latin typeface="Arial"/>
              </a:rPr>
              <a:t>Дискуссия как метод работы по формированию общих и профессиональных компетенций.</a:t>
            </a:r>
            <a:br>
              <a:rPr sz="3200"/>
            </a:br>
            <a:endParaRPr b="0" lang="en-US" sz="3200" spc="-1" strike="noStrike">
              <a:solidFill>
                <a:srgbClr val="996600"/>
              </a:solidFill>
              <a:latin typeface="Times New Roman"/>
            </a:endParaRPr>
          </a:p>
        </p:txBody>
      </p:sp>
      <p:sp>
        <p:nvSpPr>
          <p:cNvPr id="200" name="PlaceHolder 2"/>
          <p:cNvSpPr>
            <a:spLocks noGrp="1"/>
          </p:cNvSpPr>
          <p:nvPr>
            <p:ph type="subTitle"/>
          </p:nvPr>
        </p:nvSpPr>
        <p:spPr>
          <a:xfrm>
            <a:off x="914400" y="3580920"/>
            <a:ext cx="6400800" cy="1752840"/>
          </a:xfrm>
          <a:prstGeom prst="rect">
            <a:avLst/>
          </a:prstGeom>
          <a:noFill/>
          <a:ln w="0">
            <a:noFill/>
          </a:ln>
        </p:spPr>
        <p:txBody>
          <a:bodyPr lIns="92160" rIns="92160" tIns="46080" bIns="4608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Воронкова Вера Анатольевна, методист </a:t>
            </a:r>
            <a:endParaRPr b="0" lang="en-US" sz="3000" spc="-1" strike="noStrike">
              <a:solidFill>
                <a:srgbClr val="663300"/>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ГБ ПОУ МО</a:t>
            </a:r>
            <a:endParaRPr b="0" lang="en-US" sz="3000" spc="-1" strike="noStrike">
              <a:solidFill>
                <a:srgbClr val="663300"/>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Яхромский колледж</a:t>
            </a:r>
            <a:endParaRPr b="0" lang="en-US" sz="3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Карточка «Компетенции»</a:t>
            </a:r>
            <a:br>
              <a:rPr sz="4000"/>
            </a:br>
            <a:r>
              <a:rPr b="0" lang="ru-RU" sz="4000" spc="-1" strike="noStrike">
                <a:solidFill>
                  <a:srgbClr val="996600"/>
                </a:solidFill>
                <a:latin typeface="Times New Roman"/>
              </a:rPr>
              <a:t>продолжение</a:t>
            </a:r>
            <a:endParaRPr b="0" lang="en-US" sz="4000" spc="-1" strike="noStrike">
              <a:solidFill>
                <a:srgbClr val="996600"/>
              </a:solidFill>
              <a:latin typeface="Times New Roman"/>
            </a:endParaRPr>
          </a:p>
        </p:txBody>
      </p:sp>
      <p:graphicFrame>
        <p:nvGraphicFramePr>
          <p:cNvPr id="222" name=""/>
          <p:cNvGraphicFramePr/>
          <p:nvPr/>
        </p:nvGraphicFramePr>
        <p:xfrm>
          <a:off x="285840" y="1928880"/>
          <a:ext cx="7772400" cy="4286160"/>
        </p:xfrm>
        <a:graphic>
          <a:graphicData uri="http://schemas.openxmlformats.org/drawingml/2006/table">
            <a:tbl>
              <a:tblPr/>
              <a:tblGrid>
                <a:gridCol w="2914560"/>
                <a:gridCol w="971640"/>
                <a:gridCol w="957240"/>
                <a:gridCol w="2928960"/>
              </a:tblGrid>
              <a:tr h="131904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Уровень сформированности профессиональных компетенций  у выпускников может быть одинаковым</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Уровень сформированности профессиональных компетенций  у выпускников может быть разным</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r>
              <a:tr h="197820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За сформированность использования информационно-коммуникационных технологий прежде всего отвечают преподаватели информатики и информационных технологий</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За сформированность использования информационно-коммуникационных технологий отвечают все преподаватели, ведущие подготовку обучаемого по данной специальности (профессии)</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r>
              <a:tr h="98892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о общим компетенциям необходимо проводить квалификационные испытания</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о общим компетенциям проводить квалификационные испытания не требуется</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14200" y="213840"/>
            <a:ext cx="7772400" cy="11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Карточка «Компетенции»</a:t>
            </a:r>
            <a:br>
              <a:rPr sz="4000"/>
            </a:br>
            <a:r>
              <a:rPr b="0" lang="ru-RU" sz="4000" spc="-1" strike="noStrike">
                <a:solidFill>
                  <a:srgbClr val="996600"/>
                </a:solidFill>
                <a:latin typeface="Times New Roman"/>
              </a:rPr>
              <a:t>инструкция</a:t>
            </a:r>
            <a:endParaRPr b="0" lang="en-US" sz="4000" spc="-1" strike="noStrike">
              <a:solidFill>
                <a:srgbClr val="996600"/>
              </a:solidFill>
              <a:latin typeface="Times New Roman"/>
            </a:endParaRPr>
          </a:p>
        </p:txBody>
      </p:sp>
      <p:sp>
        <p:nvSpPr>
          <p:cNvPr id="224"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Поставьте любой знак в середине (справа или слева) к утверждению, которое больше всего соответствует Вашим предпочтениям (мыслям). Нельзя ставить знак к обоим утверждениям.</a:t>
            </a:r>
            <a:endParaRPr b="0" lang="en-US" sz="2400" spc="-1" strike="noStrike">
              <a:solidFill>
                <a:srgbClr val="663300"/>
              </a:solidFill>
              <a:latin typeface="Times New Roman"/>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graphicFrame>
        <p:nvGraphicFramePr>
          <p:cNvPr id="225" name=""/>
          <p:cNvGraphicFramePr/>
          <p:nvPr/>
        </p:nvGraphicFramePr>
        <p:xfrm>
          <a:off x="1143000" y="2071800"/>
          <a:ext cx="6095880" cy="371520"/>
        </p:xfrm>
        <a:graphic>
          <a:graphicData uri="http://schemas.openxmlformats.org/drawingml/2006/table">
            <a:tbl>
              <a:tblPr/>
              <a:tblGrid>
                <a:gridCol w="2031840"/>
                <a:gridCol w="2032200"/>
                <a:gridCol w="20318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r>
            </a:tbl>
          </a:graphicData>
        </a:graphic>
      </p:graphicFrame>
      <p:graphicFrame>
        <p:nvGraphicFramePr>
          <p:cNvPr id="226" name=""/>
          <p:cNvGraphicFramePr/>
          <p:nvPr/>
        </p:nvGraphicFramePr>
        <p:xfrm>
          <a:off x="214200" y="1071720"/>
          <a:ext cx="7715520" cy="2928960"/>
        </p:xfrm>
        <a:graphic>
          <a:graphicData uri="http://schemas.openxmlformats.org/drawingml/2006/table">
            <a:tbl>
              <a:tblPr/>
              <a:tblGrid>
                <a:gridCol w="3357720"/>
                <a:gridCol w="428760"/>
                <a:gridCol w="428400"/>
                <a:gridCol w="3500640"/>
              </a:tblGrid>
              <a:tr h="292896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e1d12"/>
                          </a:solidFill>
                          <a:latin typeface="Times New Roman"/>
                          <a:ea typeface="Times New Roman"/>
                        </a:rPr>
                        <a:t>За сформированность использования информационно-коммуникационных технологий прежде всего отвечают преподаватели информатики и информационных технологий</a:t>
                      </a: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e1d12"/>
                          </a:solidFill>
                          <a:latin typeface="Times New Roman"/>
                          <a:ea typeface="Times New Roman"/>
                        </a:rPr>
                        <a:t>За сформированность использования информационно-коммуникационных технологий отвечают все преподаватели, ведущие подготовку обучаемого по данной специальности (профессии)</a:t>
                      </a: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Вовлечение в кратковременную дискуссию</a:t>
            </a:r>
            <a:endParaRPr b="0" lang="en-US" sz="4000" spc="-1" strike="noStrike">
              <a:solidFill>
                <a:srgbClr val="996600"/>
              </a:solidFill>
              <a:latin typeface="Times New Roman"/>
            </a:endParaRPr>
          </a:p>
        </p:txBody>
      </p:sp>
      <p:sp>
        <p:nvSpPr>
          <p:cNvPr id="228"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Кратковременную (текущую) дискуссию может вызвать тезис (утверждение), которое правдиво при определённых условиях.</a:t>
            </a:r>
            <a:endParaRPr b="0" lang="en-US" sz="3200" spc="-1" strike="noStrike">
              <a:solidFill>
                <a:srgbClr val="6633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Задача преподавателя найти и сформулировать такой(такие) тезис(тезисы) или утверждение (утверждения)</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Когда уместно</a:t>
            </a:r>
            <a:endParaRPr b="0" lang="en-US" sz="3600" spc="-1" strike="noStrike">
              <a:solidFill>
                <a:srgbClr val="996600"/>
              </a:solidFill>
              <a:latin typeface="Times New Roman"/>
            </a:endParaRPr>
          </a:p>
        </p:txBody>
      </p:sp>
      <p:sp>
        <p:nvSpPr>
          <p:cNvPr id="230"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Один тезис или утверждение:</a:t>
            </a:r>
            <a:endParaRPr b="0" lang="en-US" sz="2800" spc="-1" strike="noStrike">
              <a:solidFill>
                <a:srgbClr val="663300"/>
              </a:solidFill>
              <a:latin typeface="Times New Roman"/>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Когда хотим сосредоточить обсуждение на конкретной характеристике изучаемого объекта, на определённом аспекте работы и т.п., то есть «узкий» вопрос изучения, как правило проблемный</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Пример:  авторитарный (командный) стиль управления уместен  в период кризисных ситуаций на производстве</a:t>
            </a: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Когда уместно</a:t>
            </a:r>
            <a:endParaRPr b="0" lang="en-US" sz="3600" spc="-1" strike="noStrike">
              <a:solidFill>
                <a:srgbClr val="996600"/>
              </a:solidFill>
              <a:latin typeface="Times New Roman"/>
            </a:endParaRPr>
          </a:p>
        </p:txBody>
      </p:sp>
      <p:sp>
        <p:nvSpPr>
          <p:cNvPr id="232"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Один тезис или утверждение:</a:t>
            </a:r>
            <a:endParaRPr b="0" lang="en-US" sz="2800" spc="-1" strike="noStrike">
              <a:solidFill>
                <a:srgbClr val="663300"/>
              </a:solidFill>
              <a:latin typeface="Times New Roman"/>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Когда хотим смотивировать студентов на последующее изучение материала занятия</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Пример: с развитием сервисных услуг, в т.ч. по обслуживанию эксплуатируемой техники, знание регулировок и условий эксплуатации этой техники теряет свою актуальность</a:t>
            </a:r>
            <a:endParaRPr b="0" lang="en-US" sz="2800" spc="-1" strike="noStrike">
              <a:solidFill>
                <a:srgbClr val="663300"/>
              </a:solidFill>
              <a:latin typeface="Times New Roman"/>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Когда уместно</a:t>
            </a:r>
            <a:endParaRPr b="0" lang="en-US" sz="3600" spc="-1" strike="noStrike">
              <a:solidFill>
                <a:srgbClr val="996600"/>
              </a:solidFill>
              <a:latin typeface="Times New Roman"/>
            </a:endParaRPr>
          </a:p>
        </p:txBody>
      </p:sp>
      <p:sp>
        <p:nvSpPr>
          <p:cNvPr id="234"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Несколько тезисов или утверждений:</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Когда хотим рассмотреть условия применения (аспекты работы) изучаемого объекта.</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ая составляющая в формировании профессиональных компетенций</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Когда уместно</a:t>
            </a:r>
            <a:endParaRPr b="0" lang="en-US" sz="3600" spc="-1" strike="noStrike">
              <a:solidFill>
                <a:srgbClr val="996600"/>
              </a:solidFill>
              <a:latin typeface="Times New Roman"/>
            </a:endParaRPr>
          </a:p>
        </p:txBody>
      </p:sp>
      <p:sp>
        <p:nvSpPr>
          <p:cNvPr id="236"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Несколько тезисов или утверждений:</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ример</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graphicFrame>
        <p:nvGraphicFramePr>
          <p:cNvPr id="237" name=""/>
          <p:cNvGraphicFramePr/>
          <p:nvPr/>
        </p:nvGraphicFramePr>
        <p:xfrm>
          <a:off x="500040" y="3143160"/>
          <a:ext cx="7215120" cy="3583080"/>
        </p:xfrm>
        <a:graphic>
          <a:graphicData uri="http://schemas.openxmlformats.org/drawingml/2006/table">
            <a:tbl>
              <a:tblPr/>
              <a:tblGrid>
                <a:gridCol w="3071880"/>
                <a:gridCol w="536400"/>
                <a:gridCol w="463680"/>
                <a:gridCol w="3143160"/>
              </a:tblGrid>
              <a:tr h="157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00"/>
                          </a:solidFill>
                          <a:latin typeface="Times New Roman"/>
                        </a:rPr>
                        <a:t>Заниматься планированием лучше в определённое время, например, утром или вечером</a:t>
                      </a: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00"/>
                          </a:solidFill>
                          <a:latin typeface="Times New Roman"/>
                        </a:rPr>
                        <a:t>Планированием лучше всего заниматься тогда, когда в этом есть необходимость </a:t>
                      </a: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r>
              <a:tr h="201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Менеджер, который умеет правильно распорядиться своим временем, может  иногда отказать кому-либо в вопросе, требующего от него дополнительной работы</a:t>
                      </a: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imes New Roman"/>
                        </a:rPr>
                        <a:t>Менеджер, который умеет правильно распорядиться своим временем, никогда не откажется взять на себя новую работу</a:t>
                      </a:r>
                      <a:endParaRPr b="0" lang="en-US" sz="1800" spc="-1" strike="noStrike">
                        <a:solidFill>
                          <a:srgbClr val="663300"/>
                        </a:solidFill>
                        <a:latin typeface="Arial"/>
                      </a:endParaRPr>
                    </a:p>
                  </a:txBody>
                  <a:tcPr anchor="t" marL="90000" marR="900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6600"/>
                </a:solidFill>
                <a:latin typeface="Times New Roman"/>
              </a:rPr>
              <a:t>Вовлечение в кратковременную дискуссию. Важность в формировании профессиональных компетенций</a:t>
            </a:r>
            <a:endParaRPr b="0" lang="en-US" sz="3200" spc="-1" strike="noStrike">
              <a:solidFill>
                <a:srgbClr val="996600"/>
              </a:solidFill>
              <a:latin typeface="Times New Roman"/>
            </a:endParaRPr>
          </a:p>
        </p:txBody>
      </p:sp>
      <p:sp>
        <p:nvSpPr>
          <p:cNvPr id="239" name=""/>
          <p:cNvSpPr txBox="1"/>
          <p:nvPr/>
        </p:nvSpPr>
        <p:spPr>
          <a:xfrm>
            <a:off x="228600" y="19051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Типовые задачи и решения в производственных условиях: </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не имеют однозначного применения, кроме стандартизованных процедур</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видоизменяются (например требуются предварительный поиск и обработка исходных данных)</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адаптируются к конкретным условиям </a:t>
            </a:r>
            <a:endParaRPr b="0" lang="en-US" sz="3200" spc="-1" strike="noStrike">
              <a:solidFill>
                <a:srgbClr val="6633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Цели применения</a:t>
            </a:r>
            <a:endParaRPr b="0" lang="en-US" sz="3600" spc="-1" strike="noStrike">
              <a:solidFill>
                <a:srgbClr val="996600"/>
              </a:solidFill>
              <a:latin typeface="Times New Roman"/>
            </a:endParaRPr>
          </a:p>
        </p:txBody>
      </p:sp>
      <p:sp>
        <p:nvSpPr>
          <p:cNvPr id="241"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пределить предыдущий опыт (особенно в начале курса или занятия)</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пределить знания и взгляды на сегодняшний день</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Узнать точку зрения отдельных обучаемых и выявить общие взгляды и убеждения</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Задачи преподавателя</a:t>
            </a:r>
            <a:endParaRPr b="0" lang="en-US" sz="3600" spc="-1" strike="noStrike">
              <a:solidFill>
                <a:srgbClr val="996600"/>
              </a:solidFill>
              <a:latin typeface="Times New Roman"/>
            </a:endParaRPr>
          </a:p>
        </p:txBody>
      </p:sp>
      <p:sp>
        <p:nvSpPr>
          <p:cNvPr id="243"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При нескольких тезисах и утверждениях:</a:t>
            </a:r>
            <a:endParaRPr b="0" lang="en-US" sz="2800" spc="-1" strike="noStrike">
              <a:solidFill>
                <a:srgbClr val="663300"/>
              </a:solidFill>
              <a:latin typeface="Times New Roman"/>
            </a:endParaRPr>
          </a:p>
          <a:p>
            <a:pPr marL="335880" indent="-3358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затронуть наиболее важные условия (аспекты работы), влияющие на принимаемые решения</a:t>
            </a:r>
            <a:endParaRPr b="0" lang="en-US" sz="2800" spc="-1" strike="noStrike">
              <a:solidFill>
                <a:srgbClr val="663300"/>
              </a:solidFill>
              <a:latin typeface="Times New Roman"/>
            </a:endParaRPr>
          </a:p>
          <a:p>
            <a:pPr marL="335880" indent="-3358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сформулировать  разные утверждения по одному аспекту работы, уместные в определённых условиях (см. предыдущий пример) </a:t>
            </a:r>
            <a:endParaRPr b="0" lang="en-US" sz="2800" spc="-1" strike="noStrike">
              <a:solidFill>
                <a:srgbClr val="663300"/>
              </a:solidFill>
              <a:latin typeface="Times New Roman"/>
            </a:endParaRPr>
          </a:p>
          <a:p>
            <a:pPr marL="335880" indent="-3358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Написать краткую инструкцию по использованию</a:t>
            </a:r>
            <a:endParaRPr b="0" lang="en-US" sz="2800" spc="-1" strike="noStrike">
              <a:solidFill>
                <a:srgbClr val="663300"/>
              </a:solidFill>
              <a:latin typeface="Times New Roman"/>
            </a:endParaRPr>
          </a:p>
          <a:p>
            <a:pPr marL="335880" indent="-3358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35880" indent="-3358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Дискуссия в формировании ОК обучаемого</a:t>
            </a:r>
            <a:endParaRPr b="0" lang="en-US" sz="4000" spc="-1" strike="noStrike">
              <a:solidFill>
                <a:srgbClr val="996600"/>
              </a:solidFill>
              <a:latin typeface="Times New Roman"/>
            </a:endParaRPr>
          </a:p>
        </p:txBody>
      </p:sp>
      <p:sp>
        <p:nvSpPr>
          <p:cNvPr id="202"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оздание благоприятных условий для проявления индивидуальности</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амоопределение в существующих точках зрения на обсуждаемую проблему</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Выбор своей позиции</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Формирование умения взаимодействовать с другими </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Методика проведения</a:t>
            </a:r>
            <a:endParaRPr b="0" lang="en-US" sz="3600" spc="-1" strike="noStrike">
              <a:solidFill>
                <a:srgbClr val="996600"/>
              </a:solidFill>
              <a:latin typeface="Times New Roman"/>
            </a:endParaRPr>
          </a:p>
        </p:txBody>
      </p:sp>
      <p:sp>
        <p:nvSpPr>
          <p:cNvPr id="245"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Инструктаж:</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Раздайте листы с парными утверждениями</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бъясните, что надо делать</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Убедитесь, что все работают</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Уверьте обучаемых, что это не тест, а повод для дискуссии</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Методика проведения</a:t>
            </a:r>
            <a:endParaRPr b="0" lang="en-US" sz="3600" spc="-1" strike="noStrike">
              <a:solidFill>
                <a:srgbClr val="996600"/>
              </a:solidFill>
              <a:latin typeface="Times New Roman"/>
            </a:endParaRPr>
          </a:p>
        </p:txBody>
      </p:sp>
      <p:sp>
        <p:nvSpPr>
          <p:cNvPr id="247" name=""/>
          <p:cNvSpPr txBox="1"/>
          <p:nvPr/>
        </p:nvSpPr>
        <p:spPr>
          <a:xfrm>
            <a:off x="228600" y="190512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Выполнение работы:</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Когда обучаемые заполняют листок опроса, не смотрите, что они пишут</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сле третьего или четвёртого пункта поторопите обучаемых. «Кто ни будь уже определился по восьмому пункту?»</a:t>
            </a:r>
            <a:endParaRPr b="0" lang="en-US" sz="3200" spc="-1" strike="noStrike">
              <a:solidFill>
                <a:srgbClr val="663300"/>
              </a:solidFill>
              <a:latin typeface="Times New Roman"/>
            </a:endParaRPr>
          </a:p>
          <a:p>
            <a:pPr marL="325800" indent="-3258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старайтесь при проведении дискуссии уложиться в 25-30 минут</a:t>
            </a:r>
            <a:endParaRPr b="0" lang="en-US" sz="3200" spc="-1" strike="noStrike">
              <a:solidFill>
                <a:srgbClr val="663300"/>
              </a:solidFill>
              <a:latin typeface="Times New Roman"/>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Методика проведения</a:t>
            </a:r>
            <a:endParaRPr b="0" lang="en-US" sz="3600" spc="-1" strike="noStrike">
              <a:solidFill>
                <a:srgbClr val="996600"/>
              </a:solidFill>
              <a:latin typeface="Times New Roman"/>
            </a:endParaRPr>
          </a:p>
        </p:txBody>
      </p:sp>
      <p:sp>
        <p:nvSpPr>
          <p:cNvPr id="249"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братная связь:</a:t>
            </a:r>
            <a:endParaRPr b="0" lang="en-US" sz="3200" spc="-1" strike="noStrike">
              <a:solidFill>
                <a:srgbClr val="663300"/>
              </a:solidFill>
              <a:latin typeface="Times New Roman"/>
            </a:endParaRPr>
          </a:p>
          <a:p>
            <a:pPr marL="335880" indent="-3358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Спросите обучаемых: «Какой пункт из списка утверждений Вас волнует больше всего?» Затем попросите отдельных обучаемых пояснить ответ.</a:t>
            </a:r>
            <a:endParaRPr b="0" lang="en-US" sz="2800" spc="-1" strike="noStrike">
              <a:solidFill>
                <a:srgbClr val="663300"/>
              </a:solidFill>
              <a:latin typeface="Times New Roman"/>
            </a:endParaRPr>
          </a:p>
          <a:p>
            <a:pPr marL="335880" indent="-3358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После того, как дискуссия наладилась, можете непосредственно обращаться к конкретным  обучаемым. Например: «Иван, что Вы отметили по шестому пункту?»</a:t>
            </a: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Методика проведения</a:t>
            </a:r>
            <a:endParaRPr b="0" lang="en-US" sz="3600" spc="-1" strike="noStrike">
              <a:solidFill>
                <a:srgbClr val="996600"/>
              </a:solidFill>
              <a:latin typeface="Times New Roman"/>
            </a:endParaRPr>
          </a:p>
        </p:txBody>
      </p:sp>
      <p:sp>
        <p:nvSpPr>
          <p:cNvPr id="251" name=""/>
          <p:cNvSpPr txBox="1"/>
          <p:nvPr/>
        </p:nvSpPr>
        <p:spPr>
          <a:xfrm>
            <a:off x="228600" y="19051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братная связь:</a:t>
            </a:r>
            <a:endParaRPr b="0" lang="en-US" sz="3200" spc="-1" strike="noStrike">
              <a:solidFill>
                <a:srgbClr val="663300"/>
              </a:solidFill>
              <a:latin typeface="Times New Roman"/>
            </a:endParaRPr>
          </a:p>
          <a:p>
            <a:pPr marL="322200" indent="-3222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пытайтесь получить реакцию на необоснованный выбор. Спросите: «Почему?»</a:t>
            </a:r>
            <a:endParaRPr b="0" lang="en-US" sz="3200" spc="-1" strike="noStrike">
              <a:solidFill>
                <a:srgbClr val="663300"/>
              </a:solidFill>
              <a:latin typeface="Times New Roman"/>
            </a:endParaRPr>
          </a:p>
          <a:p>
            <a:pPr marL="322200" indent="-3222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тарайтесь получить ответ, основанный на реальном опыте, примерах, знаниях</a:t>
            </a:r>
            <a:endParaRPr b="0" lang="en-US" sz="3200" spc="-1" strike="noStrike">
              <a:solidFill>
                <a:srgbClr val="663300"/>
              </a:solidFill>
              <a:latin typeface="Times New Roman"/>
            </a:endParaRPr>
          </a:p>
          <a:p>
            <a:pPr marL="322200" indent="-32220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Делайте такие выводы, которые позволят Вам перейти к следующему этапу работы</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6600"/>
                </a:solidFill>
                <a:latin typeface="Times New Roman"/>
              </a:rPr>
              <a:t>Вовлечение в кратковременную дискуссию. Методика проведения</a:t>
            </a:r>
            <a:endParaRPr b="0" lang="en-US" sz="3600" spc="-1" strike="noStrike">
              <a:solidFill>
                <a:srgbClr val="996600"/>
              </a:solidFill>
              <a:latin typeface="Times New Roman"/>
            </a:endParaRPr>
          </a:p>
        </p:txBody>
      </p:sp>
      <p:sp>
        <p:nvSpPr>
          <p:cNvPr id="253" name=""/>
          <p:cNvSpPr txBox="1"/>
          <p:nvPr/>
        </p:nvSpPr>
        <p:spPr>
          <a:xfrm>
            <a:off x="285840" y="1714680"/>
            <a:ext cx="7772400" cy="45720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братная связь:</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Меняйте процедуру обратной связи соответственно диапазону идей, которые высказывает группа</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делайте краткий анализ хода дискуссии</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благодарите группу за работу</a:t>
            </a:r>
            <a:endParaRPr b="0" lang="en-US" sz="3200" spc="-1" strike="noStrike">
              <a:solidFill>
                <a:srgbClr val="663300"/>
              </a:solidFill>
              <a:latin typeface="Times New Roman"/>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вторите основные выводы из дискуссии</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420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6600"/>
                </a:solidFill>
                <a:latin typeface="Times New Roman"/>
              </a:rPr>
              <a:t>Задание на самостоятельную работу</a:t>
            </a:r>
            <a:endParaRPr b="0" lang="en-US" sz="4400" spc="-1" strike="noStrike">
              <a:solidFill>
                <a:srgbClr val="996600"/>
              </a:solidFill>
              <a:latin typeface="Times New Roman"/>
            </a:endParaRPr>
          </a:p>
        </p:txBody>
      </p:sp>
      <p:sp>
        <p:nvSpPr>
          <p:cNvPr id="255" name=""/>
          <p:cNvSpPr txBox="1"/>
          <p:nvPr/>
        </p:nvSpPr>
        <p:spPr>
          <a:xfrm>
            <a:off x="0" y="1499760"/>
            <a:ext cx="7772400" cy="500076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пределитесь в целях и задачах на применение  метода дискуссии</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Выберите вопрос (тему) в структуре занятия для проведения дискуссии</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оставьте карточку «одно из двух» не менее чем из шести парных утверждений</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формите план занятия, с указанием отводимого времени на изучаемые вопросы, и карточку «одно из двух»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6600"/>
                </a:solidFill>
                <a:latin typeface="Times New Roman"/>
              </a:rPr>
              <a:t>Спасибо </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Дискуссия в формировании ОК обучаемого</a:t>
            </a:r>
            <a:endParaRPr b="0" lang="en-US" sz="4000" spc="-1" strike="noStrike">
              <a:solidFill>
                <a:srgbClr val="996600"/>
              </a:solidFill>
              <a:latin typeface="Times New Roman"/>
            </a:endParaRPr>
          </a:p>
        </p:txBody>
      </p:sp>
      <p:sp>
        <p:nvSpPr>
          <p:cNvPr id="204" name=""/>
          <p:cNvSpPr txBox="1"/>
          <p:nvPr/>
        </p:nvSpPr>
        <p:spPr>
          <a:xfrm>
            <a:off x="228600" y="19051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лушать и слышать окружающих</a:t>
            </a:r>
            <a:endParaRPr b="0" lang="en-US" sz="3200" spc="-1" strike="noStrike">
              <a:solidFill>
                <a:srgbClr val="663300"/>
              </a:solidFill>
              <a:latin typeface="Times New Roman"/>
            </a:endParaRPr>
          </a:p>
          <a:p>
            <a:pPr marL="318960" indent="-318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Уважать чужие убеждения</a:t>
            </a:r>
            <a:endParaRPr b="0" lang="en-US" sz="3200" spc="-1" strike="noStrike">
              <a:solidFill>
                <a:srgbClr val="663300"/>
              </a:solidFill>
              <a:latin typeface="Times New Roman"/>
            </a:endParaRPr>
          </a:p>
          <a:p>
            <a:pPr marL="318960" indent="-318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Находить точки соприкосновения</a:t>
            </a:r>
            <a:endParaRPr b="0" lang="en-US" sz="3200" spc="-1" strike="noStrike">
              <a:solidFill>
                <a:srgbClr val="663300"/>
              </a:solidFill>
              <a:latin typeface="Times New Roman"/>
            </a:endParaRPr>
          </a:p>
          <a:p>
            <a:pPr marL="318960" indent="-318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Соотносить и согласовывать свою позицию с позициями других участников обсуждения</a:t>
            </a:r>
            <a:endParaRPr b="0" lang="en-US" sz="3200" spc="-1" strike="noStrike">
              <a:solidFill>
                <a:srgbClr val="663300"/>
              </a:solidFill>
              <a:latin typeface="Times New Roman"/>
            </a:endParaRPr>
          </a:p>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Перечисленные пункты входят в коммуникативные общие компетенции</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Дискуссия в формировании ПК обучаемого</a:t>
            </a:r>
            <a:endParaRPr b="0" lang="en-US" sz="4000" spc="-1" strike="noStrike">
              <a:solidFill>
                <a:srgbClr val="996600"/>
              </a:solidFill>
              <a:latin typeface="Times New Roman"/>
            </a:endParaRPr>
          </a:p>
        </p:txBody>
      </p:sp>
      <p:sp>
        <p:nvSpPr>
          <p:cNvPr id="206"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рименение знаний в будущей профессиональной деятельности</a:t>
            </a:r>
            <a:endParaRPr b="0" lang="en-US" sz="3200" spc="-1" strike="noStrike">
              <a:solidFill>
                <a:srgbClr val="6633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Зависит от содержания задания на дискуссию</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Коммуникативная направленность дискуссии</a:t>
            </a:r>
            <a:endParaRPr b="0" lang="en-US" sz="4000" spc="-1" strike="noStrike">
              <a:solidFill>
                <a:srgbClr val="996600"/>
              </a:solidFill>
              <a:latin typeface="Times New Roman"/>
            </a:endParaRPr>
          </a:p>
        </p:txBody>
      </p:sp>
      <p:sp>
        <p:nvSpPr>
          <p:cNvPr id="208" name=""/>
          <p:cNvSpPr txBox="1"/>
          <p:nvPr/>
        </p:nvSpPr>
        <p:spPr>
          <a:xfrm>
            <a:off x="228600" y="1905120"/>
            <a:ext cx="7772400" cy="4114800"/>
          </a:xfrm>
          <a:prstGeom prst="rect">
            <a:avLst/>
          </a:prstGeom>
          <a:noFill/>
          <a:ln w="0">
            <a:noFill/>
          </a:ln>
        </p:spPr>
        <p:txBody>
          <a:bodyPr lIns="92160" rIns="92160" tIns="46080" bIns="46080" anchor="t">
            <a:normAutofit fontScale="97000"/>
          </a:bodyPr>
          <a:p>
            <a:pPr marL="498960" indent="-49896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Разноголосие       разногласие, защита каждым участником своей позиции, своей точки зрения         спор</a:t>
            </a:r>
            <a:endParaRPr b="0" lang="en-US" sz="3200" spc="-1" strike="noStrike">
              <a:solidFill>
                <a:srgbClr val="663300"/>
              </a:solidFill>
              <a:latin typeface="Times New Roman"/>
            </a:endParaRPr>
          </a:p>
          <a:p>
            <a:pPr marL="498960" indent="-49896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Многоголосие           согласие, взаимодополнение, совместное решение проблемы        диалог  </a:t>
            </a:r>
            <a:endParaRPr b="0" lang="en-US" sz="3200" spc="-1" strike="noStrike">
              <a:solidFill>
                <a:srgbClr val="663300"/>
              </a:solidFill>
              <a:latin typeface="Times New Roman"/>
            </a:endParaRPr>
          </a:p>
          <a:p>
            <a:pPr marL="498960" indent="-49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 точки зрения эффективного менеджмента нас интересует вторая направленность   </a:t>
            </a:r>
            <a:endParaRPr b="0" lang="en-US" sz="3200" spc="-1" strike="noStrike">
              <a:solidFill>
                <a:srgbClr val="663300"/>
              </a:solidFill>
              <a:latin typeface="Times New Roman"/>
            </a:endParaRPr>
          </a:p>
        </p:txBody>
      </p:sp>
      <p:sp>
        <p:nvSpPr>
          <p:cNvPr id="209" name="Стрелка вправо 3"/>
          <p:cNvSpPr/>
          <p:nvPr/>
        </p:nvSpPr>
        <p:spPr>
          <a:xfrm>
            <a:off x="3357720" y="2000160"/>
            <a:ext cx="428400" cy="484200"/>
          </a:xfrm>
          <a:prstGeom prst="rightArrow">
            <a:avLst>
              <a:gd name="adj1" fmla="val 50000"/>
              <a:gd name="adj2" fmla="val 50000"/>
            </a:avLst>
          </a:prstGeom>
          <a:solidFill>
            <a:srgbClr val="92d0a4"/>
          </a:solidFill>
          <a:ln w="25560">
            <a:solidFill>
              <a:srgbClr val="6a98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10" name="Стрелка вправо 4"/>
          <p:cNvSpPr/>
          <p:nvPr/>
        </p:nvSpPr>
        <p:spPr>
          <a:xfrm>
            <a:off x="3643200" y="3571920"/>
            <a:ext cx="714600" cy="484200"/>
          </a:xfrm>
          <a:prstGeom prst="rightArrow">
            <a:avLst>
              <a:gd name="adj1" fmla="val 50000"/>
              <a:gd name="adj2" fmla="val 50014"/>
            </a:avLst>
          </a:prstGeom>
          <a:solidFill>
            <a:srgbClr val="92d0a4"/>
          </a:solidFill>
          <a:ln w="25560">
            <a:solidFill>
              <a:srgbClr val="6a98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11" name="Стрелка вправо 5"/>
          <p:cNvSpPr/>
          <p:nvPr/>
        </p:nvSpPr>
        <p:spPr>
          <a:xfrm>
            <a:off x="4357800" y="3000240"/>
            <a:ext cx="500040" cy="484200"/>
          </a:xfrm>
          <a:prstGeom prst="rightArrow">
            <a:avLst>
              <a:gd name="adj1" fmla="val 50000"/>
              <a:gd name="adj2" fmla="val 49996"/>
            </a:avLst>
          </a:prstGeom>
          <a:solidFill>
            <a:srgbClr val="92d0a4"/>
          </a:solidFill>
          <a:ln w="25560">
            <a:solidFill>
              <a:srgbClr val="6a98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
        <p:nvSpPr>
          <p:cNvPr id="212" name="Стрелка вправо 6"/>
          <p:cNvSpPr/>
          <p:nvPr/>
        </p:nvSpPr>
        <p:spPr>
          <a:xfrm>
            <a:off x="2714760" y="4572000"/>
            <a:ext cx="571320" cy="484200"/>
          </a:xfrm>
          <a:prstGeom prst="rightArrow">
            <a:avLst>
              <a:gd name="adj1" fmla="val 50000"/>
              <a:gd name="adj2" fmla="val 49983"/>
            </a:avLst>
          </a:prstGeom>
          <a:solidFill>
            <a:srgbClr val="92d0a4"/>
          </a:solidFill>
          <a:ln w="25560">
            <a:solidFill>
              <a:srgbClr val="6a98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6600"/>
                </a:solidFill>
                <a:latin typeface="Times New Roman"/>
              </a:rPr>
              <a:t>Продолжительность дискуссии</a:t>
            </a:r>
            <a:endParaRPr b="0" lang="en-US" sz="4400" spc="-1" strike="noStrike">
              <a:solidFill>
                <a:srgbClr val="996600"/>
              </a:solidFill>
              <a:latin typeface="Times New Roman"/>
            </a:endParaRPr>
          </a:p>
        </p:txBody>
      </p:sp>
      <p:sp>
        <p:nvSpPr>
          <p:cNvPr id="214" name=""/>
          <p:cNvSpPr txBox="1"/>
          <p:nvPr/>
        </p:nvSpPr>
        <p:spPr>
          <a:xfrm>
            <a:off x="228600" y="1500120"/>
            <a:ext cx="7772400" cy="5143680"/>
          </a:xfrm>
          <a:prstGeom prst="rect">
            <a:avLst/>
          </a:prstGeom>
          <a:noFill/>
          <a:ln w="0">
            <a:noFill/>
          </a:ln>
        </p:spPr>
        <p:txBody>
          <a:bodyPr lIns="92160" rIns="92160" tIns="46080" bIns="46080" anchor="t">
            <a:normAutofit fontScale="99000"/>
          </a:bodyPr>
          <a:p>
            <a:pPr marL="509040" indent="-50904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Длительная – требует предварительной подготовки участников, наличия навыков ведения дискуссии, различных приёмов и методов организации работы. </a:t>
            </a:r>
            <a:endParaRPr b="0" lang="en-US" sz="3200" spc="-1" strike="noStrike">
              <a:solidFill>
                <a:srgbClr val="663300"/>
              </a:solidFill>
              <a:latin typeface="Times New Roman"/>
            </a:endParaRPr>
          </a:p>
          <a:p>
            <a:pPr marL="509040" indent="-50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В данном случае дискуссия выступает в роли технологии обучения, которой присущи различные формы организации работы.</a:t>
            </a:r>
            <a:endParaRPr b="0" lang="en-US" sz="3200" spc="-1" strike="noStrike">
              <a:solidFill>
                <a:srgbClr val="663300"/>
              </a:solidFill>
              <a:latin typeface="Times New Roman"/>
            </a:endParaRPr>
          </a:p>
          <a:p>
            <a:pPr marL="509040" indent="-50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Уместна на обобщающих, итоговых занятиях </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6600"/>
                </a:solidFill>
                <a:latin typeface="Times New Roman"/>
              </a:rPr>
              <a:t>Продолжительность дискуссии</a:t>
            </a:r>
            <a:endParaRPr b="0" lang="en-US" sz="4400" spc="-1" strike="noStrike">
              <a:solidFill>
                <a:srgbClr val="996600"/>
              </a:solidFill>
              <a:latin typeface="Times New Roman"/>
            </a:endParaRPr>
          </a:p>
        </p:txBody>
      </p:sp>
      <p:sp>
        <p:nvSpPr>
          <p:cNvPr id="216" name=""/>
          <p:cNvSpPr txBox="1"/>
          <p:nvPr/>
        </p:nvSpPr>
        <p:spPr>
          <a:xfrm>
            <a:off x="228600" y="1905120"/>
            <a:ext cx="7772400" cy="4114800"/>
          </a:xfrm>
          <a:prstGeom prst="rect">
            <a:avLst/>
          </a:prstGeom>
          <a:noFill/>
          <a:ln w="0">
            <a:noFill/>
          </a:ln>
        </p:spPr>
        <p:txBody>
          <a:bodyPr lIns="92160" rIns="92160" tIns="46080" bIns="46080" anchor="t">
            <a:normAutofit/>
          </a:bodyPr>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2. Кратковременная – обучаемые не знают о её проведении; длительность 15-30 минут;</a:t>
            </a:r>
            <a:endParaRPr b="0" lang="en-US" sz="3000" spc="-1" strike="noStrike">
              <a:solidFill>
                <a:srgbClr val="663300"/>
              </a:solidFill>
              <a:latin typeface="Times New Roman"/>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     </a:t>
            </a:r>
            <a:r>
              <a:rPr b="0" lang="ru-RU" sz="3000" spc="-1" strike="noStrike">
                <a:solidFill>
                  <a:srgbClr val="663300"/>
                </a:solidFill>
                <a:latin typeface="Times New Roman"/>
              </a:rPr>
              <a:t>полярные точки зрения уже сформулированы; обучаемые ищут аргументы доказательства той или иной точки зрения; вырабатываются навыки ведения дискуссии.</a:t>
            </a:r>
            <a:endParaRPr b="0" lang="en-US" sz="3000" spc="-1" strike="noStrike">
              <a:solidFill>
                <a:srgbClr val="663300"/>
              </a:solidFill>
              <a:latin typeface="Times New Roman"/>
            </a:endParaRPr>
          </a:p>
          <a:p>
            <a:pPr marL="514440" indent="-514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663300"/>
                </a:solidFill>
                <a:latin typeface="Times New Roman"/>
              </a:rPr>
              <a:t>В данном случае дискуссия выступает как один из методов работы. </a:t>
            </a:r>
            <a:endParaRPr b="0" lang="en-US" sz="3000" spc="-1" strike="noStrike">
              <a:solidFill>
                <a:srgbClr val="663300"/>
              </a:solidFill>
              <a:latin typeface="Times New Roman"/>
            </a:endParaRPr>
          </a:p>
          <a:p>
            <a:pPr marL="514440" indent="-514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Times New Roman"/>
              </a:rPr>
              <a:t>Уместна на текущих занятиях</a:t>
            </a:r>
            <a:endParaRPr b="0" lang="en-US" sz="3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6600"/>
                </a:solidFill>
                <a:latin typeface="Times New Roman"/>
              </a:rPr>
              <a:t>Дискуссия по карточке «Компетенции»</a:t>
            </a:r>
            <a:endParaRPr b="0" lang="en-US" sz="4000" spc="-1" strike="noStrike">
              <a:solidFill>
                <a:srgbClr val="996600"/>
              </a:solidFill>
              <a:latin typeface="Times New Roman"/>
            </a:endParaRPr>
          </a:p>
        </p:txBody>
      </p:sp>
      <p:sp>
        <p:nvSpPr>
          <p:cNvPr id="218" name=""/>
          <p:cNvSpPr txBox="1"/>
          <p:nvPr/>
        </p:nvSpPr>
        <p:spPr>
          <a:xfrm>
            <a:off x="228600" y="1905120"/>
            <a:ext cx="7772400" cy="4114800"/>
          </a:xfrm>
          <a:prstGeom prst="rect">
            <a:avLst/>
          </a:prstGeom>
          <a:noFill/>
          <a:ln w="0">
            <a:noFill/>
          </a:ln>
        </p:spPr>
        <p:txBody>
          <a:bodyPr lIns="92160" rIns="92160" tIns="46080" bIns="4608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Задание:</a:t>
            </a:r>
            <a:endParaRPr b="0" lang="en-US" sz="3200" spc="-1" strike="noStrike">
              <a:solidFill>
                <a:srgbClr val="663300"/>
              </a:solidFill>
              <a:latin typeface="Times New Roman"/>
            </a:endParaRPr>
          </a:p>
          <a:p>
            <a:pPr marL="318960" indent="-31896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знакомьтесь  с содержанием карточки</a:t>
            </a:r>
            <a:endParaRPr b="0" lang="en-US" sz="3200" spc="-1" strike="noStrike">
              <a:solidFill>
                <a:srgbClr val="663300"/>
              </a:solidFill>
              <a:latin typeface="Times New Roman"/>
            </a:endParaRPr>
          </a:p>
          <a:p>
            <a:pPr marL="318960" indent="-31896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Определитесь в предпочтительных для Вас тезисах</a:t>
            </a:r>
            <a:endParaRPr b="0" lang="en-US" sz="3200" spc="-1" strike="noStrike">
              <a:solidFill>
                <a:srgbClr val="663300"/>
              </a:solidFill>
              <a:latin typeface="Times New Roman"/>
            </a:endParaRPr>
          </a:p>
          <a:p>
            <a:pPr marL="318960" indent="-318960">
              <a:spcBef>
                <a:spcPts val="799"/>
              </a:spcBef>
              <a:buClr>
                <a:srgbClr val="66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imes New Roman"/>
              </a:rPr>
              <a:t>Подберите аргументы по выбранному тезису</a:t>
            </a:r>
            <a:endParaRPr b="0" lang="en-US" sz="3200" spc="-1" strike="noStrike">
              <a:solidFill>
                <a:srgbClr val="663300"/>
              </a:solidFill>
              <a:latin typeface="Times New Roman"/>
            </a:endParaRPr>
          </a:p>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Далее руководствуйтесь указаниями преподавателя</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42920"/>
            <a:ext cx="7772400" cy="17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6600"/>
                </a:solidFill>
                <a:latin typeface="Times New Roman"/>
              </a:rPr>
              <a:t>Карточка «Компетенции»</a:t>
            </a:r>
            <a:endParaRPr b="0" lang="en-US" sz="4400" spc="-1" strike="noStrike">
              <a:solidFill>
                <a:srgbClr val="996600"/>
              </a:solidFill>
              <a:latin typeface="Times New Roman"/>
            </a:endParaRPr>
          </a:p>
        </p:txBody>
      </p:sp>
      <p:graphicFrame>
        <p:nvGraphicFramePr>
          <p:cNvPr id="220" name=""/>
          <p:cNvGraphicFramePr/>
          <p:nvPr/>
        </p:nvGraphicFramePr>
        <p:xfrm>
          <a:off x="285840" y="1928880"/>
          <a:ext cx="7772400" cy="3925800"/>
        </p:xfrm>
        <a:graphic>
          <a:graphicData uri="http://schemas.openxmlformats.org/drawingml/2006/table">
            <a:tbl>
              <a:tblPr/>
              <a:tblGrid>
                <a:gridCol w="3000240"/>
                <a:gridCol w="885960"/>
                <a:gridCol w="971640"/>
                <a:gridCol w="2914560"/>
              </a:tblGrid>
              <a:tr h="122724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Общие компетенции может сформировать педагог хорошо владеющий различными приёмами и методами преподавания</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Общие компетенции может сформировать педагог хорошо систематизирующий информацию и представляющий её в различных видах</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18720">
                      <a:solidFill>
                        <a:srgbClr val="fff8e2"/>
                      </a:solidFill>
                    </a:lnB>
                    <a:solidFill>
                      <a:srgbClr val="92d0a4"/>
                    </a:solidFill>
                  </a:tcPr>
                </a:tc>
              </a:tr>
              <a:tr h="171756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онимать сущность и социальную значимость своей будущей профессии можно сформировать только в условиях производства и социальной сферы</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онимать сущность и социальную значимость своей будущей профессии можно сформировать только когда студент будет видеть практические результаты своего труда</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18720">
                      <a:solidFill>
                        <a:srgbClr val="fff8e2"/>
                      </a:solidFill>
                    </a:lnT>
                    <a:lnB w="5760">
                      <a:solidFill>
                        <a:srgbClr val="fff8e2"/>
                      </a:solidFill>
                    </a:lnB>
                    <a:solidFill>
                      <a:srgbClr val="dceee0"/>
                    </a:solidFill>
                  </a:tcPr>
                </a:tc>
              </a:tr>
              <a:tr h="981000">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рофессиональные компетенции можно сформировать только, если студент пройдёт практику в условиях реального производства </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c>
                  <a:txBody>
                    <a:bodyPr lIns="64800" rIns="648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e1d12"/>
                          </a:solidFill>
                          <a:latin typeface="Times New Roman"/>
                          <a:ea typeface="Times New Roman"/>
                        </a:rPr>
                        <a:t>Профессиональные компетенции можно сформировать и в условиях учебного заведения</a:t>
                      </a:r>
                      <a:endParaRPr b="0" lang="en-US" sz="1400" spc="-1" strike="noStrike">
                        <a:solidFill>
                          <a:srgbClr val="663300"/>
                        </a:solidFill>
                        <a:latin typeface="Arial"/>
                      </a:endParaRPr>
                    </a:p>
                  </a:txBody>
                  <a:tcPr anchor="t" marL="64800" marR="64800">
                    <a:lnL w="5760">
                      <a:solidFill>
                        <a:srgbClr val="fff8e2"/>
                      </a:solidFill>
                    </a:lnL>
                    <a:lnR w="5760">
                      <a:solidFill>
                        <a:srgbClr val="fff8e2"/>
                      </a:solidFill>
                    </a:lnR>
                    <a:lnT w="5760">
                      <a:solidFill>
                        <a:srgbClr val="fff8e2"/>
                      </a:solidFill>
                    </a:lnT>
                    <a:lnB w="5760">
                      <a:solidFill>
                        <a:srgbClr val="fff8e2"/>
                      </a:solidFill>
                    </a:lnB>
                    <a:solidFill>
                      <a:srgbClr val="eef7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dcterms:modified xsi:type="dcterms:W3CDTF">2018-01-24T15:45:28Z</dcterms:modified>
  <cp:revision>117</cp:revision>
  <dc:subject/>
  <dc:title>Дискуссия как метод работы по формированию общих и профессиональных компетенций. </dc:title>
</cp:coreProperties>
</file>