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C67E-8B21-4C63-BE98-6762F4C662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612D-D864-4B85-9B2C-5438CF302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63B-22B6-4869-9B65-F88231FEB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31AD-D13B-4A53-B6DE-848527C17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217-6576-4E1A-8838-EBF4B7EFC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75A-8935-432E-8639-847DBCC40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655F-0724-4CC8-8C38-71324C5C1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D44-96B9-4A7D-8C41-0868B2F8F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B80-C1F9-4FA7-8A05-603BA5BC2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196-6A93-44D3-8F92-D20072360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CA2-4E3A-4379-9C33-577348D74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E7B5-F972-46F4-B6B0-21181607B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93A-59D6-418B-9D9D-FE6007628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25D-C4C6-414C-AB00-DFE61405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D22-D2C5-4877-A268-A492CE21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F26-33C6-4A64-BD52-F89E1712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8E5-4C13-4C06-A70A-9B9A7537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B61F-7714-4435-A818-2470BCAA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385-DFD0-46FF-8F30-F9B5C92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E3C5-5C6F-41C6-B599-AE2C82E2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4EFD-FFF0-468D-954E-235D617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B681-16CE-45DA-B062-538625E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42AA-1702-4239-A45B-C652E93A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19E5-5838-4899-98D5-9EB6A3C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687-6B5E-4176-B83A-65F3D8E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2D24-782A-4494-8994-F58E68D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2406-7321-4E45-AF72-FCC0F55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975-86C3-42B9-BF89-460473F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A81-C3A7-4411-ADA2-08A59C91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0BC0-2605-4E4F-ACDC-720CAB33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F2D-7FB7-408D-A340-33AA0A3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7E2-5B99-4F5C-994E-53339BDF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828-6E7E-4F1C-B66B-00EBB12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5A4-9263-4393-839E-D76DF27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271-C04C-49E6-B129-DA55565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4BC-8F41-4F94-8BA8-5DC0E63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3C2-3846-4302-B0DF-F7636564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9499-A9E3-499F-BFBD-DD9488641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9407-34A5-4AB5-9B7A-BFAD255F0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4360" y="1700280"/>
            <a:ext cx="5832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ФОРМИРОВАНИЕ РЕГУЛЯТИВНЫХ УУ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31640" y="2781000"/>
            <a:ext cx="4969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резентацию подготовила учитель начальных классов МОАУ гимназии № 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Остолош Ольга Никола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Г. Райчихинс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Саморегу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пособность к мобилиз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ил и энергии, к волевому усилию и к преодолению препятств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3800" y="33336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ниверсальные учебные дейст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раж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обучающегося строить учебно-познавательную деятель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я все 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мпонен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ТИ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Копия e-l-16"/>
          <p:cNvPicPr/>
          <p:nvPr/>
        </p:nvPicPr>
        <p:blipFill>
          <a:blip r:embed="rId1"/>
          <a:stretch/>
        </p:blipFill>
        <p:spPr>
          <a:xfrm>
            <a:off x="395280" y="4149720"/>
            <a:ext cx="2176560" cy="2021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-l-15"/>
          <p:cNvPicPr/>
          <p:nvPr/>
        </p:nvPicPr>
        <p:blipFill>
          <a:blip r:embed="rId2"/>
          <a:stretch/>
        </p:blipFill>
        <p:spPr>
          <a:xfrm>
            <a:off x="6372360" y="3789360"/>
            <a:ext cx="2239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2506680" y="152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49280" y="2209680"/>
            <a:ext cx="30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8145360" y="2286000"/>
            <a:ext cx="30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ур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743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ы и жизнен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8602560" y="228600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83016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 flipH="1">
            <a:off x="5942880" y="3048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41148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flipV="1">
            <a:off x="4106880" y="609480"/>
            <a:ext cx="533520" cy="1905120"/>
          </a:xfrm>
          <a:prstGeom prst="upArrow">
            <a:avLst>
              <a:gd name="adj1" fmla="val 50000"/>
              <a:gd name="adj2" fmla="val 892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19520" y="2819520"/>
            <a:ext cx="3276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гулятивные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ниверсальные учебн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38080" y="2057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я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9144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Проблемно-диалогическ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38360" y="615960"/>
            <a:ext cx="2019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Предметы учебно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10552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38360" y="1562040"/>
            <a:ext cx="20192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Алгорит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257800" y="990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рядок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638680" y="403848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Самостоятельное выполнение действий в группе и  индивиду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209680" y="56386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оригинальных замы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т идеи через планы и эскизы к результ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1480" y="1295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257800" y="1676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роведение экспери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90720" y="266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Оценивание результ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990720" y="472428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Постановка учебной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  <a:ea typeface="Arial"/>
              </a:rPr>
              <a:t>Составление плана учебных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Виды заданий для формирования регулятивных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реднамеренные ошибки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поиск информации в предложенных источник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взаи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взаимный диктант (метод М.Г. Булановск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дис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заучивание материала наизусть в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«ищу ошиб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· КОНОП (контрольный опрос на определенную пробл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Практическое задание №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писка предложенных универсальных учебных действий выберите лишь те, которые относятся к  регулятивным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Личност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еник осознает смысл учения и понимает личную ответственность за будущий результ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еник умеет делать нравственный выбор и давать нравственную оценк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еник понимает кто он в этом мире, свои сильные и слабые стороны, а также то, чем ему хотелось занимать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ребенка развита рефлекс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ребенка сформирована учебная мотивац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ребенка сформирована адекватная само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умеет составлять план действ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может внести необходимые дополнения и коррективы в план и способ действия в случае необходимо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осознает то, что уже усвоено и что еще подлежит усвоению, а также качество и уровень усвое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может поставить учебную задачу на основе соотнесения того, что уже известно и освоено учащимся, и того. что еще неизвест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способен к волевому усилию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владеет навыками результирующего, процессуального и прогностического самоконтро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ученика сформирован внутренний план действ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ик перед тем, как начать действовать определяет последовательность действ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бенок может адекватно реагировать на трудности и не боится сделать ошиб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Коммуникатив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умеет делать нравственный выбор и давать нравственную оценку (обеспечивают социальную компетентность и учет позиции других людей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понимает кто он в этом мире, свои сильные и слабые стороны, а также то, чем ему хотелось заниматься (обобщенное действие, умение учитьс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умеет договариваться не силовыми метод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 умеет вступать в диа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енок может сотрудничать с другими людьми в поиске необходимой информ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енка развита рефлексия (рефлексия в общении - осознание действующим индивидом того, как он воспринимается партнером по общению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енок умеет слушать и слыш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ние выражать свои мысли, строить высказывания в соответствие с задачами коммуник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енок может интегрироваться в группу сверстни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енка сформирована адекватная само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Практическое задание №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те из предложенных методов обучения, методы формирующие  (личностные, коммуникативные, регулятивные)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Методы, формирующие личност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004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повая и пар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ловые иг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 эвристических во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итационный тренин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туацию успе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озговой штур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 деятельностного поощ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руглый сто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90800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ятие «универсальные учебные действия»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1042920" y="1773360"/>
            <a:ext cx="8101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я учиться предполаг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ноценное освоение школьниками всех компонентов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ые и учебные моти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ц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ая за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действия и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Методы, формирующие коммуникатив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пповая и пар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овые игр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о-мыслительные иг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эвристически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итационный тре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эвристически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Методы, формирующие регулятивн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пповая и пар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эвристически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Практическое задание №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ать педагогические ситуации, способствующие формированию регулятивных УУД на уро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ить перечень действий учителя по формированию регулятивных УУД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ить перечень действий обучающихся  по овладению   регулятивными УУД на уро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46c0a"/>
                </a:solidFill>
                <a:uFillTx/>
                <a:latin typeface="Arial Black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ценит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епень  собственной включенности в работу семинара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перечислите свои ошибки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назовите самый значимый эпизод  семинара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перечислите негативные факторы (то, что раздражало, вызывало агрессию, неприятие)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• оцените по 7 бальной шкале насколько удалось реализовать себя на семинаре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7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Желаем вам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ерпения и творчества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43880" cy="158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46c0a"/>
                </a:solidFill>
                <a:uFillTx/>
                <a:latin typeface="Arial Black"/>
              </a:rPr>
              <a:t>Регулятивные УУД </a:t>
            </a:r>
            <a:br>
              <a:rPr sz="3600"/>
            </a:b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обеспечивают организацию</a:t>
            </a:r>
            <a:br>
              <a:rPr sz="3600"/>
            </a:b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f7f7f"/>
                </a:solidFill>
                <a:latin typeface="Arial"/>
              </a:rPr>
              <a:t>этапов</a:t>
            </a:r>
            <a:r>
              <a:rPr b="1" lang="ru-RU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f7f7f"/>
                </a:solidFill>
                <a:latin typeface="Calibri"/>
              </a:rPr>
              <a:t>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9640" y="2276640"/>
            <a:ext cx="7775640" cy="4032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Целеполаг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ланир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гнозир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онтрол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оррек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цен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Волевая саморегуля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станов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учебной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задачи: соотнесение того, что уже известно и усвоено, и того, что ещё неизвес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ставление плана и последовательности действ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определение последовательности промежуточных целей с у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м конечного результат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рогноз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редвосхищ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зультата и уровня усвоения знани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личение способа действия и его результа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заданным эталоно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целью обнаружения отклонений и отличий от эталона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Коррек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несение необходимых дополнений и корректив в план и способ действия в случае расхождения эталона, реального действия и его результата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выделение и осозн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уч-ся того, что уже усвоено и что еще нужно усвоить, осознание кач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 уровня усвоения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Olga</cp:lastModifiedBy>
  <dcterms:modified xsi:type="dcterms:W3CDTF">2018-01-24T14:10:59Z</dcterms:modified>
  <cp:revision>61</cp:revision>
  <dc:subject/>
  <dc:title>Слайд 1</dc:title>
</cp:coreProperties>
</file>