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4CF1-5955-4644-8B6A-216B440B9D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1FE2-FB18-4A82-B950-91797FA8D4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9FD-7761-4FBA-A0FA-EDAD383C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94C-149E-4F4A-866C-5E7ABBD1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049-4091-4B8E-A3A2-624FC02B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E04-7448-4EB9-95C3-7395B689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224-A6AD-4A2F-AE5B-74E7E116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7B2-F258-4B04-9C04-63B356B6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2C4-A31A-47F9-892F-FD021B28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BB1-F6B8-4635-A1E2-30995640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D32-7D1A-4189-9ACA-B3DE14AE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882-76A9-469A-AB33-2BF6EB48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30B-CC13-44C6-BC83-C1045171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7FE-8A85-4044-BDBA-4B7B3BD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87F3-A028-487E-B0A0-0FE58F4E317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A34D-5FE5-4465-81BF-9CB55F7F3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Dell3000\Desktop\Коперник\Черная кур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313560" y="1928880"/>
            <a:ext cx="879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Иллюстрации к сказк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Антония Погорель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«Черная курица, или Подземные жите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316240" y="5500800"/>
            <a:ext cx="65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Calibri"/>
              </a:rPr>
              <a:t>Работа ученика 5А класса средней школы №169 г.Н.Нов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Calibri"/>
              </a:rPr>
              <a:t>Ефанова Тим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Calibri"/>
              </a:rPr>
              <a:t>201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C:\Users\Dell3000\Desktop\Коперник\Черная кур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Dell3000\Desktop\Коперник\Черная курица\0_141de9_b89424c3_orig.jpg"/>
          <p:cNvPicPr/>
          <p:nvPr/>
        </p:nvPicPr>
        <p:blipFill>
          <a:blip r:embed="rId2"/>
          <a:stretch/>
        </p:blipFill>
        <p:spPr>
          <a:xfrm>
            <a:off x="4429080" y="428760"/>
            <a:ext cx="4532400" cy="5978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428760" y="1857240"/>
            <a:ext cx="364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Monotype Corsiva"/>
                <a:ea typeface="DFKai-SB"/>
              </a:rPr>
              <a:t>Между курами он особенно любил одну черную хохлатую, названную Чернушкою. Чернушка была к нему ласковее других; она даже иногда позволяла себя гладить, и потому Алеша лучшие кусочки приносил 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2" descr="C:\Users\Dell3000\Desktop\Коперник\Черная кур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Dell3000\Desktop\Коперник\Черная курица\0_141def_fd82ea5a_orig.jpg"/>
          <p:cNvPicPr/>
          <p:nvPr/>
        </p:nvPicPr>
        <p:blipFill>
          <a:blip r:embed="rId2"/>
          <a:stretch/>
        </p:blipFill>
        <p:spPr>
          <a:xfrm>
            <a:off x="4268880" y="461880"/>
            <a:ext cx="4548240" cy="6039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57120" y="2214720"/>
            <a:ext cx="342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Monotype Corsiva"/>
                <a:ea typeface="DFKai-SB"/>
              </a:rPr>
              <a:t>И он смело последовал за нею. Из глаз её выходили как будто лучи, которые освещали все вокруг них, хотя не так ярко, как маленькие све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C:\Users\Dell3000\Desktop\Коперник\Черная кур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357120" y="1428840"/>
            <a:ext cx="3786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Monotype Corsiva"/>
                <a:ea typeface="DFKai-SB"/>
              </a:rPr>
              <a:t>- Возьми это семечко, - сказал король. –Пока оно будет у тебя, ты всегда знать будешь урок свой, какой бы тебе не задали, с тем, однако, условием, чтоб ты ни под каким предлогом никому не сказывал ни одного слова о том, что здесь видел или впредь увидишь. Малейшая нескромность лишит тебя навсегда наших милостей, а нам наделает множество хлопот и неприят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Dell3000\Desktop\Коперник\Черная курица\0_141df1_6b62f91a_orig.jpg"/>
          <p:cNvPicPr/>
          <p:nvPr/>
        </p:nvPicPr>
        <p:blipFill>
          <a:blip r:embed="rId2"/>
          <a:stretch/>
        </p:blipFill>
        <p:spPr>
          <a:xfrm>
            <a:off x="4357800" y="1000080"/>
            <a:ext cx="449892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Picture 2" descr="C:\Users\Dell3000\Desktop\Коперник\Черная курица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357120" y="1785960"/>
            <a:ext cx="3786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Monotype Corsiva"/>
                <a:ea typeface="DFKai-SB"/>
              </a:rPr>
              <a:t>- Чем более вы от природы имеете способностей и дарований, - сказал он Алеше, - те  скромнее и послушнее вы должны быть. Не для того дан вас ум, чтоб вы во зло его употребляли. Вы заслуживаете наказание за вчерашнее упрямство, а сегодня вы еще увеличили вину вашу тем, что солг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Dell3000\Desktop\Коперник\Черная курица\317107b58b747d748be252385c89ed06.jpg"/>
          <p:cNvPicPr/>
          <p:nvPr/>
        </p:nvPicPr>
        <p:blipFill>
          <a:blip r:embed="rId2"/>
          <a:stretch/>
        </p:blipFill>
        <p:spPr>
          <a:xfrm>
            <a:off x="4500720" y="857160"/>
            <a:ext cx="4403520" cy="578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6T16:15:03Z</dcterms:created>
  <dc:creator>Dell3000</dc:creator>
  <dc:description/>
  <dc:language>en-US</dc:language>
  <cp:lastModifiedBy>Елена</cp:lastModifiedBy>
  <dcterms:modified xsi:type="dcterms:W3CDTF">2018-01-26T05:32:24Z</dcterms:modified>
  <cp:revision>14</cp:revision>
  <dc:subject/>
  <dc:title>Слайд 1</dc:title>
</cp:coreProperties>
</file>