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242-2426-481A-B1B1-105F5E8B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C86-F0EB-4713-B9CF-D51E1D3A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8DF-DCCD-4D29-8F4F-AF0B81EB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B36-C495-42AF-AA48-2BB6C306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F94-D2FE-4DF3-BB92-BF92B08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6D8-FF48-4A50-80BC-6ECB6C66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1FC-672A-409E-A2AC-0BB5AB5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365-9A9B-48C4-A03C-1D55DF7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C34-B88C-4196-A653-017576B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C4D-CB6C-41DF-B3EA-043C4E4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F2A-5011-4BB9-9085-167A69B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5A9-29DA-48EE-9313-EB597CE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980-8023-4834-8898-4C7A825AF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трольно-оценочные средства профессионального моду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ронкова Вера Анатольевна, методис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ГБ ПОУ М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Яхромский коллед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выполнения текущих контрольных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ая рабо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форма контроля для оценки знаний по базовым и вариативным дисциплинам всех циклов, МДК. Контрольная работа включае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редние по трудност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оретические вопросы из изученного материала, типовые задачи/задания/упражнения/документы, решение/выполнение/заполнение которых предусмотрено в Рабочей программе модуля (дисциплины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каждой письменной работе должны быт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азаны критерии оценк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их выражение в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нтах и/или в баллах, соответствующие академическим оценкам «отлично»,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«хорошо»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«удовлетворительно», «неудовлетворительно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ругие виды письменных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сс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орма контроля, важная при формировании универсальных компетенций обучающегося, при развитии навыков самостоятельного творческого мышления и письменного изложения собственных умозаключений на основе изученного или прочитанного материал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ферат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форма контроля, используемая для привития студенту навыков краткого, грамотного и лаконичного представления собранных материалов и фактов в соответствии с требова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Тес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Тест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форма контроля, направленная на проверку уровня освоения контролируемого теоретического и практического материала по дидактическим единицам дисциплины (терминологический аппарат, основные методы, информационные технологии, приемы, документы, компьютерные программы, используемые в изучаемой област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иды тест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борочны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станов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ановления соответств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ановления правильной последователь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результатов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 может рассматриваться к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обучаем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ая форма освоения материала, имеющая логическую последовательность и завершение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 курсовой про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бщённая тем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еоретический материал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рактическая рабо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.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результатов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ритерии оценки (полные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уальность проек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актическая значим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овизна проек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ость и слаженность работы участников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фессиональный уровень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бличность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рганизационный уровень проек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ческий уровень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четная документац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результатов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ритерии оценки работы участника проекта (полные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ние профессиональных теоретических знаний в соответствующей обла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работать со справочной и научной литератур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составлять и редактировать текс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пользоваться информационными технология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работать в коман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представлять результаты собственной деятельности в СМИ и публич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муникабельность, инициативность, творческие способ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результатов курсовой работ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рсовая работ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а контроля дл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монстрации студентом следующих умений, навыков и компетенц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работать с объектами изучения, критическими источниками, справочной и энциклопедической литератур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обирать и систематизировать практический матери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амостоятельно осмысливать проблему на основе существующих методи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логично и грамотно излагать собственные умозаключения и выв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облюдать форму научного исслед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пользоваться глобальными информационными ресурс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ладение современными средствами телекоммуник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ь и готовность к использованию основных прикладных программных сред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обосновывать и строить априорную модель изучаемого объекта или процес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ность создать содержательную презентацию выполненной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результатов проекта и курсовой работ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135320"/>
        </p:xfrm>
        <a:graphic>
          <a:graphicData uri="http://schemas.openxmlformats.org/drawingml/2006/table">
            <a:tbl>
              <a:tblPr/>
              <a:tblGrid>
                <a:gridCol w="1257480"/>
                <a:gridCol w="2035080"/>
                <a:gridCol w="1644480"/>
                <a:gridCol w="1892520"/>
                <a:gridCol w="140004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, связанные с созданием и обработ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универсальные компетенции (коммуникаб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сть, инициативность, умение работать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манде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выки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52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лич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ыполнена на высоком проф.уровне. Представленный материал фактически верен, допускаются негрубые фактические неточности. Студент свободно отвечает на вопросы, связанные с проек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изложен грамотно, доступно для предполагаемого адресата, логично и интересно. Стиль изложения соответствует задачам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проявил инициативу, творческий подход, способность к выполнению сложных заданий, навыки работы в коллективы, организационные способ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 представлена полностью и в ср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результатов проекта и курсовой работ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5362560"/>
        </p:xfrm>
        <a:graphic>
          <a:graphicData uri="http://schemas.openxmlformats.org/drawingml/2006/table">
            <a:tbl>
              <a:tblPr/>
              <a:tblGrid>
                <a:gridCol w="971640"/>
                <a:gridCol w="2320920"/>
                <a:gridCol w="1644480"/>
                <a:gridCol w="1892520"/>
                <a:gridCol w="140004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, связанные с созданием и обработ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универсальные компетенции (коммуникаб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сть, инициативность, умение работать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манде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выки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7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орош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ыполнена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высоком профессиональном уров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о до 4–5 фактических ошибок. Студент отвечает на вопросы, связанные с проектом, но недостаточно пол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тся отдельные ошибки, логические и стилистические погрешности. Текст недостаточно логически выстроен, или обнаруживает недостаточное владение риторическими навы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статочно полно, но без инициативы и творческих находок выполнил возложенные на него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 представлена достаточно полно и в срок, но с некоторыми недоработ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результатов проекта и курсовой работ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971640"/>
                <a:gridCol w="2320920"/>
                <a:gridCol w="1644480"/>
                <a:gridCol w="1892520"/>
                <a:gridCol w="140004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, связанные с созданием и обработ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универсальные компетенции (коммуникаб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сть, инициативность, умение работать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манде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выки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44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довлетворитель-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недостаточно высок. Допущено до 8 фактических ошибок. Студент может ответить, лишь на некоторые вопросы, заданные по проек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писана несоответствующим стилем, недостаточно полно изложен материал, допущены различные речевые, стилистические и логически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выполнил большую часть возложенной на него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 сдана со значительным опозданием (больше недели). Отсутствуют некоторые доку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разработки К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систему КОСов, позволяющую оценить процесс формирования ПК и ОК и сделать вывод об освоении вида профессиональ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результатов проекта и курсовой работ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381560"/>
        </p:xfrm>
        <a:graphic>
          <a:graphicData uri="http://schemas.openxmlformats.org/drawingml/2006/table">
            <a:tbl>
              <a:tblPr/>
              <a:tblGrid>
                <a:gridCol w="1042920"/>
                <a:gridCol w="2249640"/>
                <a:gridCol w="1644480"/>
                <a:gridCol w="1892520"/>
                <a:gridCol w="140004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тенции, связанные с созданием и обработ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универсальные компетенции (коммуникаб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сть, инициативность, умение работать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манде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выки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9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удовле-творитель-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ыполнена на низком уровне. Допущено более 8 фактических ошибок. Ответы на вопросы по проекту обнаруживают непонимание предмета и отсутствие ориентации в материал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ы грубые орфографические, пунктуационные, стилистические и логические ошибки. Неясность и примитивность изложения делают текст трудным для вос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практически не работал в группе, не выполнил свои задачи или выполнил только некоторые пору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 не сда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овые задания для оценки освоения МД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составлении заданий необходимо иметь в виду, что оценивается профессионально значимая для освоения вида профессиональной деятельности информация, направленная на формирование профессиональных и общих компетенци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я должны носить практикоориентированный комплексный характ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овые задания для оценки освоения МДК. Пример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овые задания для оценки освоения МДК 02.01. Профессия 111101.01 Мастер животновод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и требования к операциям машинного до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доильного аппарата к машинному до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неисправности и способы их устранения в доильном аппарат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к дифференцированному зачету по учебной и (или) производственной практик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фференцированный зачет по учебной и (или) производственной практике выставляется на основании данных аттестационного листа (характеристики профессиональной деятельности обучающегося/студента на практике) с указанием видов работ, выполненных обучающимся во время практики, их объема, качества выполнения в соответствии с технологией и (или) требованиями организации, в которой проходила практи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 аттестационного листа по практик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ФИО обучающегося/студента, № группы, специальность/профес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Место проведения практики (организация), наименование, юридическийадрес 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ремя проведения практики 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иды и объем работ, выполненные обучающимся во время практ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Качество выполнения работ в соответствии с технологией и (или) требованиями организации, в которой проходила прак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а                                                                 Подписи руководителя практ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ственного лица орга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ы контрольно-оценочных заданий для оценки результатов освоения ПМ: «проек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42960" y="1714680"/>
          <a:ext cx="8072280" cy="4225680"/>
        </p:xfrm>
        <a:graphic>
          <a:graphicData uri="http://schemas.openxmlformats.org/drawingml/2006/table">
            <a:tbl>
              <a:tblPr/>
              <a:tblGrid>
                <a:gridCol w="1214280"/>
                <a:gridCol w="1571760"/>
                <a:gridCol w="2071800"/>
                <a:gridCol w="3214440"/>
              </a:tblGrid>
              <a:tr h="54576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, разнови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0"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Проек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овление готового продукта или описани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ко-ориентирован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овление действующей модели механиз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аботка методики профилактики заболе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аботка технологии изгот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овление предмета декоративно-прикладного искус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овершенствование типовых узлов и агрегатов, механиз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задания по типу «Проек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ть технологический процесс на механическую обработку детали  по предложенному чертежу, согласно пошаговым действиям, согласно вариа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С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1901 Технология машиностро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0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Разработка технологических процессов изготовления деталей ма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задания по типу «Проек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горитм пошагов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шаг. Выбрать метод получения заготовки -   3 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шаг. Выбрать оборудование, приспособление, инструмент -   1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шаг. Разработать маршрут изготовления детали -9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шаг. Разработать карты технологического процесса  в программе «КОМПАС-вертикаль» или «АДАМ»  - 58 балл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тульный лист (ТЛ) - 1 бал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ная карта (МК) – 9 балл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технического процесса (ТКП) – 40 балл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омость оснастки (ВО) – 3 бал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эскизов (КЭ) – 7 б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шаг. Рассчитать режимы резания и нормы времени на один переход - 1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 шаг. Разработать технологический эскиз на одну операцию - 10 б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о выполненное задание оценивается в 100 б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задания по типу «Проект»: проблемы и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полнение задания потребует много времени на разработку и расчё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ужны компьютеризированные рабочие ме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зможное реше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веньевая форма выполнения зад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нос части выполнения задания на время прохождения практ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веньевая форма защиты предлагаемого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ы контрольно-оценочных заданий для оценки результатов освоения ПМ: «конструкто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4240" y="2143080"/>
          <a:ext cx="7929720" cy="4000680"/>
        </p:xfrm>
        <a:graphic>
          <a:graphicData uri="http://schemas.openxmlformats.org/drawingml/2006/table">
            <a:tbl>
              <a:tblPr/>
              <a:tblGrid>
                <a:gridCol w="357480"/>
                <a:gridCol w="1071360"/>
                <a:gridCol w="1643040"/>
                <a:gridCol w="3052800"/>
                <a:gridCol w="1805040"/>
              </a:tblGrid>
              <a:tr h="6001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, разнови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056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струк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ка (разборка) целого из отдельных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с избыточным набором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с недостаточным набором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изменение системы путём замены части элементов или их взаиморасположения, взаимосвяз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ка механизма (с проверкой 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ботоспособ-но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при разработки К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ать КОСы для текущего контроля, дающие представление о результатах формирования П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умать и разработать необходимые материалы для оценивания с позиции формируемых компетенций результатов прохождения практи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ать КОСы для промежуточной аттест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ать практикоориентированные КОСы для оценки в целом МДК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думать организацию и разработать КОСы для оценки освоения ВПД (в целом по ПМ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«Конструктор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ть предложенный узел редуктора давления с фильтром РДФ-3 , ориентируясь на готовое изделие, из предложенных деталей с выполнением необходимых слесарных операций, с демонстрацией изготовления навивки пружины холодным способом, используемой при сборке заданного узла. Предложить технологию термообработки одной из собираемых дета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фессия НП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20703.02 Слесарь по контрольно-измерительным приборам и автомат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М.01 Выполнение слесарных_и слесарно-сборочных раб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 задания по типу «Конструктор»: проблемы и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роблем нет – охвачены все ПК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К 1.1. Выполнять слесарную обработку деталей по 11-12 квалитетам (4-5 классам точности) с подгонкой и доводкой дета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К 2.2. Навивать пружины из проволоки в холодном и горячем состоя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К 3.3. Производить слесарно-сборочные рабо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К4.4. Выполнять термообработку малоответственных деталей с последующей их доводк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ы контрольно-оценочных заданий для оценки результатов освоения ПМ: «исслед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28800" y="1928880"/>
          <a:ext cx="7572240" cy="4000320"/>
        </p:xfrm>
        <a:graphic>
          <a:graphicData uri="http://schemas.openxmlformats.org/drawingml/2006/table">
            <a:tbl>
              <a:tblPr/>
              <a:tblGrid>
                <a:gridCol w="352440"/>
                <a:gridCol w="1805040"/>
                <a:gridCol w="1804680"/>
                <a:gridCol w="1805040"/>
                <a:gridCol w="1805040"/>
              </a:tblGrid>
              <a:tr h="4874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, разнови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следова-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блемы, закономер-ности, тренда, предпола-гающее самостоятель-ную работу с источниками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е иссле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-ческое иссле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ирова-ние развития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технического средства с определением поломки (дефекта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следование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доильный аппарат к доению с индивидуальным учётом молок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странением выявленных деф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ессия Н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1101.01 Мастер животно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М 02 Машинное д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«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следован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личество вариантов задания для экзаменующегос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не менее четырёх (регламентируется количеством типов используемы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 регион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оильных аппаратов и заложенных в н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 одной неисправнос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порвана сосковая резина, неправильно установлен клапан в пульсаторе, порвана мембрана пульсатора, забито отверстие в мембране пульсатора, сквозные трещины в шлангах, забиты каналы между камерами пульсатора, у всех разрегулирована частота пульсаций, трещины в корпусе коллектора и пульсатора, перекос в соединяемых деталях пульсатора и коллектора и др.)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«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следование»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блемы и ре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охватывает все ПК модул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бые требования к организации рабочего места для экзаменуемого: работающая вакуумная установка, наличие запасных частей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зможное решени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ть второе задание на оставшиеся ПК, желательно связанное с первым – «Выдоить одну зачётную корову с проверкой качества выдоенного молока и промывкой доильного аппарат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ы контрольно-оценочных заданий для оценки результатов освоения ПМ: «рол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85880" y="1857240"/>
          <a:ext cx="7643880" cy="4216680"/>
        </p:xfrm>
        <a:graphic>
          <a:graphicData uri="http://schemas.openxmlformats.org/drawingml/2006/table">
            <a:tbl>
              <a:tblPr/>
              <a:tblGrid>
                <a:gridCol w="357120"/>
                <a:gridCol w="1428840"/>
                <a:gridCol w="2214360"/>
                <a:gridCol w="1820880"/>
                <a:gridCol w="1822680"/>
              </a:tblGrid>
              <a:tr h="7034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, разнови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л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профессиональной деятельности в роли специалис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левой» вариан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тационно-игровой вариан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дача зачёта у постели больного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имитационная игра, включающая роли всех участников технологического процесс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оль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данного типа проще формулировать, если профессия или специальность предполагают работу на нескольких рабочих местах или консолидированное принятие ре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хгалтер, механик, агроном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ы контрольно-оценочных заданий для оценки результатов освоения ПМ: «ситуац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57160" y="1428840"/>
          <a:ext cx="7715520" cy="5076720"/>
        </p:xfrm>
        <a:graphic>
          <a:graphicData uri="http://schemas.openxmlformats.org/drawingml/2006/table">
            <a:tbl>
              <a:tblPr/>
              <a:tblGrid>
                <a:gridCol w="360360"/>
                <a:gridCol w="1497240"/>
                <a:gridCol w="2000160"/>
                <a:gridCol w="1857240"/>
                <a:gridCol w="2000520"/>
              </a:tblGrid>
              <a:tr h="8074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, разнови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туац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едложений в рамках профессиональ-ной деятельности для разрешения определённой проблемной ситу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етод кейс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изводст-венно-ситуационные задач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ить оптимальный путь разрешения педагогической проблемы в школ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перечень мероприятий по устранению причин неблагоприятной описанной ситу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мер задания по типу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итуац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етском саду в старшей группе численностью 30 человек после прогулки у двух детей поднялась температура. Время года – середина сентября. Такая ситуация наблюдается каждый год в осенне-весенний период. Вы молодой воспитатель, который намерен работать в этом учреждении постоянно. Проанализируйте возможные причины этой ситуации и предложите оперативные действия и долгосрочные мероприятия по недопущению такой ситуации в будущ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пециальность СП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050144 Дошкольное образование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М.01. Организация мероприятий, направленных на укрепление здоровья ребенка и его физического разви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стема КОС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трица формирования ПК и 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71680" y="1428840"/>
          <a:ext cx="8143560" cy="5263920"/>
        </p:xfrm>
        <a:graphic>
          <a:graphicData uri="http://schemas.openxmlformats.org/drawingml/2006/table">
            <a:tbl>
              <a:tblPr/>
              <a:tblGrid>
                <a:gridCol w="617400"/>
                <a:gridCol w="433440"/>
                <a:gridCol w="525240"/>
                <a:gridCol w="524160"/>
                <a:gridCol w="495000"/>
                <a:gridCol w="497160"/>
                <a:gridCol w="757080"/>
                <a:gridCol w="758880"/>
                <a:gridCol w="617400"/>
                <a:gridCol w="457200"/>
                <a:gridCol w="600120"/>
                <a:gridCol w="598680"/>
                <a:gridCol w="473040"/>
                <a:gridCol w="463320"/>
                <a:gridCol w="325440"/>
              </a:tblGrid>
              <a:tr h="406440">
                <a:tc gridSpan="2" rowSpan="4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бучения по профессиональному моду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и рубежный контро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ая аттестация по П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 (квалификационны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ир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ЛП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ы по МД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е зачеты по практи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курсового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ортфоли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текста (представленного продукта) и оформления курсового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защит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 выполнения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ный продукт / осуществленный проце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обоснование результатов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держания и оформления портфоли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защит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жет быть разбивка по количе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7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 задания по тип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итуация»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ы и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облем нет – охвачены все ПК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К 1.1. Планировать мероприятия, направленные на укрепление здоровья ребенка и его физическое развит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К 1.2. Проводить режимные моменты в соответствии с возрасто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К 1.3.Проводить мероприятия по физическому воспитанию в процессе выполнения двигательного режи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К 1.4. Осуществлять педагогическое наблюдение за состоянием здоровья каждого ребенка, своевременно информировать медицинского работника об изменениях в его самочувств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 для экзамена (квалификационного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дания, ориентированные на проверку освоения вида деятельности в цел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дания, проверяющие освоение группы компетенций, соответствующих определенному разделу моду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дания, проверяющие отдельные компетенции внутри профессионального моду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ерационный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е разработки содержания типовых заданий происходит уточнение показателей оценки результатов по ПМ. Установление показателей результата, разработка типовых заданий и определение критериев их оценивания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цесс итерацио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ерационный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ходе разработки содержания типовых заданий происходит уточнение показателей оценки результатов по ПМ. Установление показателей результата, разработка типовых заданий и определение критериев их оценивания –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оцесс итерационны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Целесообразно привлекать к разработке \ экспертизе контрольно-оценочных  средств работода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точнённые показатели и критерии вносятся в пятый раздел программы профессионального моду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ерационный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терационный процесс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последовательное приближение и проверка условия достижения искомого результа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итерационных алгоритмах необходимо обеспечить обязательное достижение условия выхода из цикла (сходимость итерационного процесса). В противном случае произойдет зацикливание алгорит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(задани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вокупность оценочных критериев может быть оформлена как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кспертный лис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зможна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уктура критерие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полнение зад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готовленный продукт/осуществленный процес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тное обоснование результатов работы (если требуется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щита портфолио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ценка полноты, достоверности и соответствия представленных материалов оцениваемым компетенция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ценка защи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ыполнение зада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щение в ходе задания к информационным источ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распределение времени на выполнение зад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язательно наличие следующих этапов выполнения зад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знакомление с заданием и планирование работ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учение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дготовка проду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флексия выполнения задания и коррекция подготовленного продукта перед сдач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людение этих критериев определяется путём наблюдения за действиями экзаменуем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ленный продукт/осуществленный проце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стика продукта/процесса и отметка о выполнении/невыполн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эталона качест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ного алгоритм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ов процесса выполнения 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ленный продукт/осуществлен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зможно использование одной из табл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57160" y="2786040"/>
          <a:ext cx="7572600" cy="145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78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енные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 оценки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857160" y="5143680"/>
          <a:ext cx="7572600" cy="124128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428920"/>
              </a:tblGrid>
              <a:tr h="62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и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ыполни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0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ритериев оценки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ленный продукт/осуществленный процесс - 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.01. Организация мероприятий, направленных на укрепление здоровья ребенка и его физическ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50144 Дошкольное образование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85880" y="3000240"/>
          <a:ext cx="7929360" cy="3243240"/>
        </p:xfrm>
        <a:graphic>
          <a:graphicData uri="http://schemas.openxmlformats.org/drawingml/2006/table">
            <a:tbl>
              <a:tblPr/>
              <a:tblGrid>
                <a:gridCol w="2643120"/>
                <a:gridCol w="2643120"/>
                <a:gridCol w="2643120"/>
              </a:tblGrid>
              <a:tr h="57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енные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 оценки результ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 (Нет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7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.1. Планировать мероприятия, направленные на укрепление здоровья ребенка и его физическое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ение целей, задач, содержа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есообразность выбора формы мероприятия  с детьми с учетом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ение плана мероприятий двигательного режима с учетом возраста и режимом работы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существление взаимосвязи плана работы с контролем (диагностик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стема КОСов (продолжение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трица формирования ПК и 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14240" y="1569960"/>
          <a:ext cx="8072640" cy="5011920"/>
        </p:xfrm>
        <a:graphic>
          <a:graphicData uri="http://schemas.openxmlformats.org/drawingml/2006/table">
            <a:tbl>
              <a:tblPr/>
              <a:tblGrid>
                <a:gridCol w="594000"/>
                <a:gridCol w="509400"/>
                <a:gridCol w="593640"/>
                <a:gridCol w="615960"/>
                <a:gridCol w="374760"/>
                <a:gridCol w="581040"/>
                <a:gridCol w="465120"/>
                <a:gridCol w="890640"/>
                <a:gridCol w="725400"/>
                <a:gridCol w="382680"/>
                <a:gridCol w="538200"/>
                <a:gridCol w="703080"/>
                <a:gridCol w="555840"/>
                <a:gridCol w="542880"/>
              </a:tblGrid>
              <a:tr h="577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 gridSpan="2"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огате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11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практический опы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36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2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36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2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2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ленный продукт/осуществленный процесс - прим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.0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ение химической завивки вол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0116.01 Парикмах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14240" y="2786040"/>
          <a:ext cx="7715520" cy="3941640"/>
        </p:xfrm>
        <a:graphic>
          <a:graphicData uri="http://schemas.openxmlformats.org/drawingml/2006/table">
            <a:tbl>
              <a:tblPr/>
              <a:tblGrid>
                <a:gridCol w="5286600"/>
                <a:gridCol w="1214280"/>
                <a:gridCol w="1214640"/>
              </a:tblGrid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Организация рабочего места  парикмах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и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ыполни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Надевать специальную одеж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Получать парикмахерское бельё, вспомогательные материалы, парфюмер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бщение с клиен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Определять тип  и свойств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Проводить диагностику состояния волос и кожи голо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Устное обоснование результатов работы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28760" y="2500200"/>
          <a:ext cx="8229600" cy="30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ы проверяемых компетен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 оценки результ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(да / н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Защита портфол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полноты, достоверности и соответствия представленных материалов оцениваемым компетенц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85920" y="3357720"/>
          <a:ext cx="6500880" cy="3143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7200"/>
              </a:tblGrid>
              <a:tr h="142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ы проверяемых компетен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 оценки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(да / н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2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ерии оценки выполнения зад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Защита портфол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920" y="2714760"/>
          <a:ext cx="6500880" cy="3143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7200"/>
              </a:tblGrid>
              <a:tr h="142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ы проверяемых компетен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и оценки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(да / н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2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овая оценка по моду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я ФИРО: «Вид профессиональной деятельности осво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освоен»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е нашла нормативного подтвер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ём собственное положение о экзамене квалификационном, если нет регионального, в котором прописываем условия получения принятой пятибальной 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выполнения лабораторных работ и практических зан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выполнения лабораторных работ и практических занятий. Метод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ка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ли защита письменных отчё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ка полученного продукта (изделия) на соответствие заданным параметр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снование выбранного алгоритма действий (выбранной технолог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выполнения лабораторных работ и практических занятий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выполнения лабораторных работ и практических занятий. Формы организации контрол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дивидуальна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упповая 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венье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следние две дают возможность проследить формирование ОК, связанные с развитием коммуникативных качеств лич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ы для текущего контро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Оценка выполнения лабораторных работ и практических занятий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выполнения лабораторных работ и практических занятий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жно при подготовке заданий на выполнение определить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каким ПК связано выполнение работ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бранная форма организации работы способствует проявлению и формированию 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бранная форма организации контроля способствует индивидуальной оценке достижений обучаем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7168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занятий всегда ставить перед собой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данная форма и выбранные методы способствуют индивидуальному формированию П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данная форма и выбранные методы способствуют развитию 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исия</dc:creator>
  <dc:description/>
  <dc:language>en-US</dc:language>
  <cp:lastModifiedBy>Пользователь Windows</cp:lastModifiedBy>
  <dcterms:modified xsi:type="dcterms:W3CDTF">2018-01-24T15:57:04Z</dcterms:modified>
  <cp:revision>146</cp:revision>
  <dc:subject/>
  <dc:title>контрольно-оценочные средства профессионального модуля</dc:title>
</cp:coreProperties>
</file>