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97a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31D-C3A9-4BDA-A073-48AF72B90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8B3-C2AD-4CCE-A8C3-59D925B19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42F-E548-4970-9913-9063CD69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B93-622D-481B-B21A-99BDE7A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65E-53B0-4F8F-A0CF-A18E7BF6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B56-D440-4721-8588-53D8B260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01F6-491D-4C9A-A7C5-7B1AD449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8D48-7466-4121-B7E3-95FE1F81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7C1C-FD75-4C1F-BABB-73738152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AE9-23D1-4040-ADE2-9AE8C26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44E8-ECAD-45F2-BBAD-B154664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B796-A56F-482C-859B-D7BE7B3B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EFE2-1640-428A-8235-019ED43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D19-F6B2-4F24-86CA-B98C27D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27D5-FFD6-4BF6-8644-DFA3783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3E18-C87B-49B3-AB3E-5EE7D0C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B98-85B2-42A7-AFED-E739DC1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74F-F541-4673-BC21-BD60A6B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7CA-D2EB-4B3F-A0A0-DC9BFF9B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DB11F-CA34-455B-9351-7BE9413C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DA003-46E0-4B78-860A-CB8A0E2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459E0-B9F6-4B7C-AEB2-5E11E61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F629A-CA2C-4680-9F33-02D8973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CE425-D7CC-4C18-887C-4326FAA7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4BE-3175-4717-BD4C-C5EB62D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1978E-A26A-4088-9698-7615DB6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EA364-30AF-4884-A10D-A533BA6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6938B-BCB4-4E13-860B-423D24C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BE6C4-6C2F-47F5-A212-EAC8685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931CD-FA24-4605-B78E-981D787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05A6E-5A6F-4BA7-995F-FCD2E18C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90459-64C7-4A9B-8CC3-452FEBFC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47740-B54D-4A0B-A7CA-0489F2E0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D3F2-7F59-4EE8-94FD-6FCD82E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9067-6B00-4C26-819C-5E63D4AA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DE9-604C-420B-BF44-6860721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7418-27F4-4B2A-9AE0-6DCCDD7E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5112-B8BA-4A7D-81C4-2C636028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D8F3-62EB-42EA-ABC7-7238399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871BF-3518-4884-A8A9-C8989DE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70C2-10FC-4EAE-98A3-840E8E1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EC6F-102B-4E75-8F9E-7F7095C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16E0-2AAD-4913-93EB-1AB4E62B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2E2B-29ED-4394-A9DF-8269C156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3182-57A2-40C9-81A4-88ECEF8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1A6-5414-4F84-A179-AA1C7D5B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AD7-488C-4C79-BA8B-C17DD522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8B6-9B8A-418B-8D4F-D360FB1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25A-352E-401A-B026-1BB67F95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02B-100E-47EA-A9BC-191A130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e4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cc8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97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3" marL="11239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4" marL="13255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58D-ADD0-4961-BCF2-E214A1B419A3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e4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cc8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97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3" marL="11239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4" marL="13255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e97a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7AD-9215-4C13-9B8C-D38CCD26CAFD}" type="slidenum">
              <a:rPr b="0" lang="ru-RU" sz="1200" spc="-1" strike="noStrike">
                <a:solidFill>
                  <a:srgbClr val="7e97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e4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cc8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97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3" marL="11239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4" marL="13255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6FA-212D-4076-A722-3E85F7764276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e4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cc8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0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e97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3" marL="11239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4" marL="1325520" indent="-2286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B205-AD8D-4FC3-94D2-6EF14BEAE339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2"/>
          <p:cNvSpPr/>
          <p:nvPr/>
        </p:nvSpPr>
        <p:spPr>
          <a:xfrm>
            <a:off x="951120" y="137304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е приложение к сочинению «Что мы знаем о границе ?»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2780640" y="501336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3059280" y="54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ель Алевти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8"/>
          <p:cNvSpPr/>
          <p:nvPr/>
        </p:nvSpPr>
        <p:spPr>
          <a:xfrm>
            <a:off x="4708080" y="62373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2205720" y="417816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7 класса МБОУ ОШ№25 Г.Ива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3531240" y="461952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хов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C:\Users\Учитель\Desktop\34632_granitsa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C:\Users\Учитель\Desktop\0_5397_2a333240_XL.jpg"/>
          <p:cNvPicPr/>
          <p:nvPr/>
        </p:nvPicPr>
        <p:blipFill>
          <a:blip r:embed="rId1"/>
          <a:stretch/>
        </p:blipFill>
        <p:spPr>
          <a:xfrm>
            <a:off x="0" y="-399960"/>
            <a:ext cx="9264600" cy="725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Российской Федерации установлены следующие дни воинской славы России:</a:t>
            </a:r>
            <a:endParaRPr b="0" lang="en-US" sz="24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18 апреля — День победы русских воинов князя Александра Невского над немецкими рыцарями на Чудском озере (Ледовое побоище, 1242 год); 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21 сентября — День победы русских полков во главе с великим князем Дмитрием Донским над монголо-татарскими войсками в Куликовской битве (1380 год); 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4 ноября — День освобождения Москвы силами народного ополчения под руководством Кузьмы Минина и Дмитрия Пожарского от польских интервентов (1612 год);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10 июля — День победы русской армии под командованием Петра Первого над шведами в Полтавском сражении (1709 год); 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9 августа — День первой в российской истории морской победы русского флота под командованием Петра Первого над шведами у мыса Гангут (1714 год); 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  <a:p>
            <a:pPr marL="329040" indent="-262080">
              <a:lnSpc>
                <a:spcPct val="80000"/>
              </a:lnSpc>
              <a:spcBef>
                <a:spcPts val="550"/>
              </a:spcBef>
              <a:buClr>
                <a:srgbClr val="7e97a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Times New Roman"/>
              </a:rPr>
              <a:t>11 сентября — День победы русской эскадры под командованием Ф.Ф. Ушакова над турецкой эскадрой у мыса Тендра (1790 год);</a:t>
            </a:r>
            <a:endParaRPr b="0" lang="en-US" sz="2200" spc="-1" strike="noStrike">
              <a:solidFill>
                <a:srgbClr val="1f2123"/>
              </a:solidFill>
              <a:latin typeface="Times New Roman"/>
            </a:endParaRPr>
          </a:p>
        </p:txBody>
      </p:sp>
      <p:pic>
        <p:nvPicPr>
          <p:cNvPr id="352" name="Picture 5" descr="C:\Users\Учитель\Desktop\94630612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3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612720" y="980640"/>
            <a:ext cx="9577440" cy="81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97ad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"/>
          </a:bodyPr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.                                             Сочинение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«Граница-начало Российской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державы                         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«   Что я знаю о границе?»   …..ее величайшая гордость и слава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убеж, где Россия встречает                                                                                                  друзей.врагов                                                                                                                                                                .                                                                                                         отрезвляет от блудных затей.»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Когда мы произносим слово граница,.то перед нашим взором встает образ велико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оссии.самой большой по площади страны мира,. имеющей самую протяженную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государственную границу.  Внутри страны  также существует  множество границ между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еспубликами.областями.районами ,поселками .Каждая  административная территория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имеет границы,.а самая строгая из них – государственная граница .Сколько стоит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государство Российское, .столько оно было вынуждено защищать свои  рубежи. Первое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упоминание  в письменных источниках  об охране  границ  датируется 988 годом. Именно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тогда киевский князь Владимир повелел  начать  устройство пограничных городов по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екам СУЛЕ,.Трубежу,. Осетру.. На охрану  отечественных границ вставали доблестные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усские воины,.подлинные богатыри духа.,совести и чести. НА полотнах художника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Виктора Михайловича Васнецова мы сразу узнаем трех богатырей ,.выступивших в дозор ,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.а самый знаменитый из них .Илья Муромец.считается  основателем  мужественных пограничников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Все княжества, каждый из князей содержал свою рать для защиты своих земель. На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дальних рубежах располагались наблюдательные посты. При нападении кочевников с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этих  постов немедленно поступало сообщение о приближении врага. Людей, охраняющих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убежи своей Родины, назвали пограничниками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Государственная граница страны пролегает через столицу нашей Родины-Москву.В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Москве. сосредоточен мозг управления всей пограничной службой страны. Самые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ответственные решения.связанные  с охраной  границ России , принимаются в столице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а протяжении веков русские воины считали защиту своей Родины делом чести, и всякий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аз, когда над Россией  нависала опасность, вставали на её защиту. Доблесть русских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воинов, их стойкость и мужество, храбрость и героизм, взаимовыручка, проявляемые в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борьбе с врагами России, служили  и служат примером для воинов Вооружённых Сил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России.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авечно в летопись войны вписан подвиг пограничников  .     в главных  сражениях  у стен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Ленинграда. Они охраняли .Дорогу жизни-единственный путь.связывающий блокадный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Ленинград с материком. Бессмертен подвиг пограничников в ходе Сталинградской  и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Курской битв .также они брали Рейхстаг. Вспомним подвиг пограничников Брестско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крепости .которые больше месяца оказывали героическое сопротивление  врагу. Враг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только тогда смог ее захватить. когда   не осталось ни одного защитника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граничники несли нелёгкую службу по охране и защите сухопутных, морских и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воздушных границ страны. За это время произошло много разных конфликтов на всех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аправлениях границы. Были вооруженные нападения, были попытки провезти  и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ронести контрабанду, вражеские самолёты – разведчики пытались пролететь над наше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территорией. Но всё это заканчивалось провалом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граничников  рвали пули белофиннов.японцев и гитлеровцев .но их тела оказались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сильнее свинца и стали .Боевую славу  пограничникам добавили летчики и моряки .наши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медики. вернувшие в строй тысячи раненых. Сотнями задержаний нарушителе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граничники обязаны своим четвероногим друзьям.неслучайно у большинства люде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облик человека с собакой ассоциируется именно с пограничником…И сразу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вспоминаешь Никиту Федоровича Карацупу .легендарного человека .лучшего  советского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следопыта-пограничника. Многие мальчишки играли в» Карацупу» .мечтали служить на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границе. О пограничнике Карацупе знает не только наша страна.но и весь мир.   Мы.дети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е знавшие войны. из учебников истории . узнаем  о пограничниках  Наши ивановцы-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земляки стали легендой пограничников . .Хочу написать о Герое Советского Союза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Лопатине Алексее Васильевиче.который  в годы Великой Отечественной войны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совершил подвиг..22 июня 1941 года  его пограничники вступили в неравный бой с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емецкими фашистами.Лейтенант Лопатин лично руководил боем..а когда боеприпасы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были уже на исходе .он приказал тяжелораненых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граничников ,женщин.детей.находившихся на заставе.вывести из окружения.а сам с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есколькими бойцами остался на заставе.30 июня на заставе остались в живых только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десять пограничников.Когда фашисты устроили подкоп и подорвали здание.все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защитники заставы погибли.Оборона заставы продолжалась 11 дней,.было уничтожено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свыше ста солдат врага .Имя  Героя Советского Союза было присвоено 6-й пограничной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заставе Юго-Западного пограничного округа.На этой заставе  несколько лет служил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офицер-пограничник Вячеслав Лопатин.старший сын героя-пограничника. Имя  героя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увековечено на мемориале ивановцев-Героев Советского Союза и его родине. Мы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мним,.гордимся.Вечная им слава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.  Нам.молодым.остается только помнить о героях-пограничниках, приумножая их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одвиг, во имя мира на земле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И заканчивая свое сочинение, мне хочется выразить низкий поклон всем. кто стоял,.стоит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на защите Отечества  нашей государственной  границы. 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«НА родной границе наш Российский флаг.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Перейти границу не посмеет враг……»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12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  <a:p>
            <a:pPr marL="13680" indent="-10800">
              <a:spcBef>
                <a:spcPts val="601"/>
              </a:spcBef>
              <a:buClr>
                <a:srgbClr val="7e97a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21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8-01-26T11:35:42Z</dcterms:modified>
  <cp:revision>104</cp:revision>
  <dc:subject/>
  <dc:title>Слайд 1</dc:title>
</cp:coreProperties>
</file>