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8" descr="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2DFCC8ED-D412-44BB-8805-3434FE3CC8C6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v-study.ru/images/pr_prog_konf2017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4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3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68360" y="333360"/>
            <a:ext cx="40687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7b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214200" y="500040"/>
            <a:ext cx="6000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Региональная научно-практическая конференция Ханты-Мансийского автономного округа – Югры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Актуальные вопросы общего и профессионального образования инвалидов и лиц с ограниченными возможностями здоров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6286680" y="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79280" y="533520"/>
          <a:ext cx="8425080" cy="5967360"/>
        </p:xfrm>
        <a:graphic>
          <a:graphicData uri="http://schemas.openxmlformats.org/drawingml/2006/table">
            <a:tbl>
              <a:tblPr/>
              <a:tblGrid>
                <a:gridCol w="430920"/>
                <a:gridCol w="1496520"/>
                <a:gridCol w="95040"/>
                <a:gridCol w="2142360"/>
                <a:gridCol w="95040"/>
                <a:gridCol w="4165200"/>
              </a:tblGrid>
              <a:tr h="487080">
                <a:tc rowSpan="3"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3"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адекватных представлений о собственных возможностях, о насущно необходимом жизнеобеспеч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3"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3"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представлений о собственных возможностях, о насущно необходимом жизнеобеспеч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3"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адекватно оценивать свои возможности и силы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97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обратиться к взрослому за помощью и сформулировать просьбу, описать возникшую проблему в области жизнеобеспе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243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понимать, что можно и чего нельзя в питании, в физической нагрузке, в приёме медицинских препаратов, осуществлении вакцин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243720">
                <a:tc rowSpan="2"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2"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2"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2"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2"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владение   навыками самообслужи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487080">
                <a:tc rowSpan="4"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4"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владение начальными навыками адаптации в динамично изменяющемся и развивающемся ми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4"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навыков адап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выстраивать отношения в учебном коллективе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ние правил поведения в школе, правил поведения школь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нятие и освоение социальной роли обучающего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53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29520" rIns="295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вести в любых проблемных ситуац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520" marR="29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14200" y="333360"/>
          <a:ext cx="8678880" cy="5811840"/>
        </p:xfrm>
        <a:graphic>
          <a:graphicData uri="http://schemas.openxmlformats.org/drawingml/2006/table">
            <a:tbl>
              <a:tblPr/>
              <a:tblGrid>
                <a:gridCol w="390600"/>
                <a:gridCol w="1955880"/>
                <a:gridCol w="1251000"/>
                <a:gridCol w="5081400"/>
              </a:tblGrid>
              <a:tr h="2070720">
                <a:tc rowSpan="5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5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владение социально бытовыми умениями, используемыми в повседневной жи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5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социально-бытовых ум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ость в быту: знание основных социальных объектов (школа, магазин, поликлиника, больница, почта, банк, ЖЭУ и др.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ние техники безопасности при обращение с электроприборами, правил пожарной безопасности,  правил дорожного движения, правил  поведения в транспорте и при общении с незнакомыми людь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67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ние правил поведения в школе, прав и обязанностей школь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67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82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нимание предназначения окружающих в быту предметов и вещ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67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ориентироваться в пространстве школы, распис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170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емление участвовать в повседневной жизни класса, мероприятиях класса и школы, го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533520"/>
          <a:ext cx="8785440" cy="5918040"/>
        </p:xfrm>
        <a:graphic>
          <a:graphicData uri="http://schemas.openxmlformats.org/drawingml/2006/table">
            <a:tbl>
              <a:tblPr/>
              <a:tblGrid>
                <a:gridCol w="287280"/>
                <a:gridCol w="1595520"/>
                <a:gridCol w="2081160"/>
                <a:gridCol w="4821480"/>
              </a:tblGrid>
              <a:tr h="213480">
                <a:tc rowSpan="11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11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ладение навыками коммуникации и принятыми коммуникации и принятыми нормами социального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7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навы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муникации со взросл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ние правил коммун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вести себя с принятыми в обществе правилами и нормами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адекватно реагировать на внешний контроль и оце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инициировать поддерживать коммуникацию с взросл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600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применять адекватные способы поведения в разных ситуац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ладение культурными формами выражения своих чув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обращаться 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щью   в  различных социальных ситу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навыков коммуникации со сверст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инициировать и поддерживать коммуникацию со сверст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накапливать личные впечатления, связанные с явлениями окружающего мира, упорядочивать их во времени и пространст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устанавливать взаимосвязь порядка природного и бытового уклада собственной жизни в семье и в школе, вести себя сообразно этому пониманию (выбрать одежду, спланировать свои занятия в соответствии с сезоном и погод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356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любознательности и наблюдательности задавать вопросы, включаться в совместную со взрослым исследовательскую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50920" y="533520"/>
          <a:ext cx="8640720" cy="6183360"/>
        </p:xfrm>
        <a:graphic>
          <a:graphicData uri="http://schemas.openxmlformats.org/drawingml/2006/table">
            <a:tbl>
              <a:tblPr/>
              <a:tblGrid>
                <a:gridCol w="431640"/>
                <a:gridCol w="1584360"/>
                <a:gridCol w="2664000"/>
                <a:gridCol w="3960720"/>
              </a:tblGrid>
              <a:tr h="2190600">
                <a:tc rowSpan="6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6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к осмыслению социального окружения, своего места в нем, принятие соответствующих возрасту ценностей и социальных роле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представлений о правилах поведения в разных социальных ситуациях и с людьми разного социального статуса, со взрослыми разного возраста и деть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ние правил поведения в разных социальных ситуациях с людьми разного возраста и стату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необходимых ребёнку социальных риту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адекватно использовать принятые социальные ритуа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97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вступить в контакт и общаться в соответствии с возрастом близостью и социальным статусом собесед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ние корректно привлечь к себе в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ние отстраниться от нежелательного конта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267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выразить свои чувства, отказ, недовольство, благодарность, сочувствие, намерение, просьбу, опасение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79280" y="692280"/>
          <a:ext cx="8785440" cy="5608440"/>
        </p:xfrm>
        <a:graphic>
          <a:graphicData uri="http://schemas.openxmlformats.org/drawingml/2006/table">
            <a:tbl>
              <a:tblPr/>
              <a:tblGrid>
                <a:gridCol w="505080"/>
                <a:gridCol w="2158920"/>
                <a:gridCol w="2449440"/>
                <a:gridCol w="3672000"/>
              </a:tblGrid>
              <a:tr h="97380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нятие и освоение социальной  роли обучающегося, формирование и развитие социально значимых мотивов учеб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мотивации учебной деятельности, включая социальные, учебно-познавательные и внешние мотив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 воспринимает обучение, проявляет любознательность и интерес к ново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иентация на положительный образец повед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21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ивное участие в процессе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1217160"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4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навыков сотрудничества со взрослыми и сверстниками в разных социальных ситуациях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навыков сотрудничества со взросл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сотруднич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 взрослыми в разных социальных ситуация, соблюдение в повседневной жизни норм речевого этикета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12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навыков сотрудничества со сверстни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участвовать в коллективной и групповой работе сверстников, с соблюдением в повседневной жизни норм коммуникац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ние учитывать другое мнение в совместной рабо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следовать принятым правил   в обществе правил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00040" y="620640"/>
          <a:ext cx="8464680" cy="5483160"/>
        </p:xfrm>
        <a:graphic>
          <a:graphicData uri="http://schemas.openxmlformats.org/drawingml/2006/table">
            <a:tbl>
              <a:tblPr/>
              <a:tblGrid>
                <a:gridCol w="457200"/>
                <a:gridCol w="1906560"/>
                <a:gridCol w="2287800"/>
                <a:gridCol w="3813120"/>
              </a:tblGrid>
              <a:tr h="7070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эстетических потребностей, ценностей и чув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эстетических потребностей, ценностей и чув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 различать «красивое» и «некрасиво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12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выражать свое мнение в   соответствии с  критериями  «красиво» (эстетично), в отношениях к людям, к результатам труда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56232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этических чувств, доброжелательности и эмоционально-нравственной отзывчивости, понимания и сопереживания чувствам других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этических чувств, доброжелательности и эмоционально-нравственной отзывчивости, понимания и сопереживания чувствам других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понимать ценности нравственных нор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97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соотносить нравственные нормы  с поступками как собственных, так и окружающих люд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19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проявлять доброжелательность в отношении к другим людям, эмоциональную отзывчивость и сопереживание к чувствам родных и близких, одноклассников, к событиям в классе, в стра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50920" y="549360"/>
          <a:ext cx="8137440" cy="5761080"/>
        </p:xfrm>
        <a:graphic>
          <a:graphicData uri="http://schemas.openxmlformats.org/drawingml/2006/table">
            <a:tbl>
              <a:tblPr/>
              <a:tblGrid>
                <a:gridCol w="1199880"/>
                <a:gridCol w="1968840"/>
                <a:gridCol w="1871640"/>
                <a:gridCol w="3097080"/>
              </a:tblGrid>
              <a:tr h="639720"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установки на безопасный, здоровый образ жизни, наличие мотивации к творческому труду, работе на результат, бережному отношению к материальным и духовным ценнос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установки на здоровый и безопасный образ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иентация на здоровый и безопасный образ жизни, соблюдение режима д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стие в физкультурно-оздоровительных мероприят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нятие творческим трудом, спор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255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бережного отношения к материальным и духовным ценнос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явление бережного отношения к результатам своего и чужого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63972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готовности к самостоятельной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опыта реального взаимодействия ребёнка с бытовым окружением, миром природных явлений и вещей, адекватного представления об опасности и безопасности, готовность к самообеспечению на основе тру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екватность бытового поведения с точки зрения опасности / безопасности для себ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ьзование вещей в соответствии с их функциями, принятым порядком и характером сит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149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товность к трудов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857160" y="42876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сновой оценки служит анализ изменений поведения обучающегося в повседневной жизни в различных социальных средах (школьной и семейной). Результаты анализа должны быть представлены в форме удобных и понятных всем членам экспертной группы условных единицах: 0 баллов ― нет фиксируемой динамики; 1 балл ― минимальная динамика; 2 балла ― удовлетворительная динамика; 3 балла ― значительная динам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2000160" y="2357280"/>
            <a:ext cx="45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571680" y="2428920"/>
            <a:ext cx="8286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остижение личностных результатов обеспечив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оответствующим построением коррекционно-развивающей среды, которая включает: внеурочную деятельность, сетевое взаимодействия, социальное партнерство, взаимодействие с общественными организациями, родительской общественностью, ресурсным центро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195640" y="260280"/>
            <a:ext cx="4572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Мониторинг сформиров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личностных результатов  обучаю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95280" y="1063800"/>
          <a:ext cx="8462880" cy="4906800"/>
        </p:xfrm>
        <a:graphic>
          <a:graphicData uri="http://schemas.openxmlformats.org/drawingml/2006/table">
            <a:tbl>
              <a:tblPr/>
              <a:tblGrid>
                <a:gridCol w="3774960"/>
                <a:gridCol w="520920"/>
                <a:gridCol w="520560"/>
                <a:gridCol w="522360"/>
                <a:gridCol w="522360"/>
                <a:gridCol w="520560"/>
                <a:gridCol w="160200"/>
                <a:gridCol w="520920"/>
                <a:gridCol w="700200"/>
                <a:gridCol w="699840"/>
              </a:tblGrid>
              <a:tr h="245880">
                <a:tc rowSpan="3">
                  <a:txBody>
                    <a:bodyPr lIns="34920" rIns="3492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gridSpan="5"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ец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еп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еп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gridSpan="2">
                  <a:txBody>
                    <a:bodyPr lIns="34920" rIns="3492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98100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себя как гражданина России; формирование чувства гордости за свою Родину, российский народ и историю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gridSpan="2"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73656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уважительного отношения к иному мнению, истории и культуре других нар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gridSpan="2"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73656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адекватных представлений о собственных возможностях, о насущно необходимом жизнеобеспеч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gridSpan="2"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73656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владение начальными навыками адаптации в динамично изменяющемся и развивающемся ми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gridSpan="2"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73476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866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владение социально бытовыми умениями, используемыми в повседневной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gridSpan="2"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Картинки по запросу спасибо за внимание картинки"/>
          <p:cNvPicPr/>
          <p:nvPr/>
        </p:nvPicPr>
        <p:blipFill>
          <a:blip r:embed="rId1"/>
          <a:stretch/>
        </p:blipFill>
        <p:spPr>
          <a:xfrm>
            <a:off x="2071800" y="1285920"/>
            <a:ext cx="54291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415080" y="18900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87b9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900000" y="83664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-8 декабря 2017 года в колледже  прошла Региональная научно-практическая конференция Ханты-Мансийского автономного округа – Югры «Актуальные вопросы общего и профессионального образования инвалидов и лиц с ограниченными возможностями здоровья». </a:t>
            </a:r>
            <a:r>
              <a:rPr b="0" lang="fr-FR" sz="2800" spc="-1" strike="noStrike">
                <a:solidFill>
                  <a:srgbClr val="0087b9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900000" y="83664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7b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571680" y="1000080"/>
            <a:ext cx="8072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ференция проводилась совместно Департаментом образования и молодежной политики Ханты-Мансийского автономного округа – Югры и ресурсным центром (базовой профессиональной образовательной организацией, обеспечивающей поддержку региональной системы инклюзивного профессионального образования) БУ «Нижневартовский социально-гуманитарный колледж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285840" y="571680"/>
            <a:ext cx="857232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 рамках Конференции была организована работа по следующим направлени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актуальные вопросы инклюзивного образования инвалидов и лиц с ОВЗ в общеобразовательных организац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рганизация электронного обучения и использование цифровых образовательных ресурсов при инклюзивном обучении инвалидов по программам профессионального и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рганизация инклюзивного профессионального образования инвалидов и лиц с ОВЗ по специальностям педагогического профиля и в сфере музыка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актуальные вопросы разработки и реализации адаптированных образовательн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развитие социокультурной среды образовательной организации, обеспечивающей социальную адаптацию обучающихся инвалидов (в т. ч. в контексте деятельности педагогов-психологов, социальных педагогов, иных специалистов по развитию социокультурной среды).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357120" y="214200"/>
            <a:ext cx="8572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по секциям была организована во второй день конференции. На каждой из секций у преподавателей была возможность представить свой опыт работы с детьми с ОВЗ, а также задать вопросы по прослушанным докладам . Каждая из секций представила свои предложения, которые были внесены в резолюцию конференции, а также определила список докладов, которые будут опубликованы в электронном сборнике конфере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s://ugra-news.ru/sites/default/files/styles/main_photo/public/images/article/2016/12/01/hqdefault.jpg?itok=0r3jzKwi"/>
          <p:cNvPicPr/>
          <p:nvPr/>
        </p:nvPicPr>
        <p:blipFill>
          <a:blip r:embed="rId1"/>
          <a:stretch/>
        </p:blipFill>
        <p:spPr>
          <a:xfrm>
            <a:off x="1428840" y="2428920"/>
            <a:ext cx="657216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5880" y="642960"/>
            <a:ext cx="74232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истема оценки достижения личностных результатов освоения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даптированной основной общеобразовательной программы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бучающимися с умственной отсталостью</a:t>
            </a:r>
            <a:br>
              <a:rPr sz="3200"/>
            </a:br>
            <a:br>
              <a:rPr sz="18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71760" y="4357800"/>
            <a:ext cx="739296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оржанаева Ири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читель -дефектолог КОУ " Нефтеюганская школа -интернат для обучающихся с ограниченными возможностями здоровья" г. Нефтеюган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000080" y="500040"/>
            <a:ext cx="7500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Система оценки достижения возможных результатов освоения адаптированной основной образовательной программы обеспечивает связь между требованиями ФГОС обучающихся с умственной отсталостью (интеллектуальными нарушениями)  и образовательным процессом, реализует комплексный подход к оценке результатов освоения АООП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28800" y="3000240"/>
            <a:ext cx="8072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Личностные результаты освоения АООП включают индивидуально-личностные качества, жизненные компетенции и ценностные установки обучающихся. Характеризуют сформированность у обучающихся мотивации к обучению и познанию, личностные качества, овладение обучающимися социальными компетенциями, необходимыми для становление социальных отношений обучающихся в раз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личных сре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Достижение личностных результатов обеспечивается содержанием отдельных учебных предметов и внеурочной деятельности, овладением доступными видами деятельности, опытом социального взаимодействия.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На основе требований, сформулированных в Стандарте,  нами разработана программа оценки личностных результатов с учетом типологических и индивидуальных особенностей обучающихся.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2200"/>
            </a:b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 Unicode MS"/>
              </a:rPr>
              <a:t>Программа оценки включает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 Unicode MS"/>
              </a:rPr>
              <a:t>:</a:t>
            </a: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 Unicode MS"/>
              </a:rPr>
              <a:t>1)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полный перечень личностных результатов, прописанных в тексте ФГОС, которые выступают в качестве критериев оценки социальной (жизненной) компетенции обучающихся.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2) перечень параметров и индикаторов оценки каждого критерия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3) систему бальной оценки результатов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4) документы, в которых отражаются индивидуальные результаты каждого обучающегося (Дневник комплексного сопровождения);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5) материалы для проведения процедуры оценки личностных и результатов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6) локальные акты Организации, регламентирующие все вопросы проведения оценки результато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2050920" y="40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грамма оценки личностных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0920" y="1062000"/>
          <a:ext cx="8640720" cy="5554800"/>
        </p:xfrm>
        <a:graphic>
          <a:graphicData uri="http://schemas.openxmlformats.org/drawingml/2006/table">
            <a:tbl>
              <a:tblPr/>
              <a:tblGrid>
                <a:gridCol w="647640"/>
                <a:gridCol w="1959120"/>
                <a:gridCol w="1930320"/>
                <a:gridCol w="4103640"/>
              </a:tblGrid>
              <a:tr h="549360"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раметры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ика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601560">
                <a:tc rowSpan="3"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3">
                  <a:txBody>
                    <a:bodyPr lIns="27360" rIns="273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себя как гражданина России; формирование чувства гордости за свою Родину, российский народ и историю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3">
                  <a:txBody>
                    <a:bodyPr lIns="27360" rIns="27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основ гражданской идентич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своей этнической и культурной принадлеж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ние знаменательных для Отечества исторических собы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ет и с уважением относится к Государственным символам Росси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617400">
                <a:tc rowSpan="4"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4">
                  <a:txBody>
                    <a:bodyPr lIns="27360" rIns="273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уважительного отношения к иному мнению, истории и культуре других нар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rowSpan="2">
                  <a:txBody>
                    <a:bodyPr lIns="27360" rIns="27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целостного, социально ориентированного взгляда на 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важительно относится к разнообразию народных традиций, культур, религ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97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выстраивать отношения, общение со сверстниками несмотря на национальную принадлежность, на основе общекультурных принцип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7360" rIns="27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ность уважительного отношения к иному мнению, истории и культуре других нар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ность выслушать иное мнение уважительно относиться к иному мн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93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важительно относится к людям других национальностей, вероисповедания, куль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Sideswipe</cp:lastModifiedBy>
  <dcterms:modified xsi:type="dcterms:W3CDTF">2018-01-26T15:29:12Z</dcterms:modified>
  <cp:revision>43</cp:revision>
  <dc:subject/>
  <dc:title>Blue Work Silhouette</dc:title>
</cp:coreProperties>
</file>