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D00-D37C-4C50-A558-24AC0A02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E11-B2B5-492D-B976-47E1836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F55-B2BD-474B-BC68-7DFDC05C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72A-0E8D-4D51-9D14-5184E901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665-3281-439A-B9E9-BD6B5D78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2A52-DFE5-49BA-8493-0575906A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5250-B33C-46F2-B779-C332B3F1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BB81-E8ED-47A2-B02D-7B459A79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65E9-FC7C-4F6E-9126-2CEA66D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C0DD-858B-4724-BCCD-6DF95917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EFE-6578-476E-B9C9-D7D9C5F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42F-13D6-42C4-A1F5-66DE425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8904-1FBE-4A9F-B005-577181D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FE7-14F3-4EDA-BEDC-A363718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5D14-7410-4602-9F2C-864FDAD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63C-7B06-4197-8017-0D9617F3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E7B-3054-434B-B0F6-FFDB9934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07B7-DCA9-4FAA-B0E5-90C6FB17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AE12-4079-4310-A790-4390890F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1925-CAEF-4967-9BF8-79AC453C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CE2C-6A93-4BDC-B71F-8AC0D83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58FA-73DB-413D-8BAF-73F61B8A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617-F8C0-4027-BD9A-128FA3F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F48D-BA0A-46FC-9BAE-50FAF98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4759-40BA-43B4-AB30-F44D429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5229-CEDF-4EC6-A4B6-EDCB171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BB96-F36A-45BF-81DE-279824C0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FD4A-1C6F-4FA6-AD3A-A5AE7ED8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B0E1-4C63-427A-A5ED-4E3FB2DB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FAA9-AF36-4993-9BA2-A367C735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21A0-DA6E-4921-9E82-D296D80D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8783-7940-45C5-98AA-667F7D9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B1CB-C992-4192-A7CB-DDF01711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BA6-5B12-4A43-B724-4415370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15A5-C76F-4441-89FC-834CC10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F7E5-FEBF-4552-A955-BA6CCA1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D291-2597-4F82-ACB3-2A9BF34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BC64-C5AF-4540-B6FE-6710F6E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EB16-D9B3-4AA8-B3CA-B354638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1F5C-8C05-4662-AD0A-272373E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C0E7-DF3B-4F49-B900-BEA69DBF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A760-0DCF-454C-A97A-51B418EF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7BC8-5F50-455E-8C7C-8C5B1981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E95D5-9E00-4996-876B-B934E2B2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EA6-1F9C-4865-A356-1C9A682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A6E5-BC77-45ED-86CC-796CEC92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5B9AC-9A60-485A-B097-0CE22F04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9C55-05C9-4B66-8049-609FC89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ADAF-F835-4B58-A900-FB7049F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D2EF-FC0E-4296-ACBC-069B363A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E7CA-B30B-4FE5-BCD5-585B1A8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5A28-51A2-46F3-9095-1F1A966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90CF-5417-4430-8F66-E3E3480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D47A-9EB5-41F9-9FC8-7556A34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83FA-DB8A-43B4-9DF3-9AE381C0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B41-B5C8-4F4A-A9CD-42D6DDD8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E48B-8648-4EF9-AC4E-980E683E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5876-A55C-494A-95E2-E239632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B13E-897A-41C4-BAB9-AEF7A762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7569D-7C08-4C14-8B8A-6EA03B3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8F8F-48A1-4FA1-8245-00216CF7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59701-FB40-41B3-A053-D3F925F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8372-D74E-45BC-9FC1-0DC4E8B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0323-BD66-4F52-98A9-B06DA29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9DEC-87AE-4697-AF8A-0790F70E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AD8B-0B5C-42FA-A87D-4D3737AF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4F2-EDD9-4E54-B2D3-19FED6C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3C25-05D5-40AA-9213-F36A916A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5028-CF19-4FE6-883A-652C3FA1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43124-D0AC-4026-A2E7-2EFCEEB6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DDF4-5622-4B0E-87B2-82E272FB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4BA2-A552-4D4E-89E7-3116B29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354D-78C0-4B2B-826F-4E19B5E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E9FA9-5D2F-47BA-909A-B513F6C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124F-A277-478D-91D4-1D3CD766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484E-579C-4FF5-AD9C-49136F12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2E3CF-798A-46F3-9BAE-912E542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C52-183F-4AA8-A313-4CF74DC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2749-8A86-4F67-9ADF-95D0EC89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41D7-5A76-403A-B996-04A3016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3491-AA45-4912-8F71-059F75EA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9BF04-D387-455B-BD49-31E34480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EE585-5B77-4AD0-A783-DF946B44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D48-204F-4065-9076-F7470B0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E823-1A77-4CB3-902B-109880DE331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A8A4-5CD4-4998-A1C6-A9F9D821DC3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1CF3-8D5F-40E2-880E-34ACE7636FE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C15-CAF2-4E43-99B1-B3580C8B5E4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5BE9-4EEB-48A6-A6F8-969CFF9BC88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BA8-192F-4A86-BDB3-66DB33707BE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BAE-AA9A-4DF6-8304-7BCC8B50B46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hyperlink" Target="http://videouroki.net/filecom.php?fileid=98676255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Present Tenses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105160" y="4571640"/>
            <a:ext cx="388620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ne by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vetlana Shmal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ary school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№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urganinsk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rasnodar reg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8960" y="1676520"/>
            <a:ext cx="6476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 do it every d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 have already done i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 am doing it now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Рисунок 1" descr=""/>
          <p:cNvPicPr/>
          <p:nvPr/>
        </p:nvPicPr>
        <p:blipFill>
          <a:blip r:embed="rId1"/>
          <a:stretch/>
        </p:blipFill>
        <p:spPr>
          <a:xfrm>
            <a:off x="6010200" y="838080"/>
            <a:ext cx="29815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Simple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220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ld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514600" y="3352680"/>
            <a:ext cx="64008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y sister always (borrow) my cloth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rain to London (leave) at 12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(try) to meet each other as much as we ca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ter (freeze) at 0’ 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4343400" y="1523880"/>
            <a:ext cx="3276720" cy="15242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, V+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Progressiv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905120" y="3276360"/>
            <a:ext cx="67816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rek (watch) a new DVD n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ina (become) more and more powerfu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(have) dinner at the mo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(move) to Japan this summ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upils (writing) the test n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4724280" y="1295280"/>
            <a:ext cx="3505320" cy="18288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        + V-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1" descr=""/>
          <p:cNvPicPr/>
          <p:nvPr/>
        </p:nvPicPr>
        <p:blipFill>
          <a:blip r:embed="rId1"/>
          <a:stretch/>
        </p:blipFill>
        <p:spPr>
          <a:xfrm>
            <a:off x="1028880" y="5715000"/>
            <a:ext cx="17524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Perfec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1371240"/>
            <a:ext cx="2057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rea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ye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wee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5640" y="2971800"/>
            <a:ext cx="67057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e just (finish) cooking lunch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ate (have) a new haircut tod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(take) my digital camera with 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d (go) not to the supermarket y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never (be) to this tennis court bef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4343400" y="1219320"/>
            <a:ext cx="3733920" cy="19047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ent Perfect Progressiv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day lo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37920" y="3123720"/>
            <a:ext cx="6248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e (train) at the gym all mo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(water) the garden since 5 p.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y cousin (read) the magazine the whole d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(look) forward to this day for ag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4267080" y="1219320"/>
            <a:ext cx="3733920" cy="18288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+ V-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1066680" y="5572080"/>
            <a:ext cx="17416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ad, match &amp; describ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7720" y="121896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 has been working for this company since 1987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are moving to Austria this summ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weather is getting warmer and warm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un rises in the Ea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m has been to the market this mo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bus to Oxford goes every Sunday at 7 a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go to school on foo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29920" indent="-457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81120" y="12193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ly completed a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manent stat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t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ing or developing situ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ws of na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ons started in the past and continuing in the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xed arrangements in the near fut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dd –s or –es to the verbs where necessary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usually visit __his grandparents at weeken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go__ on holiday in summ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 hate__ hanging out in the mal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ilm finish__ at 10 p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body look__ smart at the par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mes and I get__ along very wel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e always get__ on my nerves. She’s annoy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 one like__ our new classma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3429000" y="160020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2680" y="274320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581280" y="388620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3352680" y="502920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2971800" y="5562720"/>
            <a:ext cx="457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327672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2286000" y="220968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429000" y="4495680"/>
            <a:ext cx="457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Choose the correct auxiliary verb HAVE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or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HAS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  …   been to the cinema this wee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  …   eaten the cak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ke   …   wasted all his mone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   …  made the sandwiches for the picni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oy   …   hurt his han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mother   … paid the household bills toda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  …  already seen the fil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WordArt 4"/>
          <p:cNvSpPr txBox="1"/>
          <p:nvPr/>
        </p:nvSpPr>
        <p:spPr>
          <a:xfrm>
            <a:off x="2133720" y="3809880"/>
            <a:ext cx="761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1295280" y="205740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WordArt 6"/>
          <p:cNvSpPr txBox="1"/>
          <p:nvPr/>
        </p:nvSpPr>
        <p:spPr>
          <a:xfrm>
            <a:off x="3200400" y="556272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7"/>
          <p:cNvSpPr txBox="1"/>
          <p:nvPr/>
        </p:nvSpPr>
        <p:spPr>
          <a:xfrm>
            <a:off x="1905120" y="266688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WordArt 8"/>
          <p:cNvSpPr txBox="1"/>
          <p:nvPr/>
        </p:nvSpPr>
        <p:spPr>
          <a:xfrm>
            <a:off x="2133720" y="3276720"/>
            <a:ext cx="533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WordArt 9"/>
          <p:cNvSpPr txBox="1"/>
          <p:nvPr/>
        </p:nvSpPr>
        <p:spPr>
          <a:xfrm>
            <a:off x="2666880" y="441972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10"/>
          <p:cNvSpPr txBox="1"/>
          <p:nvPr/>
        </p:nvSpPr>
        <p:spPr>
          <a:xfrm>
            <a:off x="3124080" y="49528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ank you for your attentio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638320" y="4571640"/>
            <a:ext cx="329580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ood luck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8" descr="flgu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01720" y="2703600"/>
            <a:ext cx="3124440" cy="23050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5"/>
          <p:cNvSpPr/>
          <p:nvPr/>
        </p:nvSpPr>
        <p:spPr>
          <a:xfrm>
            <a:off x="14479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проверки он будет опубликован в выбранном Вами разделе на странице</a:t>
            </a:r>
            <a:br>
              <a:rPr sz="1800"/>
            </a:b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http://videouroki.net/filecom.php?fileid=98676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1-26T09:21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