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C32F-78FA-4319-AAD7-A786A43A3D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200C-D457-42F1-A15F-C7BB728EBEC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9E62-20FD-42CF-B02D-6565796C6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4061-1FB4-43A0-B17C-38A0CC28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5813-859B-4DBC-A41D-8DA3073FA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1ACC-2D0E-4E87-913E-2F0CF4375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C38E-1CA1-4962-BB66-BC33FFCE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B461-C492-4368-8D51-E3173C74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291E-E825-4DA7-A16A-380F5645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E3C5-E961-4F59-B294-7255C557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2ABA-8B7E-4FD1-9BE3-47FA51CF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DD89-B904-4971-8831-5134CC51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F230-FC14-43B6-A65C-C3DB6F6C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76A1-A3D8-46A0-BBA2-BB0A2444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1F34-0027-4356-8A37-6610CF18F29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428760"/>
            <a:ext cx="7772400" cy="3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928760"/>
            <a:ext cx="64008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К 80-летию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со дня открыти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Рисунок 5" descr="гимназия4 заставка.bmp"/>
          <p:cNvPicPr/>
          <p:nvPr/>
        </p:nvPicPr>
        <p:blipFill>
          <a:blip r:embed="rId1"/>
          <a:stretch/>
        </p:blipFill>
        <p:spPr>
          <a:xfrm>
            <a:off x="714240" y="285840"/>
            <a:ext cx="785844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Школа в годы Великой Отечественной войны (1941-1945гг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13840" y="1428840"/>
            <a:ext cx="864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Осенью 1941 года средняя школа№4 будет реорганизована в начальную  школу с оставлением в ней 10 начальных классов, а старшие классы  с  5-го  по 9-й переводились в среднюю школу №9 . В  1942/43 учебном году из 10 школ города своё здание было оставлено лишь у школы №6, т. к.  лучшие здания были переданы воинским частям. На протяжении войны школе  №4 приходилось работать в неприспособленном для этого помещении.  В Отчёте о работе школ г. Йошкар –Олы в 1943/44 учебном году о  начальной школе №4 было  отмечено: « Начальная школа №4, помещённая в здании Ж\Д клуба, начала работу лишь с 15-го октября, а с 12 января закрылась снова, т.к. эвакопункт помещения не освободил, а совместное существование школы с эвакопунктом было неприемлемо ( начались инфекционные заболевания учеников). Через 35 дней школа №4  возобновила занятия в другом помещении этого же дома, но жилищные условия её работы до конца были неудовлетворительны». По итогам 1943/44 учебного года из 119 учащихся 1-3 классов переведены-96. оставлены на 2-й год-11, испытание на осень – 12 человек.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Школа в годы Великой Отечественной войны (1941-1945 гг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Содержимое 4" descr="001.jpg"/>
          <p:cNvPicPr/>
          <p:nvPr/>
        </p:nvPicPr>
        <p:blipFill>
          <a:blip r:embed="rId1"/>
          <a:stretch/>
        </p:blipFill>
        <p:spPr>
          <a:xfrm>
            <a:off x="285840" y="1143000"/>
            <a:ext cx="4786200" cy="4714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857480" y="857160"/>
            <a:ext cx="414324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  годы войны были приняты важные правительственные решения о школьном образовании: 1943г.- об обучении детей с 7-летнего возраста. 1944г.- о введении 5-балльной системы оценок успеваемости и поведения учащихся ( цифрами вместо словесной оценки с 1935 г.) ; об установлении выпускных экзаменов и о награждении золотыми и серебряными медалями отличившихся учащихся средних школ и др. В течении 1944-45 учебного года в ряде школ города Йошкар- Олы была проведена реэвакуация. 23 мая 1945г.  средняя мужская школа  №7 будет реорганизована в начальную смешанную школу №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а фотографии  послевоенное здание  школы №4 , которое она будет занимать с 1945 по 1965 гг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Школа №4 в 1945 -1965 гг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Содержимое 4" descr="Бахматова 001.jpg"/>
          <p:cNvPicPr/>
          <p:nvPr/>
        </p:nvPicPr>
        <p:blipFill>
          <a:blip r:embed="rId1"/>
          <a:stretch/>
        </p:blipFill>
        <p:spPr>
          <a:xfrm>
            <a:off x="142920" y="1285920"/>
            <a:ext cx="4786200" cy="5214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5072040" y="1642680"/>
            <a:ext cx="36432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ахматова Анна Ивановна – первый директор начальной смешанной школы. Занимала эту должность с 1945 по 1947 гг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Школа №4 в 1945-1965 гг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" name="Содержимое 4" descr="Учителя ст 001 (2).jpg"/>
          <p:cNvPicPr/>
          <p:nvPr/>
        </p:nvPicPr>
        <p:blipFill>
          <a:blip r:embed="rId1"/>
          <a:stretch/>
        </p:blipFill>
        <p:spPr>
          <a:xfrm>
            <a:off x="428760" y="1357200"/>
            <a:ext cx="4786200" cy="4714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5072040" y="1285920"/>
            <a:ext cx="3857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В 1947 году  начальная смешанная школа преобразована  в семилетнюю школу №4. Директором назначена Кельбедина Капиталина Михайловна, бывший Нарком Просвещения МАССР.  ( на фото в 1-м ряду в центре 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Школа в 1945-1965 гг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Содержимое 4" descr="Коллеги 001.jpg"/>
          <p:cNvPicPr/>
          <p:nvPr/>
        </p:nvPicPr>
        <p:blipFill>
          <a:blip r:embed="rId1"/>
          <a:stretch/>
        </p:blipFill>
        <p:spPr>
          <a:xfrm>
            <a:off x="214200" y="1500120"/>
            <a:ext cx="4643640" cy="4429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5071680" y="1499760"/>
            <a:ext cx="3786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В 1951 году  Семилетняя школа №4  реорганизована в восьмилетнюю.  Главный принцип  8-летки- сочетание изучения основ наук, политехническое обучение и трудовое  воспитание. Директором будет назначен фронтовик, кавалер 2-х орденов Славы Кокшин   А.Т.  На фото в центре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Школа №4 в 1945-1965 гг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Содержимое 4" descr="Изображение 011.jpg"/>
          <p:cNvPicPr/>
          <p:nvPr/>
        </p:nvPicPr>
        <p:blipFill>
          <a:blip r:embed="rId1"/>
          <a:stretch/>
        </p:blipFill>
        <p:spPr>
          <a:xfrm>
            <a:off x="285840" y="1357200"/>
            <a:ext cx="3714840" cy="50007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286160" y="1285920"/>
            <a:ext cx="45007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 1958 г.  Директором Восьмилетней школы будет утверждён  фронтовик  и опытный педагог Александр Иванович Салапин,  проработавший до приезда в Йошкар-Олу 10 лет в школах Башкирской АССР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На фото А.И.Салапин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Школа в 1965-1972 гг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1" name="Содержимое 4" descr="Изображение 008.jpg"/>
          <p:cNvPicPr/>
          <p:nvPr/>
        </p:nvPicPr>
        <p:blipFill>
          <a:blip r:embed="rId1"/>
          <a:stretch/>
        </p:blipFill>
        <p:spPr>
          <a:xfrm>
            <a:off x="214200" y="1357200"/>
            <a:ext cx="4857840" cy="4357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5214600" y="856800"/>
            <a:ext cx="3786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 сентября 1965г.  для учащихся школы №4 стал двойным праздником – началом учебного года и первым днём занятий в новом современном  здании по улице Эшпая,156.  С началом учебного года поздравил собравшихся первый секретарь Марийского обкома КПСС П.В.Ураев.  В 1966 г. школа стала средней с количеством учащихся более 1 тыс. человек и 32 классами. К  1970 году в школе обучалось 1670 учащихся в 47 классах. С ними работали 70 учителей. С 1972 по 1981 гг. работал организатором по воспитательной работе.  На фото А.И.Салапин  с  первым выпуском  10 кл. 1968г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Школа в 1972-1993 гг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14200" y="1143000"/>
            <a:ext cx="87868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21 августа 1972 г. директором  СОШ№4 была  назначена Блинова Маргарита Васильевна. По специальности - учитель истории. До  своего назначения на эту должность имела 6 лет педстажа и 11 лет комсомольско-партийной работы.  Предстояла большая работа по реализации июньского постановления ЦК КПСС и Совета Министров «О завершении перехода  к всеобщему Среднему образованию молодёжи и дальнейшему развитию общеобразовательной школы». 1972 год был годом решительной перестройки работы школы.  Предстояло перейти к обучению по новым программам и учебникам. Из 17 предметов ,изучаемых в  4-10 классах, полностью изменилась программа 12 предметов. В 1972 г. Предстоял полный переход на кабинетную систему работы. Школьные кабинеты пополнились оборудованием, учебно-наглядными пособиями.  В 1988 г. Блиновой присвоено почётное звание «Заслуженный  учитель школы Марийской АССР.  В 1993-95 гг.- заместитель директора по научно-экспериментальной работе.  Маргарита Васильевна стояла у истоков разработки концепции Школы-гимназии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Директор школы М.В.Блинова ( 1972-1993г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Содержимое 7" descr="33.jpg"/>
          <p:cNvPicPr/>
          <p:nvPr/>
        </p:nvPicPr>
        <p:blipFill>
          <a:blip r:embed="rId1"/>
          <a:stretch/>
        </p:blipFill>
        <p:spPr>
          <a:xfrm>
            <a:off x="214200" y="1857240"/>
            <a:ext cx="4324320" cy="3643560"/>
          </a:xfrm>
          <a:prstGeom prst="rect">
            <a:avLst/>
          </a:prstGeom>
          <a:ln w="0">
            <a:noFill/>
          </a:ln>
        </p:spPr>
      </p:pic>
      <p:pic>
        <p:nvPicPr>
          <p:cNvPr id="97" name="Содержимое 8" descr="10.jpg"/>
          <p:cNvPicPr/>
          <p:nvPr/>
        </p:nvPicPr>
        <p:blipFill>
          <a:blip r:embed="rId2"/>
          <a:stretch/>
        </p:blipFill>
        <p:spPr>
          <a:xfrm>
            <a:off x="4714920" y="928800"/>
            <a:ext cx="421488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993г. Время перемен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9" name="Содержимое 4" descr="урусова л и.jpg"/>
          <p:cNvPicPr/>
          <p:nvPr/>
        </p:nvPicPr>
        <p:blipFill>
          <a:blip r:embed="rId1"/>
          <a:stretch/>
        </p:blipFill>
        <p:spPr>
          <a:xfrm>
            <a:off x="214200" y="1714680"/>
            <a:ext cx="4643640" cy="39290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5000760" y="1428480"/>
            <a:ext cx="400032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1975 г. Л.И.Урусова начала работать в школе №4.  Отлично изучила работу школы изнутри, работая  старшей пионервожатой, организатором внеклассной работы, классным руководителем. С 1993 г. возглавила работу  школы №4.  Осуществила переход школы на новый статус: школы-гимназии им А.С.Пушкина. В 1998 г. было завершено строительство пристроя к школе,  в котором  разместились начальная школа, библиотека, военно-спортивный комплекс и др. необходимые объекты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Calibri"/>
              </a:rPr>
              <a:t>1936 – 2016 гг.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Calibri"/>
              </a:rPr>
              <a:t>В этом году  Гимназии №4 исполняется 80 лет. Для истории это  всего лишь миг, а для многих поколений выпускников, ветеранов труда и нынешних учителей это незабываемое событие, которое дарит воспоминания и открывает новые страницы творческой деятельности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Calibri"/>
              </a:rPr>
              <a:t>Желаем всем здоровья, благополучия, новых творческих свершений!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Calibri"/>
              </a:rPr>
              <a:t>Проследим вместе путь школы через года в наш день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Гимназия №4 им А.С.Пушкина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Содержимое 4" descr="фестиваль сказ 001.jpg"/>
          <p:cNvPicPr/>
          <p:nvPr/>
        </p:nvPicPr>
        <p:blipFill>
          <a:blip r:embed="rId1"/>
          <a:stretch/>
        </p:blipFill>
        <p:spPr>
          <a:xfrm>
            <a:off x="214200" y="1714680"/>
            <a:ext cx="4714920" cy="4071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5071680" y="2571480"/>
            <a:ext cx="361476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 1999г. Школе присвоили статус гимназии, открылись профильные классы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Гимназия №4 им А.С.Пушкин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5" name="Содержимое 4" descr="коростелёв 001.jpg"/>
          <p:cNvPicPr/>
          <p:nvPr/>
        </p:nvPicPr>
        <p:blipFill>
          <a:blip r:embed="rId1"/>
          <a:stretch/>
        </p:blipFill>
        <p:spPr>
          <a:xfrm>
            <a:off x="285840" y="1714680"/>
            <a:ext cx="4500360" cy="37144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Из Гимназии №4 берёт начало кадетское движение РМЭ. 1 сентября 2000г. В гимназии появился первый  в республике кадетский корпус им генерала от кавалерии А.А.Брусилова.  Организатор-подполковник запаса  А. А.Коростелёв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14360" y="5000760"/>
            <a:ext cx="45003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Посвящение в кадеты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Рисунок 4" descr="Посвящение 001.jpg"/>
          <p:cNvPicPr/>
          <p:nvPr/>
        </p:nvPicPr>
        <p:blipFill>
          <a:blip r:embed="rId1"/>
          <a:stretch/>
        </p:blipFill>
        <p:spPr>
          <a:xfrm>
            <a:off x="785880" y="357120"/>
            <a:ext cx="72864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1" descr="Пед коллект-13г 001.jpg"/>
          <p:cNvPicPr/>
          <p:nvPr/>
        </p:nvPicPr>
        <p:blipFill>
          <a:blip r:embed="rId1"/>
          <a:stretch/>
        </p:blipFill>
        <p:spPr>
          <a:xfrm>
            <a:off x="428760" y="214200"/>
            <a:ext cx="84294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По данным Государственного архива РМЭ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001.jpg" descr="C:\Users\Макс\Desktop\Desktop\001.jpg"/>
          <p:cNvPicPr/>
          <p:nvPr/>
        </p:nvPicPr>
        <p:blipFill>
          <a:blip r:embed="rId1"/>
          <a:stretch/>
        </p:blipFill>
        <p:spPr>
          <a:xfrm>
            <a:off x="641520" y="1600200"/>
            <a:ext cx="3670200" cy="4525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В списке начальных, неполных средних и средних школ по г. Йошкар-Оле на начало 1936-1937 учебного года значится неполная средняя школа №4, находящаяся по адресу: Йошкар-Ола, Больничная площадь; с количеством учащихся – 793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Школа в предвоенный период (1936-1941гг.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Содержимое 7" descr="olacity_img798.jpg"/>
          <p:cNvPicPr/>
          <p:nvPr/>
        </p:nvPicPr>
        <p:blipFill>
          <a:blip r:embed="rId1"/>
          <a:stretch/>
        </p:blipFill>
        <p:spPr>
          <a:xfrm>
            <a:off x="214200" y="2000160"/>
            <a:ext cx="4500720" cy="3357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786200" y="1571760"/>
            <a:ext cx="413856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 1936 г.неполная средняя школа №4 (НСШ №4) являлась общеобразовательной в составе 7 классов, дававшей неполное среднее образование. Поступали в  НСШ №4 с 8-летнего возраста. Окончившие НСШ №4 имели право преимущественного поступления в техникумы. В 1938 г. директором  НСШ №4 был назначен   Пётр Алексеевич Нестеров, работавший до этого учителем  городской школы №1. НСШ №4 сыграла большую роль в повышении грамотности и получении молодёжью Йошкар-Олы высокого  по тем временам образования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а фотографии типичное  здание  одной из школ города 30-х гг.  ХХ века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Школа в предвоенный период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(1936 – 194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714560" y="1599840"/>
            <a:ext cx="41432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В 1940/41 учебном году НСШ №4 преобразована в среднюю школу№4.  16 апреля 1941г. директором  утверждён  П.А.Нестеров.  Количество классов-33( с 1 по 8-й) ;количество учащихся – 895. На фото печать школы с девизом: «За грамотность и культуру»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Содержимое 14" descr="печать 001.jpg"/>
          <p:cNvPicPr/>
          <p:nvPr/>
        </p:nvPicPr>
        <p:blipFill>
          <a:blip r:embed="rId1"/>
          <a:stretch/>
        </p:blipFill>
        <p:spPr>
          <a:xfrm>
            <a:off x="357120" y="1714680"/>
            <a:ext cx="42102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83725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900" spc="-1" strike="noStrike">
                <a:solidFill>
                  <a:srgbClr val="ffffff"/>
                </a:solidFill>
                <a:latin typeface="Calibri"/>
              </a:rPr>
              <a:t>Деятельность средней школы №4 в 1940/41 учебном году ( успеваемость).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Содержимое 4" descr="Максик и Истрия школы№4 100.JPG"/>
          <p:cNvPicPr/>
          <p:nvPr/>
        </p:nvPicPr>
        <p:blipFill>
          <a:blip r:embed="rId1"/>
          <a:stretch/>
        </p:blipFill>
        <p:spPr>
          <a:xfrm>
            <a:off x="214200" y="1428840"/>
            <a:ext cx="4143600" cy="5072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500720" y="1071720"/>
            <a:ext cx="43574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Работала школа в две смены. Годовая успеваемость  составила 83,7%. Отличников учёбы в младших кл.– 62, а в старших  кл. – 5. Ударников в младших кл.-115, в старших – 50. Учебные программы были  выполнены по всем классам и дисциплинам. Оставлены на 2-й год: 1 смена -19 чел., 2 смена – 29 чел., Имели испытание на осень: 1 смена – 31 чел., 2 –я смена – 57 человек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Деятельность школы №4 в 1940/41 учебном году ( учителя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143320" y="1428480"/>
            <a:ext cx="3786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В этот период в школе работали : Бахматова, Карасёва, Кондратьева, Кузнецова,  Кузьминых, Куторов, Колотова,  Никитская,  Смехова,  Селиванова, Смирнова,  Шерстнёва,  Щербатова,Черкасова, Белов,  Яндулова и др. на фото А.И.Бахматова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Содержимое 8" descr="Учителя ст 001 (2).jpg"/>
          <p:cNvPicPr/>
          <p:nvPr/>
        </p:nvPicPr>
        <p:blipFill>
          <a:blip r:embed="rId1"/>
          <a:stretch/>
        </p:blipFill>
        <p:spPr>
          <a:xfrm>
            <a:off x="357120" y="1500120"/>
            <a:ext cx="45720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Деятельность школы №4 в 1940/41 учебном году 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42920" y="1214280"/>
            <a:ext cx="87868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В школе проводилась работа по следующим направлениям: 1) Всеобуч – контроль за тем, чтобы все дети школьного возраста посещали школу. 2) Методическая работа  в младших  классах включала проведение открытых уроков, чтение «Учительской газеты»,журнала «Начальная школа». В старших классах – посещение уроков завучем , анализ проведения урока, проводился разбор методических статей в журнале «Советская педагогика». 3) Система преподавания по предметам; 4) Воспитательная работа; 5) Соцсоревнование между  школами №4 и №8; 6) Работа с кадрами заключалась в изучении Краткого  курса истории ВКП(б) тов. И.В.Сталина. 7) Проведение педсоветов; 8) Ученические организации. В школе  было 533 пионеров, комсомольцев – 22 человека. 9) Антирелигиозная работа: учителя естествознания должны были на уроках проводить антирелигиозную пропаганду. При школе существовала ячейка «Союза Воинствующих Безбожников» (СВБ) из 15 человек и  кружок «Воинствующих безбожников» из 24 человек. 10) Физкультурная работа:  всего охвачено работой оборонных кружков 630 человек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Последний мирный 1940/41 учебный год станет первым и единственным годом  жизни школы в статусе средней.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Школа в годы Великой Отечественной войны (1941- 1945 гг.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Содержимое 4" descr="image5.jpeg"/>
          <p:cNvPicPr/>
          <p:nvPr/>
        </p:nvPicPr>
        <p:blipFill>
          <a:blip r:embed="rId1"/>
          <a:stretch/>
        </p:blipFill>
        <p:spPr>
          <a:xfrm>
            <a:off x="214200" y="1571760"/>
            <a:ext cx="4500720" cy="42145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4928760" y="1285560"/>
            <a:ext cx="40006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3 сентября 1941г.,  в условиях начавшейся войны , Исполком Йошкар – Олинского Городского Совета депутатов трудящихся  утверждает состав школьной сети по городу. Исходя из имеющегося контингента учащихся (4836 чел)  в городе должны продолжать работать 8 школ вместо 10  бывших перед войной ( начальных две - №1 и №3; НСШ одну -№2; средних пять- №№ 4,6,7, 9, 10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9T14:12:11Z</dcterms:created>
  <dc:creator>Макс</dc:creator>
  <dc:description/>
  <dc:language>en-US</dc:language>
  <cp:lastModifiedBy>Макс</cp:lastModifiedBy>
  <dcterms:modified xsi:type="dcterms:W3CDTF">2018-01-25T21:52:02Z</dcterms:modified>
  <cp:revision>160</cp:revision>
  <dc:subject/>
  <dc:title>МБОУ «Гимназия №4 им А.С.Пушкина»</dc:title>
</cp:coreProperties>
</file>