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D73-D5F5-490C-92D0-FE400949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E78-CFB1-4638-A462-3B45A321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ED4-8841-4930-A07E-DD4ED6B3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110-B19D-4D7D-AC1F-30E3B5A9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8E7-908A-4F4E-A281-AB02C93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2F5-E78A-44ED-8172-BD932BB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F3A-5207-4E06-B57A-3BC537F8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1F4-39CC-482F-8800-E20904BD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C35-89EB-4A70-A808-3B54F1EE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2FF-0C84-4128-8C97-F94EACF6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456-BE2F-4A76-A81D-36CA3EB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720-76E9-4DD0-9A64-4C7A066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B2A9-1AF1-482F-82F4-7DD6BADC1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072;&#1074;&#1086;&#1089;&#1083;&#1072;&#1074;&#1080;&#1077;" TargetMode="External"/><Relationship Id="rId2" Type="http://schemas.openxmlformats.org/officeDocument/2006/relationships/hyperlink" Target="https://ru.wikipedia.org/wiki/&#1048;&#1082;&#1086;&#1085;&#1072;" TargetMode="External"/><Relationship Id="rId3" Type="http://schemas.openxmlformats.org/officeDocument/2006/relationships/hyperlink" Target="https://ru.wikipedia.org/wiki/&#1041;&#1086;&#1075;&#1086;&#1088;&#1086;&#1076;&#1080;&#1094;&#1072;" TargetMode="External"/><Relationship Id="rId4" Type="http://schemas.openxmlformats.org/officeDocument/2006/relationships/hyperlink" Target="https://ru.wikipedia.org/wiki/13_&#1072;&#1074;&#1075;&#1091;&#1089;&#1090;&#1072;" TargetMode="External"/><Relationship Id="rId5" Type="http://schemas.openxmlformats.org/officeDocument/2006/relationships/hyperlink" Target="https://ru.wikipedia.org/wiki/&#1070;&#1083;&#1080;&#1072;&#1085;&#1089;&#1082;&#1080;&#1081;_&#1082;&#1072;&#1083;&#1077;&#1085;&#1076;&#1072;&#1088;&#1100;" TargetMode="External"/><Relationship Id="rId6" Type="http://schemas.openxmlformats.org/officeDocument/2006/relationships/hyperlink" Target="https://ru.wikipedia.org/wiki/&#1042;&#1086;&#1083;&#1086;&#1075;&#1076;&#1072;" TargetMode="External"/><Relationship Id="rId7" Type="http://schemas.openxmlformats.org/officeDocument/2006/relationships/hyperlink" Target="https://ru.wikipedia.org/wiki/&#1058;&#1086;&#1096;&#1085;&#1103;_(&#1088;&#1077;&#1082;&#1072;)" TargetMode="External"/><Relationship Id="rId8" Type="http://schemas.openxmlformats.org/officeDocument/2006/relationships/hyperlink" Target="https://ru.wikipedia.org/wiki/&#1050;&#1072;&#1076;&#1085;&#1080;&#1082;&#1086;&#1074;&#1089;&#1082;&#1080;&#1081;_&#1091;&#1077;&#1079;&#1076;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727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к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6920" y="2491920"/>
            <a:ext cx="77058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дготовила Тыцкая 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re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ко́на — в христианстве (главным образом, в православии, католицизме и древневосточных церквях) священное изображение лиц или событий библейской или церковной ис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мистрельная икона Божей Мат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icon-Umiagchenie-zlykh-serdetc-04"/>
          <p:cNvPicPr/>
          <p:nvPr/>
        </p:nvPicPr>
        <p:blipFill>
          <a:blip r:embed="rId1"/>
          <a:stretch/>
        </p:blipFill>
        <p:spPr>
          <a:xfrm>
            <a:off x="2556000" y="2060640"/>
            <a:ext cx="3070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920" y="25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истре́льная ико́на Бо́жией Ма́те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очитаемая          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авославной церк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к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огород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азднование иконе    совершается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3 авгу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по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юлианскому календар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образ иконы происходит из Тошенской Иоанно-Богословской церкви в окрестностях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Волог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на берегу реки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Тош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 преданию, икона была обретена крестьянином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Кадниковского уез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нашёл её на колокольне церкви, где по ней ходили, принимая за доску. Особенно икона прославилась в 1830 году, когда в Вологде свирепствовала холера. После 1917 года икона исчезла из Иоанно-Богословской церкви, и местонахождение её неизвестно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[1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619280" y="-12600"/>
            <a:ext cx="5538600" cy="687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занская икона Божей Мат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3T09:44:11Z</dcterms:created>
  <dc:creator>1234</dc:creator>
  <dc:description/>
  <dc:language>en-US</dc:language>
  <cp:lastModifiedBy>1234</cp:lastModifiedBy>
  <dcterms:modified xsi:type="dcterms:W3CDTF">2018-01-13T14:08:03Z</dcterms:modified>
  <cp:revision>7</cp:revision>
  <dc:subject/>
  <dc:title>Слайд 1</dc:title>
</cp:coreProperties>
</file>