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D81-18F9-4C89-8119-951EA0A4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263-5EA1-4199-A597-57E0D4A4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59C-35BA-404A-AB5A-7D4AFB2D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047-0E33-4910-8041-CA80DDA2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9B7-7B62-44E2-839F-D29ABF67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CA4-2F7C-408C-B397-1EA01B7E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9C0-2B21-471D-9CDE-0A7E9469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7B3-65A0-454C-A77E-F53FE670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CE3-1740-44A6-B2C7-044692B2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1AC-4C51-4D41-B3C3-3031C83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5B2-B56F-4A5A-AAE3-90AEAC53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6F9-5DA6-4AC3-8B2D-85310662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DCE1-2BC7-4B50-A242-6CDFF7933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90320" y="0"/>
            <a:ext cx="6224760" cy="110160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общеобразовательное учреждение Талицкая средняя общеобразовательная школа Буйского муниципального района Костромской области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4" descr=""/>
          <p:cNvPicPr/>
          <p:nvPr/>
        </p:nvPicPr>
        <p:blipFill>
          <a:blip r:embed="rId1"/>
          <a:stretch/>
        </p:blipFill>
        <p:spPr>
          <a:xfrm>
            <a:off x="622440" y="1096920"/>
            <a:ext cx="8003880" cy="569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Директор\Desktop\Конкурс по конструировании\ФОТО\SDC16459.JPG"/>
          <p:cNvPicPr/>
          <p:nvPr/>
        </p:nvPicPr>
        <p:blipFill>
          <a:blip r:embed="rId2"/>
          <a:stretch/>
        </p:blipFill>
        <p:spPr>
          <a:xfrm>
            <a:off x="1135080" y="423864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2610000" y="-152280"/>
            <a:ext cx="5119560" cy="98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39720" y="1769760"/>
            <a:ext cx="7810560" cy="476244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построить дом, с пчёлками сдружиться И тогда они медком смогут поделить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лашу пожить козу, курочек, лошадку И, конечно, посажу овощную гряд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Директор\Desktop\Конкурс по конструировании\ФОТО\SDC16488.JPG"/>
          <p:cNvPicPr/>
          <p:nvPr/>
        </p:nvPicPr>
        <p:blipFill>
          <a:blip r:embed="rId2"/>
          <a:stretch/>
        </p:blipFill>
        <p:spPr>
          <a:xfrm>
            <a:off x="5288040" y="816120"/>
            <a:ext cx="3084480" cy="231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Директор\Desktop\Конкурс по конструировании\ФОТО\SDC16490.JPG"/>
          <p:cNvPicPr/>
          <p:nvPr/>
        </p:nvPicPr>
        <p:blipFill>
          <a:blip r:embed="rId3"/>
          <a:stretch/>
        </p:blipFill>
        <p:spPr>
          <a:xfrm>
            <a:off x="3205080" y="3205080"/>
            <a:ext cx="3117960" cy="233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Директор\Desktop\Конкурс по конструировании\ФОТО\SDC16502.JPG"/>
          <p:cNvPicPr/>
          <p:nvPr/>
        </p:nvPicPr>
        <p:blipFill>
          <a:blip r:embed="rId4"/>
          <a:stretch/>
        </p:blipFill>
        <p:spPr>
          <a:xfrm>
            <a:off x="1398600" y="816120"/>
            <a:ext cx="30956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968560" y="-42840"/>
            <a:ext cx="5492880" cy="1255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37920" y="1852200"/>
            <a:ext cx="788652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солнцем просыпаюсь,  Я приходу утра рад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-быстро собираюсь  Я в любимый детский сад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Директор\Desktop\Конкурс по конструировании\ФОТО\SDC16466.JPG"/>
          <p:cNvPicPr/>
          <p:nvPr/>
        </p:nvPicPr>
        <p:blipFill>
          <a:blip r:embed="rId2"/>
          <a:stretch/>
        </p:blipFill>
        <p:spPr>
          <a:xfrm>
            <a:off x="4821120" y="2192400"/>
            <a:ext cx="3909960" cy="2932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Директор\Desktop\Конкурс по конструировании\ФОТО\SDC16497.JPG"/>
          <p:cNvPicPr/>
          <p:nvPr/>
        </p:nvPicPr>
        <p:blipFill>
          <a:blip r:embed="rId3"/>
          <a:stretch/>
        </p:blipFill>
        <p:spPr>
          <a:xfrm>
            <a:off x="573120" y="2170080"/>
            <a:ext cx="3965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2908440" y="-115920"/>
            <a:ext cx="5649840" cy="109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хорошо, что есть театр! Он был и будет с нами веч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готовый утверждать Все, что на свете человеч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се прекрасно – жесты, маски, Костюмы, музыка, иг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оживают наши сказки И сними светлый мир доб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Директор\Desktop\Конкурс по конструировании\ФОТО\SDC16483.JPG"/>
          <p:cNvPicPr/>
          <p:nvPr/>
        </p:nvPicPr>
        <p:blipFill>
          <a:blip r:embed="rId2"/>
          <a:stretch/>
        </p:blipFill>
        <p:spPr>
          <a:xfrm>
            <a:off x="4946760" y="2136600"/>
            <a:ext cx="3701880" cy="277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Директор\Desktop\Конкурс по конструировании\ФОТО\SDC16480.JPG"/>
          <p:cNvPicPr/>
          <p:nvPr/>
        </p:nvPicPr>
        <p:blipFill>
          <a:blip r:embed="rId3"/>
          <a:stretch/>
        </p:blipFill>
        <p:spPr>
          <a:xfrm>
            <a:off x="682560" y="2136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2571840" y="-324000"/>
            <a:ext cx="5986440" cy="159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61680" y="1858680"/>
            <a:ext cx="788652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 ребятам очень нужен! Мы со спортом крепко дружи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 - помощник, спорт - здоровье, Спорт - игра, физкульт-ура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Директор\Desktop\Конкурс по конструировании\ФОТО\SDC16495.JPG"/>
          <p:cNvPicPr/>
          <p:nvPr/>
        </p:nvPicPr>
        <p:blipFill>
          <a:blip r:embed="rId2"/>
          <a:stretch/>
        </p:blipFill>
        <p:spPr>
          <a:xfrm>
            <a:off x="4773600" y="1697040"/>
            <a:ext cx="3995640" cy="299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Директор\Desktop\Конкурс по конструировании\ФОТО\SDC16503.JPG"/>
          <p:cNvPicPr/>
          <p:nvPr/>
        </p:nvPicPr>
        <p:blipFill>
          <a:blip r:embed="rId3"/>
          <a:stretch/>
        </p:blipFill>
        <p:spPr>
          <a:xfrm>
            <a:off x="385920" y="1697040"/>
            <a:ext cx="39988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2090880" y="-158760"/>
            <a:ext cx="655956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06320" y="179028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строить посёлок красивый, Создать творение в глуш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ть необходимо знаний силу И творческий порыв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Директор\Desktop\Конкурс по конструировании\ФОТО\SDC16491.JPG"/>
          <p:cNvPicPr/>
          <p:nvPr/>
        </p:nvPicPr>
        <p:blipFill>
          <a:blip r:embed="rId2"/>
          <a:stretch/>
        </p:blipFill>
        <p:spPr>
          <a:xfrm>
            <a:off x="1873080" y="1035000"/>
            <a:ext cx="3202200" cy="240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Директор\Desktop\Конкурс по конструировании\ФОТО\SDC16483.JPG"/>
          <p:cNvPicPr/>
          <p:nvPr/>
        </p:nvPicPr>
        <p:blipFill>
          <a:blip r:embed="rId3"/>
          <a:stretch/>
        </p:blipFill>
        <p:spPr>
          <a:xfrm>
            <a:off x="1827360" y="3554280"/>
            <a:ext cx="3260520" cy="244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Директор\Desktop\Конкурс по конструировании\ФОТО\SDC16472.JPG"/>
          <p:cNvPicPr/>
          <p:nvPr/>
        </p:nvPicPr>
        <p:blipFill>
          <a:blip r:embed="rId4"/>
          <a:stretch/>
        </p:blipFill>
        <p:spPr>
          <a:xfrm>
            <a:off x="5311800" y="990720"/>
            <a:ext cx="3227400" cy="242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Директор\Desktop\Конкурс по конструировании\ФОТО\SDC16492.JPG"/>
          <p:cNvPicPr/>
          <p:nvPr/>
        </p:nvPicPr>
        <p:blipFill>
          <a:blip r:embed="rId5"/>
          <a:stretch/>
        </p:blipFill>
        <p:spPr>
          <a:xfrm>
            <a:off x="5343480" y="3514680"/>
            <a:ext cx="3227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Admin</cp:lastModifiedBy>
  <dcterms:modified xsi:type="dcterms:W3CDTF">2016-08-17T18:17:55Z</dcterms:modified>
  <cp:revision>26</cp:revision>
  <dc:subject/>
  <dc:title>Название презентации</dc:title>
</cp:coreProperties>
</file>