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6C5-6482-497A-98C7-BAB44EC7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A23-F371-46BC-A3D0-71039857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D69-64BC-4A54-8640-EFD7D71E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6C7-9137-4373-8802-0034B798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89D4-B54B-4FB5-B2EE-E5C07C93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D4B0-E989-410E-8C47-63CC7D89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DFC4-8810-44B6-A004-ED9B3CC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AACC-9AFC-4468-888B-099B3763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A712-405D-4D16-A30C-58984063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8178-0581-4CD1-B94F-82C064F2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8935-D722-45F0-AF80-594179D0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DA0-DA1E-48E5-A5B0-8464D2E3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46A5-8D6F-43DB-AA97-AFC4AD72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332B-EAE1-42CB-8BD2-5B4F07F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AD4D-0730-4A2A-B928-91BDFABF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14BB-A386-45BE-B4B9-19B037FD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6780-540D-4A3D-AEE1-BC656F8F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3BE-A8C0-48A5-9D3C-BCAA4912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CBE-43D1-4606-9D3C-65EB02D7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637-6A82-4E18-B851-04496D7F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5BA-2A9C-467B-AF9F-C269E1E8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166-17FD-4AAE-B7AC-6F7139DE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6C5-30FC-416C-803B-5F9AE88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26C-95B7-42A4-9779-5794ABA8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2D9A-C347-43B1-AF02-8EB5D17F44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3654-E953-44DF-AC91-E51E56A0B9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4444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Муниципальное автономное дошкольное образовательное учреждение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детский сад №1 «Алёнушка» Томской области города Асино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Сибирски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кед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0920" y="4647960"/>
            <a:ext cx="5264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спитатель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Лахан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ветлана Владими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69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едровые орехи содержат большое количество витаминов, и в первую очередь витамина Е (токоферола, что в переводе с греческого означает "несущий потомство")- Недаром в годы обильных урожаев кедровых орехов значительно возрастает плодовитость соболя и белки. , Есть в орехах и витамин А, комплекс витаминов группы В, витамин D, необходимые для человеческого организма микроэлементы: марганец, кобальт, цинк, медь. Есть данные, что орехи помогают при повышенном артериальном давлении и атеросклерозе. Даже скорлупа орехов и та употребляется в народной медиц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37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Известны и целебные свойства кедровой хвои, богатой аскорбиновой кислотой - витамином С, калием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микроэлементами. 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Из нее делают витаминную муку и каротиновую пасту, используемые в животноводстве.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Из коры кедра получают стойкий коричневый краситель, извлекают дубильные вещества, делают теплоизоляционные плиты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981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Большую ценность представляет смола кедра - живица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 ней содержится около 30% скипидара, который применяется как дезинфицирующее средство и как сырье для производства камфоры. Жители Сибири и Урала издавна использовали живицу для лечения гнойных ран, фурункулов, порезов, ожогов. Сейчас установлено, что кедровая живица действительно обладает бактерицидными свойствами. Во время Великой Отечественной войны она успешно применялась в военных госпиталях для лечения раненых: тампоны, пропитанные кедровым терпентином, полученным из живицы, предохраняли раны от заражения, останавливали гангренозный процес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ревесина сосны сибирской — прямослойная, легкая, прочная, удобная в обработке, не поддающаяся гниению, — употребляется в производстве карандашей, чертежных досок, музыкальных инстр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Первыми о высоких резонансных качествах древесины кедра проведали немцы. Германские торговые фирмы, закупавшие в России кедровое масло, вдруг потребовали экспортировать его в таре из древесины кедра, причем толщину тарных досок увеличить почти вдвое. Впоследствии выяснилось, что когда ящики с маслом поступали в Германию, их очень осторожно разбивали и кедровые доски отправляли на фабрики музыкальных инструментов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248520" y="5257800"/>
            <a:ext cx="188568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71800" y="54291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00600" y="3173400"/>
            <a:ext cx="4343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188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Подчеркивая важное значение этого растения, сибиряки говаривали: «Тайга кедром жива». Они верили, что если ребенку каждый день давать горсть кедровых орехов, то он вырастет добрым молодцем, никакая хворь его не одолеет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00600" y="3581280"/>
            <a:ext cx="304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гадай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му немало сотен лет.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 тулуп зеленый он одет.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Хотя в глухой тайге растет,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му всегда большой почет.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едь и для взрослых, для ребят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н очень шишками богат.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 в шишках, что ни говори,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решки вкусные внутр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057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1219320"/>
            <a:ext cx="7543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«Благородное, чистое дерево», — говорили о кедре наши предки. 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Согласно эвенкийским преданиям, кедр помогает жить честно и бескорыстно, является источником силы, красоты и благородства. При рождении сына эвенки сажали у своих жилищ кедровую сосну, а при появлении на свет дочери — березку. В легендах и сказках нанайцев Приамурья говорится о том, что в кедровой сосне поселяются только добрые духи, потому что она — самое щедрое дере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ак чем же щедр кедр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едровые насаждения оздоравливают воздух, делают его целебным. Содержащиеся в кедровой хвое эфирные масла, которые придают ей изысканный аромат, обладают бактерицидным действием - воздух в кедровых лесах практически стерилен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Но все же главное достоинство сибирского кедра - это его орехи. 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России еще во времена Ивана Грозного кедровые орехи были предметом экспорт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С давних пор в Сибири и на Урале из ядер кедровых орехов извлекали масло, которое обладает высокими вкусовыми и питательными свойствами, легко усваивается организмом, богато витаминами и минеральными элементами. Оно часто превосходит лучшие сорта прованского масла. Готовят сибиряки из кедровых орехов и "растительные сливки" - по жирности они вдвое превосходят коровьи. Хорошо знают цену кедровому маслу не только кулинары, но и художники: ведь на нем разводили свои краски многие знаменитые масте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8-01-26T03:50:3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